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4A1D-7F70-4C61-A33E-EA8382A860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4AB-ED44-4E14-862C-546523867C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EC8-F15F-44E8-8750-1019572DC0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1E8-DCDD-4B7D-A98E-DB8C36B483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C60B-D972-4BDB-AD50-0A3A0D7301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9B6A-E2D6-4DCA-9961-DDA9EA2C8D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1542-A29D-4EAB-8758-36989EF8ED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2FF4-B57A-4367-B816-4293979AA3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792-3283-481E-87A7-A0C0FEB003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03C-A5FB-454D-BD3D-FCC90CB7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1B7-AB8C-4017-AB85-282EDE8D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D43-002C-4071-99B9-89D519FE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C47-D65F-464D-AC50-D053AD0F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819-FA6F-4390-8EBB-B24CE0B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DBB-5B1F-4B62-93DA-DC73368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6CF-2D73-444C-92C1-D3A13D7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68A-A408-47FA-94F3-41FA3BB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4CD-5836-4B7E-8816-6D8AB52A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099-E771-4AB5-951A-85139A6B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8D7-2270-4779-83E7-6F7F541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BC9-36E6-406B-B695-058AE1E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F6F5-E167-4819-A925-0F6DA0728C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708280"/>
            <a:ext cx="70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Belen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056360" cy="57672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52" name=""/>
          <p:cNvSpPr/>
          <p:nvPr/>
        </p:nvSpPr>
        <p:spPr>
          <a:xfrm flipV="1">
            <a:off x="468360" y="3789000"/>
            <a:ext cx="3598920" cy="1584360"/>
          </a:xfrm>
          <a:prstGeom prst="line">
            <a:avLst/>
          </a:prstGeom>
          <a:ln w="7632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04000" cy="55468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14760" cy="33908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132000" y="2349360"/>
            <a:ext cx="5715000" cy="428652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715000" cy="42670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564000" y="2708280"/>
            <a:ext cx="5219640" cy="39146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752720" cy="5256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35280" y="2708280"/>
            <a:ext cx="5194440" cy="38955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Navidad 2008-1. Belén de Carlos Mª Gallardo de los Ríos (Peñarroya-Pueblonuevo, Córdoba)"/>
          <p:cNvPicPr/>
          <p:nvPr/>
        </p:nvPicPr>
        <p:blipFill>
          <a:blip r:embed="rId2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09-11-30T14:30:57Z</dcterms:modified>
  <cp:revision>69</cp:revision>
  <dc:subject/>
  <dc:title>TITLE</dc:title>
</cp:coreProperties>
</file>