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614-29C3-41F5-8A8D-4A47A7E85D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BC8E-0705-4712-A6D1-11D87BD4C0A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D257-3712-42F2-9CD7-3DBC594853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B0D-1599-4D39-92A8-3046DC2297D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2D0-C456-4953-9685-952D018240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F36-17A1-499B-A791-66D63609A4A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FBC1-1B64-4752-8FDC-84DB9B0995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28C0-28BA-4372-B3F8-88A5B97E99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o the tune of woodpige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C47-1EAC-45BF-8874-82A2F88E963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A6C-EB5A-4C45-A204-D194FA5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5CD-FCD6-4041-AE6F-155E510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4F7-648F-4501-AC82-D819A427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3AF-0701-45B2-A3AD-135B67D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CF2-8DA1-4209-920B-525E607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529-75E1-43C3-ACAA-CD4F2726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B6C-D054-4C9A-8CAD-88AA3D4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D16-664F-4DE3-8546-0BF61A3A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6EB-1A0E-4F3E-879F-39D312C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579-5EF3-4670-8858-5686404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D44-D76D-4A91-93A7-8F0ED34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F34-09DD-4250-AFF4-DEBF34E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FAE0-807A-47D8-8DBA-072BC608FD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708280"/>
            <a:ext cx="70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7"/>
                </a:solidFill>
                <a:latin typeface="Comic Sans MS"/>
              </a:rPr>
              <a:t>Belen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056360" cy="57672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sp>
        <p:nvSpPr>
          <p:cNvPr id="52" name=""/>
          <p:cNvSpPr/>
          <p:nvPr/>
        </p:nvSpPr>
        <p:spPr>
          <a:xfrm flipV="1">
            <a:off x="468360" y="3789000"/>
            <a:ext cx="3598920" cy="1584360"/>
          </a:xfrm>
          <a:prstGeom prst="line">
            <a:avLst/>
          </a:prstGeom>
          <a:ln w="76320">
            <a:solidFill>
              <a:srgbClr val="ffff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04000" cy="55468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14760" cy="33908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132000" y="2349360"/>
            <a:ext cx="5715000" cy="428652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715000" cy="42670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564000" y="2708280"/>
            <a:ext cx="5219640" cy="391464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752720" cy="52563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35280" y="2708280"/>
            <a:ext cx="5194440" cy="389556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Navidad 2008-1. Belén de Carlos Mª Gallardo de los Ríos (Peñarroya-Pueblonuevo, Córdoba)"/>
          <p:cNvPicPr/>
          <p:nvPr/>
        </p:nvPicPr>
        <p:blipFill>
          <a:blip r:embed="rId2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09-11-30T14:30:57Z</dcterms:modified>
  <cp:revision>69</cp:revision>
  <dc:subject/>
  <dc:title>TITLE</dc:title>
</cp:coreProperties>
</file>