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487D-6CE7-4779-A987-D4B72ED3AA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90C0-B482-4285-B017-A6D431A503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, negra y ver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C07F-0FD8-404E-8F92-72C6CFBEE7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, negra, verde, azul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8DF5-8CAB-4E8B-8C36-73DB18D9CA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escu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8F05-3BBD-4B7C-906F-4F26CEB444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estr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FA6A-1CE5-4EC3-B780-E562BA4297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cuatro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FAB9-5CE0-4469-9643-0275DC2DA8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cinco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2479-7A77-464C-8081-5AC705B11E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seis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E67C-4322-4BF3-91BF-C367E76433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cru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CE0C-5531-4D1E-892B-8E2CDDFD4D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F869-DADF-48E0-BA2F-52502B1D16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tres franj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DE08-F1CE-46C2-A270-884674A039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3F77-D443-40AE-90E6-323A5B8C69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98C9-6C8A-4821-B6E3-2EFB3872F3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058E-60FF-433A-A123-904D35ABE0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84BA-E084-4856-BFBE-88F8428857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38A7-BDAB-4140-9263-CCD7BF0D3E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D4CD-2425-4C64-956D-DED0EE0F40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FBFB-E78F-413E-8822-6C3DB3202C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7226-78A3-4596-A92E-153DF437AF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2E90-20C7-4BAB-ABDE-7FDE7B9961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1D07-E59F-4824-9134-4EB0D78E1E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F2B4-C1F4-49E8-B8AF-4A0D6A3E48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blanc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E9DD-9E45-4EC8-92DA-A66F3FB536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azul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7512-AC98-4994-B644-150D091681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ver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7ECC-F2C8-4BA5-9931-8534C56785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verde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3B8C-6C59-452F-A884-8117A100F6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0AC2-011C-4693-9508-FDCF41B040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neg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E3C0-F3D4-4F10-9948-7F9DB3202DD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79C-6995-41CD-8DAF-64A0ED02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F19-84AA-4DDC-9EE3-B335E3DF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CCF-E2E9-4422-8B4D-399ED37D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605-2925-43CD-9510-45C1CC36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E26-85AD-4526-91C4-5AD528D1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235-6689-4F06-86E5-4C0E9BAA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26C-31ED-4B92-B6FB-3D96E8A5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B5C-3E85-4A4C-B86F-793EF33C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199-0770-4666-8268-70CD6065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1C4D-1299-4A82-8658-57AC5F46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6BB-F815-4201-9104-A5B5C64C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9EF-2D15-4D0D-A4EA-319AA79B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5B6B-6B37-4510-A309-60B893C8899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28.png"/><Relationship Id="rId5" Type="http://schemas.openxmlformats.org/officeDocument/2006/relationships/image" Target="../media/image2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9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image" Target="../media/image13.png"/><Relationship Id="rId5" Type="http://schemas.openxmlformats.org/officeDocument/2006/relationships/image" Target="../media/image31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image" Target="../media/image28.png"/><Relationship Id="rId13" Type="http://schemas.openxmlformats.org/officeDocument/2006/relationships/image" Target="../media/image33.png"/><Relationship Id="rId14" Type="http://schemas.openxmlformats.org/officeDocument/2006/relationships/image" Target="../media/image15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18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2.xml"/><Relationship Id="rId2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76280"/>
            <a:ext cx="2303280" cy="6532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mar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lan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476280"/>
            <a:ext cx="612144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mar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blan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g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61214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258920" y="1557360"/>
            <a:ext cx="7056360" cy="4246560"/>
          </a:xfrm>
          <a:prstGeom prst="rect">
            <a:avLst/>
          </a:prstGeom>
          <a:ln w="6480">
            <a:solidFill>
              <a:srgbClr val="ffff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340000" y="333360"/>
            <a:ext cx="3240000" cy="2143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11280" y="2852640"/>
            <a:ext cx="3816360" cy="19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867280" y="1700280"/>
            <a:ext cx="2880000" cy="192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788000" y="4221000"/>
            <a:ext cx="3313080" cy="22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780000" y="333360"/>
            <a:ext cx="3816360" cy="191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68360" y="2349360"/>
            <a:ext cx="2951280" cy="1973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724360" y="2708280"/>
            <a:ext cx="3024360" cy="2019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195640" y="4724280"/>
            <a:ext cx="28080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547640" y="1773360"/>
            <a:ext cx="6048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332000" y="1628640"/>
            <a:ext cx="65530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32000" y="1773360"/>
            <a:ext cx="655308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508720" y="3789360"/>
            <a:ext cx="3349440" cy="2536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826920" y="2924280"/>
            <a:ext cx="3384720" cy="2030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292720" y="1413000"/>
            <a:ext cx="2903400" cy="1928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2340000" y="549360"/>
            <a:ext cx="19447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9640" y="4668840"/>
            <a:ext cx="3672000" cy="1843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763640" y="1919160"/>
            <a:ext cx="3024360" cy="2021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508720" y="549360"/>
            <a:ext cx="3311280" cy="233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5219640" y="3645000"/>
            <a:ext cx="306720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340760" y="5589720"/>
            <a:ext cx="1803240" cy="109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236000" y="333360"/>
            <a:ext cx="1670040" cy="1112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948360" y="1773360"/>
            <a:ext cx="2016360" cy="100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4643280" y="5788080"/>
            <a:ext cx="2159280" cy="1069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826920" y="5738760"/>
            <a:ext cx="1678320" cy="11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5364000" y="4365720"/>
            <a:ext cx="1727280" cy="11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6300720" y="3068640"/>
            <a:ext cx="2114640" cy="105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3203640" y="3213000"/>
            <a:ext cx="1763640" cy="116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5076720" y="170028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2771640" y="4724280"/>
            <a:ext cx="1729080" cy="1155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179280" y="4437000"/>
            <a:ext cx="1657440" cy="1098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>
            <a:off x="2700360" y="1773360"/>
            <a:ext cx="1800360" cy="1201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5"/>
          <a:stretch/>
        </p:blipFill>
        <p:spPr>
          <a:xfrm>
            <a:off x="468360" y="3068640"/>
            <a:ext cx="1871640" cy="11556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16"/>
          <a:stretch/>
        </p:blipFill>
        <p:spPr>
          <a:xfrm>
            <a:off x="250920" y="155736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7"/>
          <a:stretch/>
        </p:blipFill>
        <p:spPr>
          <a:xfrm>
            <a:off x="4788000" y="260280"/>
            <a:ext cx="2160360" cy="1079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8"/>
          <a:stretch/>
        </p:blipFill>
        <p:spPr>
          <a:xfrm>
            <a:off x="2484360" y="189000"/>
            <a:ext cx="172728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95640" y="1916280"/>
            <a:ext cx="5616360" cy="3311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1484280"/>
            <a:ext cx="865440" cy="35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1773360"/>
            <a:ext cx="288720" cy="49687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el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Belize Flag – Flag of Belize"/>
          <p:cNvPicPr/>
          <p:nvPr/>
        </p:nvPicPr>
        <p:blipFill>
          <a:blip r:embed="rId3"/>
          <a:stretch/>
        </p:blipFill>
        <p:spPr>
          <a:xfrm>
            <a:off x="1476360" y="1484280"/>
            <a:ext cx="62658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ol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547640" y="1484280"/>
            <a:ext cx="61930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osta 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Flag of Costa Rica"/>
          <p:cNvPicPr/>
          <p:nvPr/>
        </p:nvPicPr>
        <p:blipFill>
          <a:blip r:embed="rId3"/>
          <a:stretch/>
        </p:blipFill>
        <p:spPr>
          <a:xfrm>
            <a:off x="1403280" y="1484280"/>
            <a:ext cx="64087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573408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Dominic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Dominican Republic Flag"/>
          <p:cNvPicPr/>
          <p:nvPr/>
        </p:nvPicPr>
        <p:blipFill>
          <a:blip r:embed="rId3"/>
          <a:stretch/>
        </p:blipFill>
        <p:spPr>
          <a:xfrm>
            <a:off x="1476360" y="1413000"/>
            <a:ext cx="61927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cu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Flag of Ecuador, Ecuadorian Flag"/>
          <p:cNvPicPr/>
          <p:nvPr/>
        </p:nvPicPr>
        <p:blipFill>
          <a:blip r:embed="rId3"/>
          <a:stretch/>
        </p:blipFill>
        <p:spPr>
          <a:xfrm>
            <a:off x="971640" y="1557360"/>
            <a:ext cx="727236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anam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Flag of Panama"/>
          <p:cNvPicPr/>
          <p:nvPr/>
        </p:nvPicPr>
        <p:blipFill>
          <a:blip r:embed="rId3"/>
          <a:stretch/>
        </p:blipFill>
        <p:spPr>
          <a:xfrm>
            <a:off x="1547640" y="1557360"/>
            <a:ext cx="6048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uerto 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Puerto Rican Flag, Flag of Puerto Rico"/>
          <p:cNvPicPr/>
          <p:nvPr/>
        </p:nvPicPr>
        <p:blipFill>
          <a:blip r:embed="rId3"/>
          <a:stretch/>
        </p:blipFill>
        <p:spPr>
          <a:xfrm>
            <a:off x="826920" y="1557360"/>
            <a:ext cx="77058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Venezu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Flag of Venezuela, Venezuelan Flag"/>
          <p:cNvPicPr/>
          <p:nvPr/>
        </p:nvPicPr>
        <p:blipFill>
          <a:blip r:embed="rId3"/>
          <a:stretch/>
        </p:blipFill>
        <p:spPr>
          <a:xfrm>
            <a:off x="1619280" y="1557360"/>
            <a:ext cx="61196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162864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¿ Y </a:t>
            </a:r>
            <a:r>
              <a:rPr b="1" lang="en-GB" sz="7200" spc="-1" strike="noStrike">
                <a:solidFill>
                  <a:srgbClr val="66ffff"/>
                </a:solidFill>
                <a:latin typeface="Arial Black"/>
              </a:rPr>
              <a:t>tu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bandera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42920" y="1557360"/>
            <a:ext cx="3095640" cy="2343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788000" y="692280"/>
            <a:ext cx="3671640" cy="220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16360" y="3789360"/>
            <a:ext cx="3743280" cy="2502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835280" y="4437000"/>
            <a:ext cx="2232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348000" y="836640"/>
            <a:ext cx="225576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372360" y="2131920"/>
            <a:ext cx="2401920" cy="120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826920" y="1989000"/>
            <a:ext cx="2016360" cy="134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924360" y="2421000"/>
            <a:ext cx="1727280" cy="11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3708360" y="4005360"/>
            <a:ext cx="2158920" cy="1069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900000" y="3716280"/>
            <a:ext cx="2125800" cy="1066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7020000" y="3789360"/>
            <a:ext cx="1670040" cy="1112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3203640" y="5589720"/>
            <a:ext cx="212544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6372360" y="62064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611280" y="5300640"/>
            <a:ext cx="1800000" cy="1190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6156360" y="5372280"/>
            <a:ext cx="2232000" cy="11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76360" y="1484280"/>
            <a:ext cx="4248000" cy="2122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780000" y="4076640"/>
            <a:ext cx="34560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411280" y="1989000"/>
            <a:ext cx="44658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71640" y="1628640"/>
            <a:ext cx="3097080" cy="2060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219640" y="765000"/>
            <a:ext cx="3097440" cy="2054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492360" y="4149720"/>
            <a:ext cx="37436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124000" y="1844640"/>
            <a:ext cx="48243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835280" y="1773360"/>
            <a:ext cx="5616360" cy="34686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0-09-06T14:20:41Z</dcterms:modified>
  <cp:revision>217</cp:revision>
  <dc:subject/>
  <dc:title>TITLE</dc:title>
</cp:coreProperties>
</file>