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ED53-D061-42AD-8FA9-A3F8132D89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0EB9-4540-4781-8017-029C746B00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7464-4A13-40D3-B6C7-C10EE60C1F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, verde, azul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A71B-A156-46A4-A11F-51DAD8BAA8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5C7C-FB3F-4438-A509-63673E8CC2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4D6-2656-481F-A863-FA6CE2236E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C63E-BF5F-47A1-A0B1-519B0B5E17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inc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94CD-A76E-4BA7-B8CC-74BCED7E4F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8FA1-627D-48AC-BC31-77134EEDA3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322E-5039-48CB-A4F1-4F7F4600C3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7010-4B02-4CAB-8F8F-5C946D864D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036A-5B54-40CA-AAB5-4773B44124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07F7-CB69-4C8E-AE4E-8F6464967B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2895-8EF4-4E98-837C-E5FE20C994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FAB4-FCC2-46EF-B043-2541B1C54F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8A61-C39E-4108-8632-659994343C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4CB5-279D-4A4E-8737-5924699C56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7CCC-78D5-425C-8329-A9CEF3D690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A791-7E96-49BE-978C-02ABCF396E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E33D-E003-49BA-B7A3-83EECA9813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4BF5-AAA5-410E-879F-DF2E32E1ED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8988-435A-4260-B9B4-41300C1DFF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05E-BEB3-439B-9F94-2FDAA1BC1F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2D45-3942-4DAC-BC5F-6789C24885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azul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92A0-8C90-4126-ADCD-8287910576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DAD1-F026-4B6B-A765-F013A8F37E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verde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7A73-231D-4957-91DE-CF0E758B0D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A08C-3857-4948-A08F-88E4C99EA9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4CE2-D11C-4EE2-A99A-60BC53CA1E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06D-4EB9-4A68-8487-489F7B0C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89D-C02A-4FD2-9A6B-5AFEBC9B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E2D-DD3D-45C0-BB6E-2CA1603E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2A8-F42A-485C-AA76-515F1BF9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28C-52F2-4F41-A4CE-FF963AAF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4CD-7426-46A3-824F-FFC64428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4A0-1315-4A0D-8B1C-453A4D7F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DD5-41EC-4FCD-881D-E75ADC38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523-E195-4DBE-973F-82179C51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302-048E-4B0B-A553-4FB3A865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DE0-770F-4CD1-A297-3C81CE5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7F3-202E-4AD3-80FF-86715FCB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889A-0C0C-4967-AFDF-C104B08E45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image" Target="../media/image31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image" Target="../media/image28.png"/><Relationship Id="rId13" Type="http://schemas.openxmlformats.org/officeDocument/2006/relationships/image" Target="../media/image33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8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2.xml"/><Relationship Id="rId2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76280"/>
            <a:ext cx="2303280" cy="6532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l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476280"/>
            <a:ext cx="6121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bla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1214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258920" y="1557360"/>
            <a:ext cx="7056360" cy="4246560"/>
          </a:xfrm>
          <a:prstGeom prst="rect">
            <a:avLst/>
          </a:prstGeom>
          <a:ln w="648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340000" y="333360"/>
            <a:ext cx="3240000" cy="2143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11280" y="2852640"/>
            <a:ext cx="3816360" cy="19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7280" y="1700280"/>
            <a:ext cx="2880000" cy="19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788000" y="4221000"/>
            <a:ext cx="33130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381636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68360" y="2349360"/>
            <a:ext cx="2951280" cy="1973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724360" y="2708280"/>
            <a:ext cx="3024360" cy="2019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195640" y="4724280"/>
            <a:ext cx="2808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048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32000" y="1628640"/>
            <a:ext cx="6553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508720" y="3789360"/>
            <a:ext cx="3349440" cy="2536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26920" y="2924280"/>
            <a:ext cx="3384720" cy="2030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292720" y="1413000"/>
            <a:ext cx="2903400" cy="1928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2340000" y="549360"/>
            <a:ext cx="194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9640" y="4668840"/>
            <a:ext cx="3672000" cy="184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63640" y="1919160"/>
            <a:ext cx="3024360" cy="202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34076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236000" y="333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948360" y="1773360"/>
            <a:ext cx="201636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643280" y="5788080"/>
            <a:ext cx="2159280" cy="1069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826920" y="5738760"/>
            <a:ext cx="1678320" cy="11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5364000" y="4365720"/>
            <a:ext cx="172728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6300720" y="3068640"/>
            <a:ext cx="2114640" cy="105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3203640" y="321300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5076720" y="1700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2771640" y="4724280"/>
            <a:ext cx="1729080" cy="1155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179280" y="4437000"/>
            <a:ext cx="1657440" cy="1098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2700360" y="1773360"/>
            <a:ext cx="1800360" cy="1201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>
            <a:off x="468360" y="3068640"/>
            <a:ext cx="1871640" cy="1155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16"/>
          <a:stretch/>
        </p:blipFill>
        <p:spPr>
          <a:xfrm>
            <a:off x="250920" y="155736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7"/>
          <a:stretch/>
        </p:blipFill>
        <p:spPr>
          <a:xfrm>
            <a:off x="4788000" y="260280"/>
            <a:ext cx="2160360" cy="107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8"/>
          <a:stretch/>
        </p:blipFill>
        <p:spPr>
          <a:xfrm>
            <a:off x="2484360" y="189000"/>
            <a:ext cx="17272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el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Belize Flag – Flag of Belize"/>
          <p:cNvPicPr/>
          <p:nvPr/>
        </p:nvPicPr>
        <p:blipFill>
          <a:blip r:embed="rId3"/>
          <a:stretch/>
        </p:blipFill>
        <p:spPr>
          <a:xfrm>
            <a:off x="1476360" y="1484280"/>
            <a:ext cx="6265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547640" y="1484280"/>
            <a:ext cx="6193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osta 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Flag of Costa Rica"/>
          <p:cNvPicPr/>
          <p:nvPr/>
        </p:nvPicPr>
        <p:blipFill>
          <a:blip r:embed="rId3"/>
          <a:stretch/>
        </p:blipFill>
        <p:spPr>
          <a:xfrm>
            <a:off x="1403280" y="1484280"/>
            <a:ext cx="64087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57340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Dominic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Dominican Republic Flag"/>
          <p:cNvPicPr/>
          <p:nvPr/>
        </p:nvPicPr>
        <p:blipFill>
          <a:blip r:embed="rId3"/>
          <a:stretch/>
        </p:blipFill>
        <p:spPr>
          <a:xfrm>
            <a:off x="1476360" y="1413000"/>
            <a:ext cx="619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cu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Flag of Ecuador, Ecuadorian Flag"/>
          <p:cNvPicPr/>
          <p:nvPr/>
        </p:nvPicPr>
        <p:blipFill>
          <a:blip r:embed="rId3"/>
          <a:stretch/>
        </p:blipFill>
        <p:spPr>
          <a:xfrm>
            <a:off x="971640" y="1557360"/>
            <a:ext cx="72723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nam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Flag of Panama"/>
          <p:cNvPicPr/>
          <p:nvPr/>
        </p:nvPicPr>
        <p:blipFill>
          <a:blip r:embed="rId3"/>
          <a:stretch/>
        </p:blipFill>
        <p:spPr>
          <a:xfrm>
            <a:off x="1547640" y="1557360"/>
            <a:ext cx="6048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uerto 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Puerto Rican Flag, Flag of Puerto Rico"/>
          <p:cNvPicPr/>
          <p:nvPr/>
        </p:nvPicPr>
        <p:blipFill>
          <a:blip r:embed="rId3"/>
          <a:stretch/>
        </p:blipFill>
        <p:spPr>
          <a:xfrm>
            <a:off x="826920" y="1557360"/>
            <a:ext cx="7705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Venezu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Flag of Venezuela, Venezuelan Flag"/>
          <p:cNvPicPr/>
          <p:nvPr/>
        </p:nvPicPr>
        <p:blipFill>
          <a:blip r:embed="rId3"/>
          <a:stretch/>
        </p:blipFill>
        <p:spPr>
          <a:xfrm>
            <a:off x="1619280" y="1557360"/>
            <a:ext cx="61196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¿ Y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u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bandera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42920" y="1557360"/>
            <a:ext cx="3095640" cy="234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88000" y="692280"/>
            <a:ext cx="3671640" cy="22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16360" y="3789360"/>
            <a:ext cx="3743280" cy="250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835280" y="4437000"/>
            <a:ext cx="2232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348000" y="836640"/>
            <a:ext cx="22557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372360" y="2131920"/>
            <a:ext cx="2401920" cy="12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2016360" cy="134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924360" y="2421000"/>
            <a:ext cx="172728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708360" y="4005360"/>
            <a:ext cx="2158920" cy="106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900000" y="3716280"/>
            <a:ext cx="212580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7020000" y="3789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3203640" y="5589720"/>
            <a:ext cx="212544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6372360" y="62064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611280" y="5300640"/>
            <a:ext cx="1800000" cy="1190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6156360" y="5372280"/>
            <a:ext cx="2232000" cy="11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76360" y="1484280"/>
            <a:ext cx="4248000" cy="212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780000" y="4076640"/>
            <a:ext cx="3456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4465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3097080" cy="206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219640" y="765000"/>
            <a:ext cx="3097440" cy="2054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492360" y="4149720"/>
            <a:ext cx="37436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582" t="18017" r="2772" b="20788"/>
          <a:stretch/>
        </p:blipFill>
        <p:spPr>
          <a:xfrm>
            <a:off x="179280" y="189000"/>
            <a:ext cx="1513080" cy="98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835280" y="1773360"/>
            <a:ext cx="5616360" cy="3468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0-09-06T14:20:41Z</dcterms:modified>
  <cp:revision>217</cp:revision>
  <dc:subject/>
  <dc:title>TITLE</dc:title>
</cp:coreProperties>
</file>