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3FE-7126-4E90-979E-02D7D662A1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AA2C-4854-4430-9041-21AB325A32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, negra, verde, azul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1920-8FF0-424F-B98C-E5DB59CADE7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0CA9-D3E4-445E-8271-B7BA4DFB9B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estr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EAA9-D6F4-420D-B2DF-FCF19F58DE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cuatr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2F45-4B34-4300-AB71-9186DB20CC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cinc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7FD3-E18E-4B73-B5B1-94066B4875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sei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73A8-A96C-4E43-A15E-9854DEB99D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cru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19B5-D5F6-4C2D-A8BA-2ED5554D5E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036A-E616-4EAA-B559-5C24423EED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tres franj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12A1-DF63-4D52-AA56-281180CD12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928E-961E-4F2A-AD4E-1476058D5F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C4BF-F0A0-4368-9A25-6200399F96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D1D8-CD56-45B6-9181-F9A97C7BD3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1481-5339-42ED-BAD2-9978F7737FA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 y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4FCE-75DF-40C7-BB7E-60BC231514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, y tiene un escudo y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AFDF-9C1F-4357-8BDB-37DFA2DA84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, y tiene un escudo, un círculo y cuatr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F1E2-939A-44B9-871B-32D87E2B9E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5A11-284D-4E7B-83F7-FCD037FE13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blanc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757B-2AE6-4BC0-B75A-761C489E52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azul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B210-A45B-40F8-A457-73DD9A11D61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ver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FB73-2343-4F11-9736-AB6F88BD74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verde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9100-0F65-42D0-88A9-FF4781E7F0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7529-9859-406A-B8E3-7CA3030EFD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neg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8519-7EC8-41A3-BE67-A3D75165419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, negra y ver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0DA7-DA75-48A3-B2F9-551E318E33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2D4-A0DD-409F-8A63-B6032CB1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279-F37D-4252-BAEA-2C78D9DB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4E3-1888-4C53-8ACC-69ED2748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E51-5E7D-4063-9EBD-43972B82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803-55EF-426E-8B52-EA15B132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21F-ED07-4B45-BB28-8FEC64F2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5F5-8816-4E9A-B13E-3A7A052B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D3F-B2D2-4449-8084-582454E8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591-CADA-49A6-9DC9-43A7521D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C82-957A-4137-9C0D-BE2DD3CD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055-2A9E-4AA4-ADCD-AEA6B393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DD5-F234-4EE4-B896-69F412D9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10A4-FFF2-4CDC-88C3-08118EC510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28.png"/><Relationship Id="rId5" Type="http://schemas.openxmlformats.org/officeDocument/2006/relationships/image" Target="../media/image2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9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image" Target="../media/image13.png"/><Relationship Id="rId5" Type="http://schemas.openxmlformats.org/officeDocument/2006/relationships/image" Target="../media/image31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image" Target="../media/image28.png"/><Relationship Id="rId13" Type="http://schemas.openxmlformats.org/officeDocument/2006/relationships/image" Target="../media/image33.png"/><Relationship Id="rId14" Type="http://schemas.openxmlformats.org/officeDocument/2006/relationships/image" Target="../media/image15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18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2.xml"/><Relationship Id="rId2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95640" y="1916280"/>
            <a:ext cx="5616360" cy="33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148428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77336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58920" y="1557360"/>
            <a:ext cx="7056360" cy="4246560"/>
          </a:xfrm>
          <a:prstGeom prst="rect">
            <a:avLst/>
          </a:prstGeom>
          <a:ln w="6480">
            <a:solidFill>
              <a:srgbClr val="ffff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340000" y="333360"/>
            <a:ext cx="3240000" cy="2143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11280" y="2852640"/>
            <a:ext cx="3816360" cy="19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867280" y="1700280"/>
            <a:ext cx="2880000" cy="192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788000" y="4221000"/>
            <a:ext cx="331308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780000" y="333360"/>
            <a:ext cx="3816360" cy="1914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8360" y="2349360"/>
            <a:ext cx="2951280" cy="1973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724360" y="2708280"/>
            <a:ext cx="3024360" cy="2019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2195640" y="4724280"/>
            <a:ext cx="28080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6048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332000" y="1628640"/>
            <a:ext cx="6553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08720" y="3789360"/>
            <a:ext cx="3349440" cy="2536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26920" y="2924280"/>
            <a:ext cx="3384720" cy="2030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292720" y="1413000"/>
            <a:ext cx="2903400" cy="1928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340000" y="549360"/>
            <a:ext cx="19447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9640" y="4668840"/>
            <a:ext cx="3672000" cy="184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763640" y="1919160"/>
            <a:ext cx="3024360" cy="2021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508720" y="549360"/>
            <a:ext cx="3311280" cy="2330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5219640" y="3645000"/>
            <a:ext cx="306720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340760" y="5589720"/>
            <a:ext cx="1803240" cy="109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236000" y="333360"/>
            <a:ext cx="167004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6948360" y="1773360"/>
            <a:ext cx="2016360" cy="10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4643280" y="5788080"/>
            <a:ext cx="2159280" cy="1069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826920" y="5738760"/>
            <a:ext cx="1678320" cy="11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5364000" y="4365720"/>
            <a:ext cx="1727280" cy="11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6300720" y="3068640"/>
            <a:ext cx="2114640" cy="105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3203640" y="3213000"/>
            <a:ext cx="1763640" cy="1166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5076720" y="170028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2771640" y="4724280"/>
            <a:ext cx="1729080" cy="1155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>
            <a:off x="179280" y="4437000"/>
            <a:ext cx="1657440" cy="1098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>
            <a:off x="2700360" y="1773360"/>
            <a:ext cx="1800360" cy="1201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5"/>
          <a:stretch/>
        </p:blipFill>
        <p:spPr>
          <a:xfrm>
            <a:off x="468360" y="3068640"/>
            <a:ext cx="1871640" cy="11556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16"/>
          <a:stretch/>
        </p:blipFill>
        <p:spPr>
          <a:xfrm>
            <a:off x="250920" y="155736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7"/>
          <a:stretch/>
        </p:blipFill>
        <p:spPr>
          <a:xfrm>
            <a:off x="4788000" y="260280"/>
            <a:ext cx="2160360" cy="1079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8"/>
          <a:stretch/>
        </p:blipFill>
        <p:spPr>
          <a:xfrm>
            <a:off x="2484360" y="189000"/>
            <a:ext cx="172728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42920" y="1557360"/>
            <a:ext cx="3095640" cy="234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788000" y="692280"/>
            <a:ext cx="3671640" cy="2203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716360" y="3789360"/>
            <a:ext cx="3743280" cy="250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835280" y="4437000"/>
            <a:ext cx="2232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2421000"/>
            <a:ext cx="792000" cy="792000"/>
          </a:xfrm>
          <a:prstGeom prst="star5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08360" y="3500280"/>
            <a:ext cx="792360" cy="792360"/>
          </a:xfrm>
          <a:prstGeom prst="star5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88000" y="3500280"/>
            <a:ext cx="792360" cy="792360"/>
          </a:xfrm>
          <a:prstGeom prst="star5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96360" y="2421000"/>
            <a:ext cx="792000" cy="792000"/>
          </a:xfrm>
          <a:prstGeom prst="star5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62864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¿ Y </a:t>
            </a:r>
            <a:r>
              <a:rPr b="1" lang="en-GB" sz="7200" spc="-1" strike="noStrike">
                <a:solidFill>
                  <a:srgbClr val="66ffff"/>
                </a:solidFill>
                <a:latin typeface="Arial Black"/>
              </a:rPr>
              <a:t>tu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bandera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348000" y="836640"/>
            <a:ext cx="225576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372360" y="2131920"/>
            <a:ext cx="2401920" cy="120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826920" y="1989000"/>
            <a:ext cx="2016360" cy="134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924360" y="2421000"/>
            <a:ext cx="1727280" cy="11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708360" y="4005360"/>
            <a:ext cx="2158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900000" y="3716280"/>
            <a:ext cx="21258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7020000" y="3789360"/>
            <a:ext cx="1670040" cy="1112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3203640" y="5589720"/>
            <a:ext cx="212544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6372360" y="62064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>
            <a:off x="611280" y="5300640"/>
            <a:ext cx="1800000" cy="1190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6156360" y="5372280"/>
            <a:ext cx="2232000" cy="11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476360" y="1484280"/>
            <a:ext cx="4248000" cy="212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780000" y="4076640"/>
            <a:ext cx="34560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411280" y="1989000"/>
            <a:ext cx="4465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3097080" cy="2060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219640" y="765000"/>
            <a:ext cx="3097440" cy="2054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492360" y="4149720"/>
            <a:ext cx="37436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124000" y="1844640"/>
            <a:ext cx="48243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35280" y="1773360"/>
            <a:ext cx="5616360" cy="34686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61214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0-09-06T14:20:01Z</dcterms:modified>
  <cp:revision>212</cp:revision>
  <dc:subject/>
  <dc:title>TITLE</dc:title>
</cp:coreProperties>
</file>