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2DEC-626D-4778-B2DE-16850AC147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8B35-E461-4834-A248-99949125AC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, verde,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504-0DC4-4F56-9DB1-3722AA5232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857A-3EBA-4D3C-8619-E1F1719CAB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A590-8C2B-4B6E-8069-41449B2E9D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0FFD-5F3D-42CD-AF0F-3A406AFA03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inc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6641-1974-4E53-BED7-D63C4F2C59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DFC-CCFB-44DF-818D-867377ED03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E102-4697-4C3D-8903-4C83CC47AC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9FBE-E911-46C6-8431-291629A4DF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3F80-D7F1-48BD-A1DA-D2B7705050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2F63-7C0B-4790-B395-95F05BE3CC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B5C6-19D0-46C6-AE36-5CB6E2D903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C88-B3B6-45DD-BEC5-69C26B1811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E6BB-9FA0-4F90-9640-E00164761A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 y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E74B-0819-40C9-ADEF-827E433CAB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 y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B0C7-8725-4D21-90C5-C99235D5BE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, un círculo y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BB5-6439-4A5C-B402-0A79F81E0A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6139-C2C0-41BE-89B7-6864E0EEC7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3510-8DF8-45CD-8337-0BF4B8918A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8712-13C9-412B-9348-82CB6F921C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080-31F6-48E1-9455-A1051F6ACB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9449-53DA-4FD4-BF38-3C9588737C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4DD-EBA4-4F28-B612-D7C9ACD5D4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6F53-5D3A-4355-9E8E-664FEA4DBB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FA84-B966-4B4A-AC10-993B2B345D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4BE-65FC-4B52-8587-FCFDDD04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E75-567D-4BC1-9589-EBB0AE4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C5E-A591-477E-A184-291C58F4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2C2-C118-408B-A8ED-9F32DBBE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2D0-C8DF-4528-B94A-BB4510D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78E-F646-42F9-84A6-6C1EBA8D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A5E-EB0A-4F0A-AF9A-5514B3FF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5B9-D32B-45BC-B6EA-C9CE72C1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BC2-9F91-479A-A51C-2C66B7ED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C14-E7DC-4B13-AC0A-B73AAC88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B18-B8FB-4BFB-BB11-1CDB9DB8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855-2045-484A-888E-C1E9949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FA1-D4CC-4ED0-96FE-819F5443B7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image" Target="../media/image31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image" Target="../media/image28.png"/><Relationship Id="rId13" Type="http://schemas.openxmlformats.org/officeDocument/2006/relationships/image" Target="../media/image33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8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2.xml"/><Relationship Id="rId2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58920" y="1557360"/>
            <a:ext cx="7056360" cy="4246560"/>
          </a:xfrm>
          <a:prstGeom prst="rect">
            <a:avLst/>
          </a:prstGeom>
          <a:ln w="648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340000" y="33336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11280" y="2852640"/>
            <a:ext cx="3816360" cy="19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867280" y="1700280"/>
            <a:ext cx="288000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788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3816360" cy="1914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048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08720" y="3789360"/>
            <a:ext cx="3349440" cy="2536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26920" y="2924280"/>
            <a:ext cx="3384720" cy="203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292720" y="1413000"/>
            <a:ext cx="2903400" cy="1928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340000" y="549360"/>
            <a:ext cx="194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9640" y="4668840"/>
            <a:ext cx="3672000" cy="184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643280" y="5788080"/>
            <a:ext cx="2159280" cy="106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826920" y="5738760"/>
            <a:ext cx="167832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5364000" y="436572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6300720" y="3068640"/>
            <a:ext cx="2114640" cy="10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3203640" y="321300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2771640" y="4724280"/>
            <a:ext cx="1729080" cy="115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2700360" y="177336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5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16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8"/>
          <a:stretch/>
        </p:blipFill>
        <p:spPr>
          <a:xfrm>
            <a:off x="2484360" y="189000"/>
            <a:ext cx="17272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42920" y="1557360"/>
            <a:ext cx="3095640" cy="234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788000" y="692280"/>
            <a:ext cx="3671640" cy="220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716360" y="3789360"/>
            <a:ext cx="3743280" cy="250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835280" y="4437000"/>
            <a:ext cx="223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2421000"/>
            <a:ext cx="792000" cy="79200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3500280"/>
            <a:ext cx="792360" cy="79236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3500280"/>
            <a:ext cx="792360" cy="79236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2421000"/>
            <a:ext cx="792000" cy="792000"/>
          </a:xfrm>
          <a:prstGeom prst="star5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225576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372360" y="2131920"/>
            <a:ext cx="2401920" cy="12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2016360" cy="134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708360" y="4005360"/>
            <a:ext cx="2158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900000" y="3716280"/>
            <a:ext cx="21258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7020000" y="3789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3203640" y="5589720"/>
            <a:ext cx="212544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6372360" y="62064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611280" y="5300640"/>
            <a:ext cx="1800000" cy="1190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6156360" y="5372280"/>
            <a:ext cx="2232000" cy="11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76360" y="1484280"/>
            <a:ext cx="4248000" cy="212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616360" cy="3468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0-09-06T14:20:01Z</dcterms:modified>
  <cp:revision>212</cp:revision>
  <dc:subject/>
  <dc:title>TITLE</dc:title>
</cp:coreProperties>
</file>