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A0E-644C-4AE8-8376-291970E2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4E9-DAAA-472F-A537-B937C9BA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E50-D50E-4DB9-8062-0485EE7E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D6C-AAC3-4295-AB9B-5AF77032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211-54B0-44C4-A4C4-075B46D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B6F-014C-41BF-90D0-92D7FAD8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8FC-2F0E-436A-BEAC-DD8976E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9E9-1228-4A27-A07B-7E3F3965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DB6-5FC0-4E39-B5EA-9EABAF35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F74-D14B-4BF7-9AB0-82CAD669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13B-1948-40FC-82A9-6BFB8A1E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2D2-D47D-4947-9EFD-ABB8EB09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E584-0E4C-46B5-A0E3-DB921FD381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21851" t="10397" r="23814" b="215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0"/>
            <a:ext cx="2089080" cy="119700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1052640"/>
            <a:ext cx="2089080" cy="11970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40360" y="0"/>
            <a:ext cx="2089080" cy="16286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88000" y="1125360"/>
            <a:ext cx="2305080" cy="11970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2060640"/>
            <a:ext cx="2592360" cy="119700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2276640"/>
            <a:ext cx="2376360" cy="119664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2519280" cy="158400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3429000"/>
            <a:ext cx="3025440" cy="119700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2000" y="3860640"/>
            <a:ext cx="2089080" cy="151308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869000"/>
            <a:ext cx="2305080" cy="172872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4508640"/>
            <a:ext cx="3095640" cy="158436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5877000"/>
            <a:ext cx="4032000" cy="11970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1-26T15:23:12Z</dcterms:modified>
  <cp:revision>133</cp:revision>
  <dc:subject/>
  <dc:title>TITLE</dc:title>
</cp:coreProperties>
</file>