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4FE-ACB4-4A3A-9ECA-AD975925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CFE-3062-455B-BD96-0E0C1E05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079-0E77-472F-A7E6-9672F7D6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24D-7DC5-4141-8203-FFA58294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07E-CAAF-446C-8BE6-B7D9DF7B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979-D277-4686-91F7-56C2EB32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323-1648-48C8-8270-8CAFC8EE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292-786D-44C7-AE51-5DB30EC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84E-D70E-4305-8C31-11944F84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77B-F08C-4F38-8E1F-75D7C913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AC4-9C9F-45DD-9DF6-A5D67F43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47D-E0E3-410B-AE40-33D5624A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FCB6-30F0-471D-97B0-16B5C8E851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21851" t="10397" r="23814" b="215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0"/>
            <a:ext cx="2089080" cy="119700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1052640"/>
            <a:ext cx="2089080" cy="11970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40360" y="0"/>
            <a:ext cx="2089080" cy="16286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1125360"/>
            <a:ext cx="2305080" cy="11970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2060640"/>
            <a:ext cx="2592360" cy="119700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2276640"/>
            <a:ext cx="2376360" cy="119664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2519280" cy="158400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3429000"/>
            <a:ext cx="3025440" cy="119700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2000" y="3860640"/>
            <a:ext cx="2089080" cy="151308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869000"/>
            <a:ext cx="2305080" cy="172872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4508640"/>
            <a:ext cx="3095640" cy="158436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5877000"/>
            <a:ext cx="4032000" cy="11970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1-26T15:23:12Z</dcterms:modified>
  <cp:revision>133</cp:revision>
  <dc:subject/>
  <dc:title>TITLE</dc:title>
</cp:coreProperties>
</file>