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C92B-7AA6-4F8E-83DF-AAB31E443D9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38FE-CC27-4A33-9895-F7B93C1B086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2178-04D3-4BEA-B7A1-BFE2B28B1E2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A5A-A43A-4E23-A502-FBA6B1B5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1D1-E531-42BB-A4C3-EC1D01F1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2F65-A71A-4D91-A44A-69BCF463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40D-370E-438D-B205-4129CF35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F62F-B15D-4954-85C5-5C2CADDE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6D79-5B9D-4EF2-B4DB-77B20E84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85F3-DD6C-4D40-848A-76050F05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E91B-2D93-4355-A926-52EE5A72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59F2-A7DC-4B7C-9FC6-AE599CD9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B6A1-9E83-4713-B6D0-044199AB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E460-5E49-48D2-B585-8CF66AE2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5D1-9F1C-42DF-8536-434EBADD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A069-1531-4334-AD7D-64FC0C86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D423-9118-43D8-BDBF-93D9A22A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9A22-E677-4E94-B8B7-2D91819D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0FDF-E5EC-4B98-A1E9-C9757F84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F24B-A9B4-4676-80BF-0EC1AF13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658E-DD5B-4FCD-A6DC-6507D5ED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CFF-D3D4-4185-9722-3BC51D30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CFC-9C34-45DB-B1A4-1D6CC864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AC9-0898-486E-89F3-01F3A2F9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3E2-9FD0-4846-A9DC-78AC4615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A8DD-50F6-4DAF-8317-44848952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536-0AAC-4E4D-96C3-D994087D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C6CF-F24A-496E-99C6-E7B3CD4636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0004-E65A-4DD7-B91F-9446F4DFA5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-11160" y="189000"/>
            <a:ext cx="915516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-36360" y="268200"/>
            <a:ext cx="9262800" cy="6329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183528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835280" y="1044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1835280" y="13017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835280" y="1590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1835280" y="1935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1835280" y="22636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835280" y="2565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1835280" y="28843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1835280" y="32320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1835280" y="3500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1835280" y="3860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1835280" y="4149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1835280" y="450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1835280" y="48625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1835280" y="51498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18"/>
          <p:cNvSpPr/>
          <p:nvPr/>
        </p:nvSpPr>
        <p:spPr>
          <a:xfrm>
            <a:off x="1835280" y="54957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19"/>
          <p:cNvSpPr/>
          <p:nvPr/>
        </p:nvSpPr>
        <p:spPr>
          <a:xfrm>
            <a:off x="1835280" y="5805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1835280" y="61246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21"/>
          <p:cNvSpPr/>
          <p:nvPr/>
        </p:nvSpPr>
        <p:spPr>
          <a:xfrm>
            <a:off x="665964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22"/>
          <p:cNvSpPr/>
          <p:nvPr/>
        </p:nvSpPr>
        <p:spPr>
          <a:xfrm>
            <a:off x="6659640" y="1044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23"/>
          <p:cNvSpPr/>
          <p:nvPr/>
        </p:nvSpPr>
        <p:spPr>
          <a:xfrm>
            <a:off x="6659640" y="13017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24"/>
          <p:cNvSpPr/>
          <p:nvPr/>
        </p:nvSpPr>
        <p:spPr>
          <a:xfrm>
            <a:off x="6659640" y="1590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25"/>
          <p:cNvSpPr/>
          <p:nvPr/>
        </p:nvSpPr>
        <p:spPr>
          <a:xfrm>
            <a:off x="6659640" y="1935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26"/>
          <p:cNvSpPr/>
          <p:nvPr/>
        </p:nvSpPr>
        <p:spPr>
          <a:xfrm>
            <a:off x="6659640" y="22636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27"/>
          <p:cNvSpPr/>
          <p:nvPr/>
        </p:nvSpPr>
        <p:spPr>
          <a:xfrm>
            <a:off x="6659640" y="2565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28"/>
          <p:cNvSpPr/>
          <p:nvPr/>
        </p:nvSpPr>
        <p:spPr>
          <a:xfrm>
            <a:off x="6659640" y="28843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6659640" y="32320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30"/>
          <p:cNvSpPr/>
          <p:nvPr/>
        </p:nvSpPr>
        <p:spPr>
          <a:xfrm>
            <a:off x="6659640" y="3500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31"/>
          <p:cNvSpPr/>
          <p:nvPr/>
        </p:nvSpPr>
        <p:spPr>
          <a:xfrm>
            <a:off x="6659640" y="3860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32"/>
          <p:cNvSpPr/>
          <p:nvPr/>
        </p:nvSpPr>
        <p:spPr>
          <a:xfrm>
            <a:off x="6659640" y="4149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Box 33"/>
          <p:cNvSpPr/>
          <p:nvPr/>
        </p:nvSpPr>
        <p:spPr>
          <a:xfrm>
            <a:off x="6659640" y="450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34"/>
          <p:cNvSpPr/>
          <p:nvPr/>
        </p:nvSpPr>
        <p:spPr>
          <a:xfrm>
            <a:off x="6659640" y="48625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35"/>
          <p:cNvSpPr/>
          <p:nvPr/>
        </p:nvSpPr>
        <p:spPr>
          <a:xfrm>
            <a:off x="6659640" y="51498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36"/>
          <p:cNvSpPr/>
          <p:nvPr/>
        </p:nvSpPr>
        <p:spPr>
          <a:xfrm>
            <a:off x="6659640" y="54957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37"/>
          <p:cNvSpPr/>
          <p:nvPr/>
        </p:nvSpPr>
        <p:spPr>
          <a:xfrm>
            <a:off x="6659640" y="58244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Box 38"/>
          <p:cNvSpPr/>
          <p:nvPr/>
        </p:nvSpPr>
        <p:spPr>
          <a:xfrm>
            <a:off x="6659640" y="6093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31T10:44:55Z</dcterms:modified>
  <cp:revision>251</cp:revision>
  <dc:subject/>
  <dc:title>TITLE</dc:title>
</cp:coreProperties>
</file>