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B923-A88C-4EF0-A2C0-2784B516D1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BC60-0784-41B1-AB02-80F435353D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0611-F52B-466E-82BF-856C9387134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5A7-15FD-4507-A7CD-F4780DA9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24F-0E05-44F2-84E9-50E2BCF6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9FC-37E6-43CE-B5D1-FE7B6FCD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AF2-11C3-4029-8EFC-F40BC106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2897-DD75-4428-B553-E96E0BB9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FAE9-FA88-4874-8504-CB653C91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D0EC-666D-484C-B916-E7845B38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E881-8C8C-452E-82DB-CD9F3BFE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9B2B-AAE4-462E-8B73-4956BDB0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FE9B-D497-4643-AD9A-F197731E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A5B2-F3DE-47C9-B2D3-589A6229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A48-0B7D-4413-B9BD-D9F7E5AE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54CC-F9C3-4271-A630-A474FCD5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FA6D-E113-4694-BA85-8B4D8A06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4204-6402-4F98-886D-41476228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1DD9-6F55-44BE-BB1F-E83AFE9D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9559-A899-4DFE-A4F0-61FD5799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DD2-2229-4EB1-AB79-E876FF8E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588-BE7E-4B16-98E6-8A3BD805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E3F-4DC6-455B-BD6B-F36E7ED9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76D-8DB9-497A-A0E2-1D6DB59D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1D5-F41A-4CCD-AB46-E80E1BB9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481-106F-4A99-812C-A3880577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D0D5-6DA9-454D-95B5-E7609E01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3186-5F13-47FA-A663-380794592E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67EE-DA00-4909-927F-C639A57DD3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-11160" y="189000"/>
            <a:ext cx="915516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-36360" y="268200"/>
            <a:ext cx="9262800" cy="6329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183528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835280" y="1044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1835280" y="13017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835280" y="1590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1835280" y="193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1835280" y="2263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835280" y="2565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1835280" y="28843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1835280" y="32320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1835280" y="3500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1835280" y="3860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1835280" y="4149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1835280" y="450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1835280" y="48625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1835280" y="51498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18"/>
          <p:cNvSpPr/>
          <p:nvPr/>
        </p:nvSpPr>
        <p:spPr>
          <a:xfrm>
            <a:off x="1835280" y="54957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19"/>
          <p:cNvSpPr/>
          <p:nvPr/>
        </p:nvSpPr>
        <p:spPr>
          <a:xfrm>
            <a:off x="1835280" y="5805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1835280" y="6124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21"/>
          <p:cNvSpPr/>
          <p:nvPr/>
        </p:nvSpPr>
        <p:spPr>
          <a:xfrm>
            <a:off x="665964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22"/>
          <p:cNvSpPr/>
          <p:nvPr/>
        </p:nvSpPr>
        <p:spPr>
          <a:xfrm>
            <a:off x="6659640" y="1044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23"/>
          <p:cNvSpPr/>
          <p:nvPr/>
        </p:nvSpPr>
        <p:spPr>
          <a:xfrm>
            <a:off x="6659640" y="13017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24"/>
          <p:cNvSpPr/>
          <p:nvPr/>
        </p:nvSpPr>
        <p:spPr>
          <a:xfrm>
            <a:off x="6659640" y="1590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25"/>
          <p:cNvSpPr/>
          <p:nvPr/>
        </p:nvSpPr>
        <p:spPr>
          <a:xfrm>
            <a:off x="6659640" y="193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26"/>
          <p:cNvSpPr/>
          <p:nvPr/>
        </p:nvSpPr>
        <p:spPr>
          <a:xfrm>
            <a:off x="6659640" y="2263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27"/>
          <p:cNvSpPr/>
          <p:nvPr/>
        </p:nvSpPr>
        <p:spPr>
          <a:xfrm>
            <a:off x="6659640" y="2565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28"/>
          <p:cNvSpPr/>
          <p:nvPr/>
        </p:nvSpPr>
        <p:spPr>
          <a:xfrm>
            <a:off x="6659640" y="28843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6659640" y="32320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30"/>
          <p:cNvSpPr/>
          <p:nvPr/>
        </p:nvSpPr>
        <p:spPr>
          <a:xfrm>
            <a:off x="6659640" y="3500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31"/>
          <p:cNvSpPr/>
          <p:nvPr/>
        </p:nvSpPr>
        <p:spPr>
          <a:xfrm>
            <a:off x="6659640" y="3860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32"/>
          <p:cNvSpPr/>
          <p:nvPr/>
        </p:nvSpPr>
        <p:spPr>
          <a:xfrm>
            <a:off x="6659640" y="4149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Box 33"/>
          <p:cNvSpPr/>
          <p:nvPr/>
        </p:nvSpPr>
        <p:spPr>
          <a:xfrm>
            <a:off x="6659640" y="450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34"/>
          <p:cNvSpPr/>
          <p:nvPr/>
        </p:nvSpPr>
        <p:spPr>
          <a:xfrm>
            <a:off x="6659640" y="48625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35"/>
          <p:cNvSpPr/>
          <p:nvPr/>
        </p:nvSpPr>
        <p:spPr>
          <a:xfrm>
            <a:off x="6659640" y="51498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36"/>
          <p:cNvSpPr/>
          <p:nvPr/>
        </p:nvSpPr>
        <p:spPr>
          <a:xfrm>
            <a:off x="6659640" y="54957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37"/>
          <p:cNvSpPr/>
          <p:nvPr/>
        </p:nvSpPr>
        <p:spPr>
          <a:xfrm>
            <a:off x="6659640" y="58244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Box 38"/>
          <p:cNvSpPr/>
          <p:nvPr/>
        </p:nvSpPr>
        <p:spPr>
          <a:xfrm>
            <a:off x="6659640" y="6093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0:44:55Z</dcterms:modified>
  <cp:revision>251</cp:revision>
  <dc:subject/>
  <dc:title>TITLE</dc:title>
</cp:coreProperties>
</file>