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DFF-A120-4B94-AE04-B54ACB81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53B-DE8E-48A6-BAF1-328D9055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C00-1C65-4917-B6A1-BC65ED42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DD0-782B-4390-BFA6-50F6AF1A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1D17-F767-48AA-8D76-966B3465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2FE6-1CC4-41CD-93C6-A78519E9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3FCB-0C4B-40ED-BC7A-F9299C73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AB90-A2E1-444B-9983-29A6FBBD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CDA9-BCF7-4FC0-B6CE-1914D4C3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D985-9C3B-420E-A270-78E4999C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DBB3-2C69-435D-AD21-624C8A96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661-A23B-4D95-B3C3-4D3976D6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C3F6-D4F4-40D9-B431-8CAF0468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8E6F-E0A7-4AB5-8E54-730263F4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57B4-A645-4BDF-A50F-9719B796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2EEB-B7CD-4918-8A99-3E7F13B3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32AB-EDF0-43A0-AE73-C98350B5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86F5A-7668-4BA7-9FBC-0569656F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BE439-F27A-4A80-80D6-CE7C95B9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79774-4D8A-4446-8E9B-54D76326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6C73F-006A-4506-A41C-A4CEA395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8569A-55A4-4043-A767-17542105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FE8-D2BE-493B-8F82-5CC297A9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2D013-324A-41EA-B608-90F82581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2CBE5-9597-43F2-A535-CF4B43C3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F2A7A-15FC-4556-9F61-BEFE8BEA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3555A-C378-4ABF-AAB8-7220A3F5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B8833-0733-4D5C-B130-9EE52AA3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6A2AF-ED9A-42B1-8AFC-4D37A1D3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C5352-651C-42E3-8DE3-47C55E69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436-0389-4541-A4BF-1A16307F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4D6-BEEB-4A54-9C9B-FB374D01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6F9-A93C-4522-96EA-1CD95675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EF6-2329-4CE0-B452-5355CDC4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384-6B3C-4506-8FC5-56FD65CA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844-6440-4707-8C43-1A400CB7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DF62-E9ED-4675-848E-77E8029CFD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D49A-BB07-42BC-A41C-C896EEEF06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EC50-E27F-4367-B8FB-225C4378163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4797360"/>
          <a:ext cx="7993080" cy="1973160"/>
        </p:xfrm>
        <a:graphic>
          <a:graphicData uri="http://schemas.openxmlformats.org/drawingml/2006/table">
            <a:tbl>
              <a:tblPr/>
              <a:tblGrid>
                <a:gridCol w="432000"/>
                <a:gridCol w="6840360"/>
                <a:gridCol w="720720"/>
              </a:tblGrid>
              <a:tr h="542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einta y seis Euros con cuarenta y cinc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42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arenta y cinco Euros con setent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venta y cinco Euros con noventa y nuev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42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senta y nueve Euros con noventa y cinc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pSp>
        <p:nvGrpSpPr>
          <p:cNvPr id="125" name="Group 5"/>
          <p:cNvGrpSpPr/>
          <p:nvPr/>
        </p:nvGrpSpPr>
        <p:grpSpPr>
          <a:xfrm>
            <a:off x="4535640" y="1806480"/>
            <a:ext cx="2376360" cy="1400400"/>
            <a:chOff x="4535640" y="1806480"/>
            <a:chExt cx="2376360" cy="1400400"/>
          </a:xfrm>
        </p:grpSpPr>
        <p:pic>
          <p:nvPicPr>
            <p:cNvPr id="126" name="Picture 3" descr=""/>
            <p:cNvPicPr/>
            <p:nvPr/>
          </p:nvPicPr>
          <p:blipFill>
            <a:blip r:embed="rId1"/>
            <a:srcRect l="24247" t="7322" r="24247" b="5226"/>
            <a:stretch/>
          </p:blipFill>
          <p:spPr>
            <a:xfrm rot="16200000">
              <a:off x="5023440" y="1318320"/>
              <a:ext cx="14004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Box 4"/>
            <p:cNvSpPr/>
            <p:nvPr/>
          </p:nvSpPr>
          <p:spPr>
            <a:xfrm>
              <a:off x="5183280" y="218268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36,45 €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8" name="Group 6"/>
          <p:cNvGrpSpPr/>
          <p:nvPr/>
        </p:nvGrpSpPr>
        <p:grpSpPr>
          <a:xfrm>
            <a:off x="395280" y="1287360"/>
            <a:ext cx="2376360" cy="1400400"/>
            <a:chOff x="395280" y="1287360"/>
            <a:chExt cx="2376360" cy="1400400"/>
          </a:xfrm>
        </p:grpSpPr>
        <p:pic>
          <p:nvPicPr>
            <p:cNvPr id="129" name="Picture 7" descr=""/>
            <p:cNvPicPr/>
            <p:nvPr/>
          </p:nvPicPr>
          <p:blipFill>
            <a:blip r:embed="rId2"/>
            <a:srcRect l="24247" t="7322" r="24247" b="5226"/>
            <a:stretch/>
          </p:blipFill>
          <p:spPr>
            <a:xfrm rot="16200000">
              <a:off x="883080" y="799200"/>
              <a:ext cx="14004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8"/>
            <p:cNvSpPr/>
            <p:nvPr/>
          </p:nvSpPr>
          <p:spPr>
            <a:xfrm>
              <a:off x="1042920" y="166356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45,70 €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1" name="Group 9"/>
          <p:cNvGrpSpPr/>
          <p:nvPr/>
        </p:nvGrpSpPr>
        <p:grpSpPr>
          <a:xfrm>
            <a:off x="1727280" y="2923920"/>
            <a:ext cx="2376360" cy="1400040"/>
            <a:chOff x="1727280" y="2923920"/>
            <a:chExt cx="2376360" cy="1400040"/>
          </a:xfrm>
        </p:grpSpPr>
        <p:pic>
          <p:nvPicPr>
            <p:cNvPr id="132" name="Picture 10" descr=""/>
            <p:cNvPicPr/>
            <p:nvPr/>
          </p:nvPicPr>
          <p:blipFill>
            <a:blip r:embed="rId3"/>
            <a:srcRect l="24247" t="7322" r="24247" b="5226"/>
            <a:stretch/>
          </p:blipFill>
          <p:spPr>
            <a:xfrm rot="16200000">
              <a:off x="2215440" y="2435760"/>
              <a:ext cx="140004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11"/>
            <p:cNvSpPr/>
            <p:nvPr/>
          </p:nvSpPr>
          <p:spPr>
            <a:xfrm>
              <a:off x="2374920" y="330048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80,55 €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4" name="Group 12"/>
          <p:cNvGrpSpPr/>
          <p:nvPr/>
        </p:nvGrpSpPr>
        <p:grpSpPr>
          <a:xfrm>
            <a:off x="3132000" y="188640"/>
            <a:ext cx="2376720" cy="1398600"/>
            <a:chOff x="3132000" y="188640"/>
            <a:chExt cx="2376720" cy="1398600"/>
          </a:xfrm>
        </p:grpSpPr>
        <p:pic>
          <p:nvPicPr>
            <p:cNvPr id="135" name="Picture 13" descr=""/>
            <p:cNvPicPr/>
            <p:nvPr/>
          </p:nvPicPr>
          <p:blipFill>
            <a:blip r:embed="rId4"/>
            <a:srcRect l="24247" t="7322" r="24247" b="5226"/>
            <a:stretch/>
          </p:blipFill>
          <p:spPr>
            <a:xfrm rot="16200000">
              <a:off x="3620880" y="-300240"/>
              <a:ext cx="139860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14"/>
            <p:cNvSpPr/>
            <p:nvPr/>
          </p:nvSpPr>
          <p:spPr>
            <a:xfrm>
              <a:off x="3779640" y="565200"/>
              <a:ext cx="17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69,95 €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7" name="Group 15"/>
          <p:cNvGrpSpPr/>
          <p:nvPr/>
        </p:nvGrpSpPr>
        <p:grpSpPr>
          <a:xfrm>
            <a:off x="6443640" y="3357360"/>
            <a:ext cx="2376360" cy="1398600"/>
            <a:chOff x="6443640" y="3357360"/>
            <a:chExt cx="2376360" cy="1398600"/>
          </a:xfrm>
        </p:grpSpPr>
        <p:pic>
          <p:nvPicPr>
            <p:cNvPr id="138" name="Picture 16" descr=""/>
            <p:cNvPicPr/>
            <p:nvPr/>
          </p:nvPicPr>
          <p:blipFill>
            <a:blip r:embed="rId5"/>
            <a:srcRect l="24247" t="7322" r="24247" b="5226"/>
            <a:stretch/>
          </p:blipFill>
          <p:spPr>
            <a:xfrm rot="16200000">
              <a:off x="6932520" y="2868480"/>
              <a:ext cx="13986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17"/>
            <p:cNvSpPr/>
            <p:nvPr/>
          </p:nvSpPr>
          <p:spPr>
            <a:xfrm>
              <a:off x="7091280" y="373392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95,99 €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0" name="TextBox 18"/>
          <p:cNvSpPr/>
          <p:nvPr/>
        </p:nvSpPr>
        <p:spPr>
          <a:xfrm>
            <a:off x="-36360" y="8888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TextBox 21"/>
          <p:cNvSpPr/>
          <p:nvPr/>
        </p:nvSpPr>
        <p:spPr>
          <a:xfrm>
            <a:off x="3924360" y="162864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3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Box 22"/>
          <p:cNvSpPr/>
          <p:nvPr/>
        </p:nvSpPr>
        <p:spPr>
          <a:xfrm>
            <a:off x="2484360" y="189000"/>
            <a:ext cx="7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TextBox 23"/>
          <p:cNvSpPr/>
          <p:nvPr/>
        </p:nvSpPr>
        <p:spPr>
          <a:xfrm>
            <a:off x="1042920" y="30830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4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Box 24"/>
          <p:cNvSpPr/>
          <p:nvPr/>
        </p:nvSpPr>
        <p:spPr>
          <a:xfrm>
            <a:off x="5796000" y="35402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5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79280" y="4797360"/>
          <a:ext cx="7993080" cy="1973160"/>
        </p:xfrm>
        <a:graphic>
          <a:graphicData uri="http://schemas.openxmlformats.org/drawingml/2006/table">
            <a:tbl>
              <a:tblPr/>
              <a:tblGrid>
                <a:gridCol w="432000"/>
                <a:gridCol w="6840360"/>
                <a:gridCol w="720720"/>
              </a:tblGrid>
              <a:tr h="487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einta y seis Euros con cuarenta y cinc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87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arenta y cinco Euros con setent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83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venta y cinco Euros con noventa y nuev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87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senta y nueve Euros con noventa y cinc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pSp>
        <p:nvGrpSpPr>
          <p:cNvPr id="147" name="Group 5"/>
          <p:cNvGrpSpPr/>
          <p:nvPr/>
        </p:nvGrpSpPr>
        <p:grpSpPr>
          <a:xfrm>
            <a:off x="4535640" y="1806480"/>
            <a:ext cx="2376360" cy="1400400"/>
            <a:chOff x="4535640" y="1806480"/>
            <a:chExt cx="2376360" cy="1400400"/>
          </a:xfrm>
        </p:grpSpPr>
        <p:pic>
          <p:nvPicPr>
            <p:cNvPr id="148" name="Picture 3" descr=""/>
            <p:cNvPicPr/>
            <p:nvPr/>
          </p:nvPicPr>
          <p:blipFill>
            <a:blip r:embed="rId1"/>
            <a:srcRect l="24247" t="7322" r="24247" b="5226"/>
            <a:stretch/>
          </p:blipFill>
          <p:spPr>
            <a:xfrm rot="16200000">
              <a:off x="5023440" y="1318320"/>
              <a:ext cx="14004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4"/>
            <p:cNvSpPr/>
            <p:nvPr/>
          </p:nvSpPr>
          <p:spPr>
            <a:xfrm>
              <a:off x="5183280" y="218268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36,45 €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50" name="Group 6"/>
          <p:cNvGrpSpPr/>
          <p:nvPr/>
        </p:nvGrpSpPr>
        <p:grpSpPr>
          <a:xfrm>
            <a:off x="395280" y="1287360"/>
            <a:ext cx="2376360" cy="1400400"/>
            <a:chOff x="395280" y="1287360"/>
            <a:chExt cx="2376360" cy="1400400"/>
          </a:xfrm>
        </p:grpSpPr>
        <p:pic>
          <p:nvPicPr>
            <p:cNvPr id="151" name="Picture 7" descr=""/>
            <p:cNvPicPr/>
            <p:nvPr/>
          </p:nvPicPr>
          <p:blipFill>
            <a:blip r:embed="rId2"/>
            <a:srcRect l="24247" t="7322" r="24247" b="5226"/>
            <a:stretch/>
          </p:blipFill>
          <p:spPr>
            <a:xfrm rot="16200000">
              <a:off x="883080" y="799200"/>
              <a:ext cx="14004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8"/>
            <p:cNvSpPr/>
            <p:nvPr/>
          </p:nvSpPr>
          <p:spPr>
            <a:xfrm>
              <a:off x="1042920" y="166356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45,70 €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1727280" y="2923920"/>
            <a:ext cx="2376360" cy="1400040"/>
            <a:chOff x="1727280" y="2923920"/>
            <a:chExt cx="2376360" cy="1400040"/>
          </a:xfrm>
        </p:grpSpPr>
        <p:pic>
          <p:nvPicPr>
            <p:cNvPr id="154" name="Picture 10" descr=""/>
            <p:cNvPicPr/>
            <p:nvPr/>
          </p:nvPicPr>
          <p:blipFill>
            <a:blip r:embed="rId3"/>
            <a:srcRect l="24247" t="7322" r="24247" b="5226"/>
            <a:stretch/>
          </p:blipFill>
          <p:spPr>
            <a:xfrm rot="16200000">
              <a:off x="2215440" y="2435760"/>
              <a:ext cx="140004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11"/>
            <p:cNvSpPr/>
            <p:nvPr/>
          </p:nvSpPr>
          <p:spPr>
            <a:xfrm>
              <a:off x="2374920" y="330048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80,55 €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3132000" y="188640"/>
            <a:ext cx="2376720" cy="1398600"/>
            <a:chOff x="3132000" y="188640"/>
            <a:chExt cx="2376720" cy="1398600"/>
          </a:xfrm>
        </p:grpSpPr>
        <p:pic>
          <p:nvPicPr>
            <p:cNvPr id="157" name="Picture 13" descr=""/>
            <p:cNvPicPr/>
            <p:nvPr/>
          </p:nvPicPr>
          <p:blipFill>
            <a:blip r:embed="rId4"/>
            <a:srcRect l="24247" t="7322" r="24247" b="5226"/>
            <a:stretch/>
          </p:blipFill>
          <p:spPr>
            <a:xfrm rot="16200000">
              <a:off x="3620880" y="-300240"/>
              <a:ext cx="139860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Box 14"/>
            <p:cNvSpPr/>
            <p:nvPr/>
          </p:nvSpPr>
          <p:spPr>
            <a:xfrm>
              <a:off x="3779640" y="565200"/>
              <a:ext cx="17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69,95 €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59" name="Group 15"/>
          <p:cNvGrpSpPr/>
          <p:nvPr/>
        </p:nvGrpSpPr>
        <p:grpSpPr>
          <a:xfrm>
            <a:off x="6443640" y="3357360"/>
            <a:ext cx="2376360" cy="1398600"/>
            <a:chOff x="6443640" y="3357360"/>
            <a:chExt cx="2376360" cy="1398600"/>
          </a:xfrm>
        </p:grpSpPr>
        <p:pic>
          <p:nvPicPr>
            <p:cNvPr id="160" name="Picture 16" descr=""/>
            <p:cNvPicPr/>
            <p:nvPr/>
          </p:nvPicPr>
          <p:blipFill>
            <a:blip r:embed="rId5"/>
            <a:srcRect l="24247" t="7322" r="24247" b="5226"/>
            <a:stretch/>
          </p:blipFill>
          <p:spPr>
            <a:xfrm rot="16200000">
              <a:off x="6932520" y="2868480"/>
              <a:ext cx="13986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17"/>
            <p:cNvSpPr/>
            <p:nvPr/>
          </p:nvSpPr>
          <p:spPr>
            <a:xfrm>
              <a:off x="7091280" y="373392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95,99 €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62" name="TextBox 18"/>
          <p:cNvSpPr/>
          <p:nvPr/>
        </p:nvSpPr>
        <p:spPr>
          <a:xfrm>
            <a:off x="-36360" y="8888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3924360" y="162864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3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2484360" y="189000"/>
            <a:ext cx="7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1042920" y="30830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4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Box 24"/>
          <p:cNvSpPr/>
          <p:nvPr/>
        </p:nvSpPr>
        <p:spPr>
          <a:xfrm>
            <a:off x="5796000" y="35402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5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52:42Z</dcterms:modified>
  <cp:revision>268</cp:revision>
  <dc:subject/>
  <dc:title>TITLE</dc:title>
</cp:coreProperties>
</file>