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DA1F-44FB-4140-BEC6-BEA6DF2A5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ECF5-8E41-4AC1-96D9-91E5434A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C617-8843-4A14-9D93-DD8078F15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9D2A-DEA1-4CAF-AC6B-95C1EF7F7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3083-45AE-4E52-8547-01007AFE9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FC87-EB6E-43CA-B3A4-BEBA511A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A000-2685-4BFC-99D5-9F382B34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027F-6ED9-4D00-B052-AFEEC4F6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55FA-FEEC-420B-81FD-2D22FA75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6965-CC99-4A35-B92E-9B004B83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63EE-F4CD-40B1-B8FD-FA45D3A2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852F-14DD-4787-9EBE-7A2B1D36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1901-DE44-404A-9F0E-A2B0131A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D901-27BB-4E04-A04B-D3E50C09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D412-45DC-4BB9-9B61-8FC99616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CCA7-464B-4E50-BC9B-EFF3857C0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1548-3C44-4EC0-9249-8071BB971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39119-7D65-4A01-AACD-78A005F61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06502-9837-48CC-AAB4-EAF46C94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D6F5D-F2F6-4F06-BD49-221AFD86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0BA1A-72EB-4E2A-BC11-52E98F90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700C0-4D11-4055-80ED-927D29C0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2C4D-7486-431F-BA96-97E884DF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9DD6D-7109-40B5-88B6-46534F58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19E9B-7CFC-468E-884D-BA139690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5012C-DA7A-4735-AFC8-DA8812C1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E9422-A32B-4B32-A2C1-76866153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33334-1BB6-4612-8197-B5A49E63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9AEDD-B850-44B6-A1FC-CF4A2C16B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C8EDF-22FC-440A-88F5-15DE60E6F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EA19-73A9-43D9-BFC1-646823DE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41E4-EB6C-494C-9D2F-EB2A83D6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24B9-BF26-4760-88CF-2E694B81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4FBE-D765-4F97-A679-96459B34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D5BF-AD90-406C-8025-12709A13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E849-B53D-453E-947E-B9E7AA62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6D6A-CE9C-4542-962D-784A54C6F1D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86A9-3CBE-41F5-80FF-7808303BB73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34B6-CD35-4D97-8B72-94DD0B43C2C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79280" y="4797360"/>
          <a:ext cx="7993080" cy="1973160"/>
        </p:xfrm>
        <a:graphic>
          <a:graphicData uri="http://schemas.openxmlformats.org/drawingml/2006/table">
            <a:tbl>
              <a:tblPr/>
              <a:tblGrid>
                <a:gridCol w="432000"/>
                <a:gridCol w="6840360"/>
                <a:gridCol w="720720"/>
              </a:tblGrid>
              <a:tr h="5428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reinta y seis Euros con cuarenta y cinc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428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uarenta y cinco Euros con setent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93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oventa y cinco Euros con noventa y nuev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428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esenta y nueve Euros con noventa y cinc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pSp>
        <p:nvGrpSpPr>
          <p:cNvPr id="125" name="Group 5"/>
          <p:cNvGrpSpPr/>
          <p:nvPr/>
        </p:nvGrpSpPr>
        <p:grpSpPr>
          <a:xfrm>
            <a:off x="4535640" y="1806480"/>
            <a:ext cx="2376360" cy="1400400"/>
            <a:chOff x="4535640" y="1806480"/>
            <a:chExt cx="2376360" cy="1400400"/>
          </a:xfrm>
        </p:grpSpPr>
        <p:pic>
          <p:nvPicPr>
            <p:cNvPr id="126" name="Picture 3" descr=""/>
            <p:cNvPicPr/>
            <p:nvPr/>
          </p:nvPicPr>
          <p:blipFill>
            <a:blip r:embed="rId1"/>
            <a:srcRect l="24247" t="7322" r="24247" b="5226"/>
            <a:stretch/>
          </p:blipFill>
          <p:spPr>
            <a:xfrm rot="16200000">
              <a:off x="5023440" y="1318320"/>
              <a:ext cx="140040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Box 4"/>
            <p:cNvSpPr/>
            <p:nvPr/>
          </p:nvSpPr>
          <p:spPr>
            <a:xfrm>
              <a:off x="5183280" y="2182680"/>
              <a:ext cx="172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Arial"/>
                </a:rPr>
                <a:t>36,45 €</a:t>
              </a:r>
              <a:endParaRPr b="0" lang="en-US" sz="3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28" name="Group 6"/>
          <p:cNvGrpSpPr/>
          <p:nvPr/>
        </p:nvGrpSpPr>
        <p:grpSpPr>
          <a:xfrm>
            <a:off x="395280" y="1287360"/>
            <a:ext cx="2376360" cy="1400400"/>
            <a:chOff x="395280" y="1287360"/>
            <a:chExt cx="2376360" cy="1400400"/>
          </a:xfrm>
        </p:grpSpPr>
        <p:pic>
          <p:nvPicPr>
            <p:cNvPr id="129" name="Picture 7" descr=""/>
            <p:cNvPicPr/>
            <p:nvPr/>
          </p:nvPicPr>
          <p:blipFill>
            <a:blip r:embed="rId2"/>
            <a:srcRect l="24247" t="7322" r="24247" b="5226"/>
            <a:stretch/>
          </p:blipFill>
          <p:spPr>
            <a:xfrm rot="16200000">
              <a:off x="883080" y="799200"/>
              <a:ext cx="140040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Box 8"/>
            <p:cNvSpPr/>
            <p:nvPr/>
          </p:nvSpPr>
          <p:spPr>
            <a:xfrm>
              <a:off x="1042920" y="1663560"/>
              <a:ext cx="172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Arial"/>
                </a:rPr>
                <a:t>45,70 €</a:t>
              </a:r>
              <a:endParaRPr b="0" lang="en-US" sz="3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31" name="Group 9"/>
          <p:cNvGrpSpPr/>
          <p:nvPr/>
        </p:nvGrpSpPr>
        <p:grpSpPr>
          <a:xfrm>
            <a:off x="1727280" y="2923920"/>
            <a:ext cx="2376360" cy="1400040"/>
            <a:chOff x="1727280" y="2923920"/>
            <a:chExt cx="2376360" cy="1400040"/>
          </a:xfrm>
        </p:grpSpPr>
        <p:pic>
          <p:nvPicPr>
            <p:cNvPr id="132" name="Picture 10" descr=""/>
            <p:cNvPicPr/>
            <p:nvPr/>
          </p:nvPicPr>
          <p:blipFill>
            <a:blip r:embed="rId3"/>
            <a:srcRect l="24247" t="7322" r="24247" b="5226"/>
            <a:stretch/>
          </p:blipFill>
          <p:spPr>
            <a:xfrm rot="16200000">
              <a:off x="2215440" y="2435760"/>
              <a:ext cx="140004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Box 11"/>
            <p:cNvSpPr/>
            <p:nvPr/>
          </p:nvSpPr>
          <p:spPr>
            <a:xfrm>
              <a:off x="2374920" y="3300480"/>
              <a:ext cx="172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Arial"/>
                </a:rPr>
                <a:t>80,55 €</a:t>
              </a:r>
              <a:endParaRPr b="0" lang="en-US" sz="3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34" name="Group 12"/>
          <p:cNvGrpSpPr/>
          <p:nvPr/>
        </p:nvGrpSpPr>
        <p:grpSpPr>
          <a:xfrm>
            <a:off x="3132000" y="188640"/>
            <a:ext cx="2376720" cy="1398600"/>
            <a:chOff x="3132000" y="188640"/>
            <a:chExt cx="2376720" cy="1398600"/>
          </a:xfrm>
        </p:grpSpPr>
        <p:pic>
          <p:nvPicPr>
            <p:cNvPr id="135" name="Picture 13" descr=""/>
            <p:cNvPicPr/>
            <p:nvPr/>
          </p:nvPicPr>
          <p:blipFill>
            <a:blip r:embed="rId4"/>
            <a:srcRect l="24247" t="7322" r="24247" b="5226"/>
            <a:stretch/>
          </p:blipFill>
          <p:spPr>
            <a:xfrm rot="16200000">
              <a:off x="3620880" y="-300240"/>
              <a:ext cx="1398600" cy="23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Box 14"/>
            <p:cNvSpPr/>
            <p:nvPr/>
          </p:nvSpPr>
          <p:spPr>
            <a:xfrm>
              <a:off x="3779640" y="565200"/>
              <a:ext cx="17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Arial"/>
                </a:rPr>
                <a:t>69,95 €</a:t>
              </a:r>
              <a:endParaRPr b="0" lang="en-US" sz="3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37" name="Group 15"/>
          <p:cNvGrpSpPr/>
          <p:nvPr/>
        </p:nvGrpSpPr>
        <p:grpSpPr>
          <a:xfrm>
            <a:off x="6443640" y="3357360"/>
            <a:ext cx="2376360" cy="1398600"/>
            <a:chOff x="6443640" y="3357360"/>
            <a:chExt cx="2376360" cy="1398600"/>
          </a:xfrm>
        </p:grpSpPr>
        <p:pic>
          <p:nvPicPr>
            <p:cNvPr id="138" name="Picture 16" descr=""/>
            <p:cNvPicPr/>
            <p:nvPr/>
          </p:nvPicPr>
          <p:blipFill>
            <a:blip r:embed="rId5"/>
            <a:srcRect l="24247" t="7322" r="24247" b="5226"/>
            <a:stretch/>
          </p:blipFill>
          <p:spPr>
            <a:xfrm rot="16200000">
              <a:off x="6932520" y="2868480"/>
              <a:ext cx="139860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Box 17"/>
            <p:cNvSpPr/>
            <p:nvPr/>
          </p:nvSpPr>
          <p:spPr>
            <a:xfrm>
              <a:off x="7091280" y="3733920"/>
              <a:ext cx="172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Arial"/>
                </a:rPr>
                <a:t>95,99 €</a:t>
              </a:r>
              <a:endParaRPr b="0" lang="en-US" sz="3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40" name="TextBox 18"/>
          <p:cNvSpPr/>
          <p:nvPr/>
        </p:nvSpPr>
        <p:spPr>
          <a:xfrm>
            <a:off x="-36360" y="888840"/>
            <a:ext cx="86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2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TextBox 21"/>
          <p:cNvSpPr/>
          <p:nvPr/>
        </p:nvSpPr>
        <p:spPr>
          <a:xfrm>
            <a:off x="3924360" y="1628640"/>
            <a:ext cx="71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3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TextBox 22"/>
          <p:cNvSpPr/>
          <p:nvPr/>
        </p:nvSpPr>
        <p:spPr>
          <a:xfrm>
            <a:off x="2484360" y="189000"/>
            <a:ext cx="7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TextBox 23"/>
          <p:cNvSpPr/>
          <p:nvPr/>
        </p:nvSpPr>
        <p:spPr>
          <a:xfrm>
            <a:off x="1042920" y="30830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4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TextBox 24"/>
          <p:cNvSpPr/>
          <p:nvPr/>
        </p:nvSpPr>
        <p:spPr>
          <a:xfrm>
            <a:off x="5796000" y="35402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5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79280" y="4797360"/>
          <a:ext cx="7993080" cy="1973160"/>
        </p:xfrm>
        <a:graphic>
          <a:graphicData uri="http://schemas.openxmlformats.org/drawingml/2006/table">
            <a:tbl>
              <a:tblPr/>
              <a:tblGrid>
                <a:gridCol w="432000"/>
                <a:gridCol w="6840360"/>
                <a:gridCol w="720720"/>
              </a:tblGrid>
              <a:tr h="4878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reinta y seis Euros con cuarenta y cinc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878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uarenta y cinco Euros con setent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838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oventa y cinco Euros con noventa y nuev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878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esenta y nueve Euros con noventa y cinc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pSp>
        <p:nvGrpSpPr>
          <p:cNvPr id="147" name="Group 5"/>
          <p:cNvGrpSpPr/>
          <p:nvPr/>
        </p:nvGrpSpPr>
        <p:grpSpPr>
          <a:xfrm>
            <a:off x="4535640" y="1806480"/>
            <a:ext cx="2376360" cy="1400400"/>
            <a:chOff x="4535640" y="1806480"/>
            <a:chExt cx="2376360" cy="1400400"/>
          </a:xfrm>
        </p:grpSpPr>
        <p:pic>
          <p:nvPicPr>
            <p:cNvPr id="148" name="Picture 3" descr=""/>
            <p:cNvPicPr/>
            <p:nvPr/>
          </p:nvPicPr>
          <p:blipFill>
            <a:blip r:embed="rId1"/>
            <a:srcRect l="24247" t="7322" r="24247" b="5226"/>
            <a:stretch/>
          </p:blipFill>
          <p:spPr>
            <a:xfrm rot="16200000">
              <a:off x="5023440" y="1318320"/>
              <a:ext cx="140040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Box 4"/>
            <p:cNvSpPr/>
            <p:nvPr/>
          </p:nvSpPr>
          <p:spPr>
            <a:xfrm>
              <a:off x="5183280" y="2182680"/>
              <a:ext cx="172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Arial"/>
                </a:rPr>
                <a:t>36,45 €</a:t>
              </a:r>
              <a:endParaRPr b="0" lang="en-US" sz="3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50" name="Group 6"/>
          <p:cNvGrpSpPr/>
          <p:nvPr/>
        </p:nvGrpSpPr>
        <p:grpSpPr>
          <a:xfrm>
            <a:off x="395280" y="1287360"/>
            <a:ext cx="2376360" cy="1400400"/>
            <a:chOff x="395280" y="1287360"/>
            <a:chExt cx="2376360" cy="1400400"/>
          </a:xfrm>
        </p:grpSpPr>
        <p:pic>
          <p:nvPicPr>
            <p:cNvPr id="151" name="Picture 7" descr=""/>
            <p:cNvPicPr/>
            <p:nvPr/>
          </p:nvPicPr>
          <p:blipFill>
            <a:blip r:embed="rId2"/>
            <a:srcRect l="24247" t="7322" r="24247" b="5226"/>
            <a:stretch/>
          </p:blipFill>
          <p:spPr>
            <a:xfrm rot="16200000">
              <a:off x="883080" y="799200"/>
              <a:ext cx="140040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Box 8"/>
            <p:cNvSpPr/>
            <p:nvPr/>
          </p:nvSpPr>
          <p:spPr>
            <a:xfrm>
              <a:off x="1042920" y="1663560"/>
              <a:ext cx="172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Arial"/>
                </a:rPr>
                <a:t>45,70 €</a:t>
              </a:r>
              <a:endParaRPr b="0" lang="en-US" sz="3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53" name="Group 9"/>
          <p:cNvGrpSpPr/>
          <p:nvPr/>
        </p:nvGrpSpPr>
        <p:grpSpPr>
          <a:xfrm>
            <a:off x="1727280" y="2923920"/>
            <a:ext cx="2376360" cy="1400040"/>
            <a:chOff x="1727280" y="2923920"/>
            <a:chExt cx="2376360" cy="1400040"/>
          </a:xfrm>
        </p:grpSpPr>
        <p:pic>
          <p:nvPicPr>
            <p:cNvPr id="154" name="Picture 10" descr=""/>
            <p:cNvPicPr/>
            <p:nvPr/>
          </p:nvPicPr>
          <p:blipFill>
            <a:blip r:embed="rId3"/>
            <a:srcRect l="24247" t="7322" r="24247" b="5226"/>
            <a:stretch/>
          </p:blipFill>
          <p:spPr>
            <a:xfrm rot="16200000">
              <a:off x="2215440" y="2435760"/>
              <a:ext cx="140004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Box 11"/>
            <p:cNvSpPr/>
            <p:nvPr/>
          </p:nvSpPr>
          <p:spPr>
            <a:xfrm>
              <a:off x="2374920" y="3300480"/>
              <a:ext cx="172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Arial"/>
                </a:rPr>
                <a:t>80,55 €</a:t>
              </a:r>
              <a:endParaRPr b="0" lang="en-US" sz="3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56" name="Group 12"/>
          <p:cNvGrpSpPr/>
          <p:nvPr/>
        </p:nvGrpSpPr>
        <p:grpSpPr>
          <a:xfrm>
            <a:off x="3132000" y="188640"/>
            <a:ext cx="2376720" cy="1398600"/>
            <a:chOff x="3132000" y="188640"/>
            <a:chExt cx="2376720" cy="1398600"/>
          </a:xfrm>
        </p:grpSpPr>
        <p:pic>
          <p:nvPicPr>
            <p:cNvPr id="157" name="Picture 13" descr=""/>
            <p:cNvPicPr/>
            <p:nvPr/>
          </p:nvPicPr>
          <p:blipFill>
            <a:blip r:embed="rId4"/>
            <a:srcRect l="24247" t="7322" r="24247" b="5226"/>
            <a:stretch/>
          </p:blipFill>
          <p:spPr>
            <a:xfrm rot="16200000">
              <a:off x="3620880" y="-300240"/>
              <a:ext cx="1398600" cy="23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Box 14"/>
            <p:cNvSpPr/>
            <p:nvPr/>
          </p:nvSpPr>
          <p:spPr>
            <a:xfrm>
              <a:off x="3779640" y="565200"/>
              <a:ext cx="17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Arial"/>
                </a:rPr>
                <a:t>69,95 €</a:t>
              </a:r>
              <a:endParaRPr b="0" lang="en-US" sz="3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59" name="Group 15"/>
          <p:cNvGrpSpPr/>
          <p:nvPr/>
        </p:nvGrpSpPr>
        <p:grpSpPr>
          <a:xfrm>
            <a:off x="6443640" y="3357360"/>
            <a:ext cx="2376360" cy="1398600"/>
            <a:chOff x="6443640" y="3357360"/>
            <a:chExt cx="2376360" cy="1398600"/>
          </a:xfrm>
        </p:grpSpPr>
        <p:pic>
          <p:nvPicPr>
            <p:cNvPr id="160" name="Picture 16" descr=""/>
            <p:cNvPicPr/>
            <p:nvPr/>
          </p:nvPicPr>
          <p:blipFill>
            <a:blip r:embed="rId5"/>
            <a:srcRect l="24247" t="7322" r="24247" b="5226"/>
            <a:stretch/>
          </p:blipFill>
          <p:spPr>
            <a:xfrm rot="16200000">
              <a:off x="6932520" y="2868480"/>
              <a:ext cx="139860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Box 17"/>
            <p:cNvSpPr/>
            <p:nvPr/>
          </p:nvSpPr>
          <p:spPr>
            <a:xfrm>
              <a:off x="7091280" y="3733920"/>
              <a:ext cx="172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Arial"/>
                </a:rPr>
                <a:t>95,99 €</a:t>
              </a:r>
              <a:endParaRPr b="0" lang="en-US" sz="3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62" name="TextBox 18"/>
          <p:cNvSpPr/>
          <p:nvPr/>
        </p:nvSpPr>
        <p:spPr>
          <a:xfrm>
            <a:off x="-36360" y="888840"/>
            <a:ext cx="86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2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TextBox 21"/>
          <p:cNvSpPr/>
          <p:nvPr/>
        </p:nvSpPr>
        <p:spPr>
          <a:xfrm>
            <a:off x="3924360" y="1628640"/>
            <a:ext cx="71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3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TextBox 22"/>
          <p:cNvSpPr/>
          <p:nvPr/>
        </p:nvSpPr>
        <p:spPr>
          <a:xfrm>
            <a:off x="2484360" y="189000"/>
            <a:ext cx="7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TextBox 23"/>
          <p:cNvSpPr/>
          <p:nvPr/>
        </p:nvSpPr>
        <p:spPr>
          <a:xfrm>
            <a:off x="1042920" y="30830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4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TextBox 24"/>
          <p:cNvSpPr/>
          <p:nvPr/>
        </p:nvSpPr>
        <p:spPr>
          <a:xfrm>
            <a:off x="5796000" y="35402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5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0T13:52:42Z</dcterms:modified>
  <cp:revision>268</cp:revision>
  <dc:subject/>
  <dc:title>TITLE</dc:title>
</cp:coreProperties>
</file>