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A4FD-8008-45D1-8FAD-517B518C0B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0767-B8D6-43A9-A388-48637E40E07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9480-DFAE-4D08-B8F5-7771BB4620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9371-B726-4C7E-9826-23AFFA0316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6A43-084E-4423-BF66-68138D778A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3654-61E3-40AC-8C60-E9A76733DE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4BA3-25B3-4A92-8D0A-E7C2A3B114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FA7B-CEE3-4839-A16F-659D7312B3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3CBD-9EC0-4681-AC44-67DAF19101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0302-446D-4174-8C35-6268917BB5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224E-9F87-421B-987F-865ACE422F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466B-7551-40B8-B1BF-06FB92690F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D3B0-58A6-4C2B-B1E9-33AA34D0AE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1255-41C8-4BFB-AA4F-55C308DEA7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DFFA-46B7-4EFE-80C7-65C5DEB16A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C215-843A-45E3-90C7-77CB386330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D379-3942-41C5-9350-7C69B8B455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F62-02A0-4FB8-9A1C-5DAEF141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EF8-E362-4931-94BF-62B832CB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130-2A38-4B1B-9FFC-E83A64D2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DB1-5FB9-4464-B63E-F96CBE38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B83-A335-44BC-B0B0-020FEA09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8F3-153A-46BD-A2B6-E836C6F1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5F5-22D7-4FB9-B882-5A24C12D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7BA-E4C4-4C75-AC85-E571BF66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310-A7DF-4BFF-AF56-25428BFE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A0F-298F-46B5-9CDA-ECD68351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C76-A504-4DDF-A802-C941EA84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FCB-4B16-4A42-A9E8-B94A93F1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0FA7-4C70-4A31-9E76-9AC21651B2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debeb"/>
          </a:solidFill>
          <a:ln w="9360">
            <a:solidFill>
              <a:srgbClr val="ad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540240" y="1484280"/>
            <a:ext cx="5103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BeeZee"/>
              </a:rPr>
              <a:t>El monstruo cociner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79280" y="176040"/>
            <a:ext cx="4105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Pone cinco guisant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"/>
          <p:cNvPicPr/>
          <p:nvPr/>
        </p:nvPicPr>
        <p:blipFill>
          <a:blip r:embed="rId9"/>
          <a:stretch/>
        </p:blipFill>
        <p:spPr>
          <a:xfrm>
            <a:off x="4284720" y="3213000"/>
            <a:ext cx="1484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5431E-006 C -0.00104 -0.02244 -0.00226 -0.04788 -0.01198 -0.06731 C -0.01354 -0.07634 -0.01806 -0.08212 -0.01979 -0.09091 C -0.0217 -0.10016 -0.02674 -0.10687 -0.03073 -0.11474 C -0.03524 -0.12376 -0.03941 -0.13278 -0.04462 -0.14111 C -0.04861 -0.14735 -0.05174 -0.15452 -0.05556 -0.16077 C -0.05712 -0.16354 -0.05764 -0.16724 -0.05938 -0.17002 C -0.06111 -0.1728 -0.06354 -0.17418 -0.06545 -0.17673 C -0.06788 -0.17997 -0.07049 -0.18459 -0.07326 -0.18737 C -0.07517 -0.18922 -0.07743 -0.19015 -0.07917 -0.19246 C -0.08351 -0.19824 -0.08767 -0.20194 -0.09306 -0.20564 C -0.09774 -0.20888 -0.09948 -0.21328 -0.10504 -0.2149 C -0.11163 -0.22114 -0.11892 -0.22276 -0.12674 -0.22554 C -0.13542 -0.22508 -0.14392 -0.22484 -0.1526 -0.22415 C -0.16302 -0.22322 -0.17153 -0.21258 -0.18125 -0.20981 C -0.18438 -0.20657 -0.18837 -0.20449 -0.19115 -0.20056 C -0.1967 -0.19269 -0.19375 -0.19477 -0.19913 -0.19246 C -0.2099 -0.18136 -0.22014 -0.16956 -0.22969 -0.15684 C -0.23438 -0.15059 -0.23837 -0.14064 -0.24358 -0.13579 C -0.24531 -0.13139 -0.24757 -0.12746 -0.24861 -0.1226 C -0.24896 -0.12075 -0.24948 -0.11728 -0.24948 -0.11728 E">
                                      <p:cBhvr>
                                        <p:cTn id="3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sp>
        <p:nvSpPr>
          <p:cNvPr id="148" name="Rounded Rectangular Callout 14"/>
          <p:cNvSpPr/>
          <p:nvPr/>
        </p:nvSpPr>
        <p:spPr>
          <a:xfrm>
            <a:off x="3924360" y="18900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Soy el monstruo cocinero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Cocino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Pone cuatro lechug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9"/>
          <a:stretch/>
        </p:blipFill>
        <p:spPr>
          <a:xfrm>
            <a:off x="4284720" y="3213000"/>
            <a:ext cx="665280" cy="67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10"/>
          <a:stretch/>
        </p:blipFill>
        <p:spPr>
          <a:xfrm>
            <a:off x="4103640" y="2457360"/>
            <a:ext cx="665280" cy="679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11"/>
          <a:stretch/>
        </p:blipFill>
        <p:spPr>
          <a:xfrm>
            <a:off x="5254560" y="3213000"/>
            <a:ext cx="665280" cy="679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12"/>
          <a:stretch/>
        </p:blipFill>
        <p:spPr>
          <a:xfrm>
            <a:off x="4765680" y="2546280"/>
            <a:ext cx="66528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67638E-006 C 0.00243 -0.01249 0.00538 -0.02383 0.00695 -0.03678 C 0.0066 -0.04951 0.0066 -0.06246 0.00591 -0.07518 C 0.00504 -0.09253 -0.01232 -0.11751 -0.02482 -0.12121 C -0.03559 -0.12862 -0.04652 -0.13116 -0.0585 -0.13324 C -0.06771 -0.13232 -0.07691 -0.13162 -0.08611 -0.13047 C -0.09357 -0.12954 -0.10087 -0.12376 -0.10798 -0.12121 C -0.11632 -0.11011 -0.10625 -0.12237 -0.11389 -0.11613 C -0.11823 -0.11266 -0.12222 -0.10664 -0.12673 -0.10294 C -0.1342 -0.09669 -0.12482 -0.1071 -0.13264 -0.09901 C -0.13802 -0.09346 -0.14288 -0.08536 -0.14948 -0.08305 C -0.15104 -0.07703 -0.15503 -0.07403 -0.15746 -0.06847 C -0.16007 -0.06223 -0.1618 -0.05529 -0.16441 -0.04881 C -0.16545 -0.04164 -0.16823 -0.03493 -0.17135 -0.02892 C -0.17309 -0.02152 -0.18246 -0.00625 -0.18715 2.67638E-006 C -0.18784 0.00185 -0.18958 0.00347 -0.18906 0.00532 C -0.18871 0.00671 -0.1868 0.00486 -0.18611 0.00393 C -0.18507 0.00254 -0.18316 -0.0044 -0.18316 -0.00648 E">
                                      <p:cBhvr>
                                        <p:cTn id="4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9.41476E-007 C -0.00053 -0.01411 0.00121 -0.02961 -0.00487 -0.0421 C -0.00591 -0.04719 -0.00591 -0.05043 -0.00886 -0.0539 C -0.01355 -0.06616 -0.01077 -0.06176 -0.01581 -0.06847 C -0.01806 -0.08212 -0.03282 -0.09368 -0.04046 -0.1027 C -0.04619 -0.10941 -0.04219 -0.10687 -0.0474 -0.10941 C -0.05608 -0.12098 -0.06633 -0.12399 -0.07709 -0.13046 C -0.08386 -0.1344 -0.09063 -0.13902 -0.09792 -0.1411 C -0.10678 -0.14874 -0.12379 -0.14434 -0.13265 -0.14365 C -0.14046 -0.14133 -0.14115 -0.14064 -0.1474 -0.13717 C -0.15174 -0.13486 -0.1573 -0.13509 -0.16129 -0.13185 C -0.16372 -0.12977 -0.16598 -0.12746 -0.16824 -0.12514 C -0.1724 -0.12098 -0.18074 -0.11774 -0.18612 -0.11473 C -0.19011 -0.11242 -0.19271 -0.10964 -0.19688 -0.10802 C -0.20417 -0.10201 -0.21146 -0.09715 -0.21876 -0.09091 C -0.22431 -0.08628 -0.2191 -0.09044 -0.22466 -0.08559 C -0.2257 -0.08466 -0.22761 -0.08304 -0.22761 -0.08304 C -0.23074 -0.07703 -0.23525 -0.07286 -0.23855 -0.06708 C -0.23994 -0.06454 -0.24254 -0.05922 -0.24254 -0.05922 C -0.2441 -0.05228 -0.24688 -0.0458 -0.24949 -0.03955 E">
                                      <p:cBhvr>
                                        <p:cTn id="4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9.46102E-007 C 0.00191 -0.00741 0.00365 -0.01481 0.00486 -0.02244 C 0.00573 -0.0347 0.00695 -0.05182 0.00695 -0.06339 C 0.00695 -0.08791 0.0066 -0.11266 0.00591 -0.13718 C 0.00591 -0.14019 -0.00173 -0.1654 -0.00295 -0.16887 C -0.01284 -0.19802 -0.0184 -0.22462 -0.04566 -0.22832 C -0.05555 -0.23133 -0.06527 -0.23294 -0.07534 -0.2348 C -0.09479 -0.23433 -0.11458 -0.23757 -0.13368 -0.23225 C -0.13923 -0.23063 -0.14514 -0.22693 -0.15052 -0.22415 C -0.1618 -0.2186 -0.17239 -0.21467 -0.18229 -0.20449 C -0.19166 -0.19478 -0.19948 -0.18437 -0.2059 -0.17141 C -0.20798 -0.16725 -0.21024 -0.16193 -0.21284 -0.15823 C -0.21441 -0.15592 -0.21788 -0.15175 -0.21788 -0.15175 C -0.22066 -0.14435 -0.22326 -0.13764 -0.22673 -0.1307 C -0.22777 -0.12561 -0.22986 -0.1196 -0.23177 -0.11474 E">
                                      <p:cBhvr>
                                        <p:cTn id="5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96253E-006 C -0.00035 -0.00972 -0.00035 -0.0192 -0.00104 -0.02892 C -0.00261 -0.05251 -0.01667 -0.08443 -0.02483 -0.10548 C -0.02552 -0.11011 -0.03073 -0.1263 -0.03264 -0.13046 C -0.03438 -0.1344 -0.03715 -0.13717 -0.03872 -0.14111 C -0.04636 -0.16123 -0.05677 -0.17765 -0.06927 -0.19246 C -0.07778 -0.20264 -0.08576 -0.21282 -0.09514 -0.22161 C -0.10851 -0.23433 -0.13056 -0.24034 -0.14653 -0.24266 C -0.16076 -0.24219 -0.175 -0.24266 -0.18906 -0.24127 C -0.1941 -0.2408 -0.19896 -0.2371 -0.20399 -0.23618 C -0.21181 -0.23248 -0.21875 -0.226 -0.22674 -0.22299 C -0.23125 -0.21883 -0.23629 -0.21559 -0.24063 -0.21096 C -0.24497 -0.20634 -0.24913 -0.20009 -0.25347 -0.19523 C -0.25833 -0.18968 -0.25469 -0.19292 -0.25938 -0.18598 C -0.26129 -0.18321 -0.26545 -0.17812 -0.26545 -0.17812 C -0.26719 -0.17326 -0.26858 -0.16979 -0.27136 -0.16609 C -0.27292 -0.15915 -0.2717 -0.16331 -0.27622 -0.15429 C -0.27761 -0.15152 -0.28021 -0.15036 -0.28021 -0.14643 E">
                                      <p:cBhvr>
                                        <p:cTn id="5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sp>
        <p:nvSpPr>
          <p:cNvPr id="172" name="Rounded Rectangular Callout 14"/>
          <p:cNvSpPr/>
          <p:nvPr/>
        </p:nvSpPr>
        <p:spPr>
          <a:xfrm>
            <a:off x="3924360" y="18900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Soy el monstruo cocinero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Cocino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Pone tres pepino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" descr=""/>
          <p:cNvPicPr/>
          <p:nvPr/>
        </p:nvPicPr>
        <p:blipFill>
          <a:blip r:embed="rId9"/>
          <a:stretch/>
        </p:blipFill>
        <p:spPr>
          <a:xfrm rot="13984800">
            <a:off x="3999600" y="3090960"/>
            <a:ext cx="1204920" cy="603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"/>
          <p:cNvPicPr/>
          <p:nvPr/>
        </p:nvPicPr>
        <p:blipFill>
          <a:blip r:embed="rId10"/>
          <a:stretch/>
        </p:blipFill>
        <p:spPr>
          <a:xfrm rot="13984800">
            <a:off x="4427280" y="3127320"/>
            <a:ext cx="1206720" cy="603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"/>
          <p:cNvPicPr/>
          <p:nvPr/>
        </p:nvPicPr>
        <p:blipFill>
          <a:blip r:embed="rId11"/>
          <a:stretch/>
        </p:blipFill>
        <p:spPr>
          <a:xfrm rot="13984800">
            <a:off x="4789440" y="3126960"/>
            <a:ext cx="12067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5.66273E-006 C -0.00035 -0.01804 -0.00035 -0.03608 -0.00087 -0.05412 C -0.00104 -0.06199 -0.00382 -0.06893 -0.00486 -0.07656 C -0.00608 -0.08512 -0.00712 -0.09298 -0.00885 -0.10154 C -0.0099 -0.10663 -0.01267 -0.11103 -0.01372 -0.11612 C -0.0151 -0.12352 -0.01615 -0.133 -0.02066 -0.13855 C -0.02344 -0.14179 -0.02674 -0.14827 -0.02969 -0.15035 C -0.03108 -0.15151 -0.03507 -0.15428 -0.03663 -0.15567 C -0.04358 -0.16261 -0.03872 -0.16007 -0.04549 -0.16238 C -0.05087 -0.16701 -0.05747 -0.16816 -0.06337 -0.1714 C -0.08819 -0.18482 -0.1151 -0.18944 -0.14149 -0.19384 C -0.15694 -0.19338 -0.17257 -0.19384 -0.18802 -0.19268 C -0.19826 -0.19199 -0.21129 -0.18112 -0.22066 -0.17672 C -0.22535 -0.17094 -0.21944 -0.17765 -0.2276 -0.1714 C -0.23264 -0.16747 -0.23733 -0.16307 -0.24254 -0.1596 C -0.24601 -0.15729 -0.24774 -0.15405 -0.25139 -0.15174 C -0.25504 -0.14688 -0.25955 -0.14318 -0.26337 -0.13855 C -0.26684 -0.13439 -0.26979 -0.12953 -0.27326 -0.12537 C -0.275 -0.12306 -0.27743 -0.11866 -0.27917 -0.11612 C -0.28021 -0.1145 -0.28212 -0.1108 -0.28212 -0.1108 E">
                                      <p:cBhvr>
                                        <p:cTn id="6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58779E-006 C -0.00034 -0.01411 -1.11111000000003E-006 -0.02799 -0.00086 -0.0421 C -0.00104 -0.0458 -0.00225 -0.04927 -0.00295 -0.05274 C -0.00364 -0.05667 -0.00694 -0.06338 -0.00694 -0.06338 C -0.00989 -0.08096 -0.01909 -0.09808 -0.02673 -0.11219 C -0.0335 -0.12445 -0.04097 -0.13486 -0.04947 -0.14504 C -0.05555 -0.15244 -0.06111 -0.16308 -0.06822 -0.16886 C -0.071 -0.17118 -0.07447 -0.17187 -0.07725 -0.17419 C -0.08611 -0.18112 -0.09375 -0.18714 -0.10399 -0.18991 C -0.12656 -0.18922 -0.14965 -0.19015 -0.17222 -0.18598 C -0.18385 -0.1839 -0.19375 -0.17742 -0.20486 -0.17419 C -0.2092 -0.17072 -0.2125 -0.17025 -0.21684 -0.16748 C -0.22309 -0.16331 -0.22916 -0.15846 -0.23559 -0.15429 C -0.24253 -0.14504 -0.23402 -0.15545 -0.24253 -0.14781 C -0.24618 -0.14458 -0.24843 -0.13741 -0.25138 -0.13324 C -0.25329 -0.13047 -0.25607 -0.12861 -0.25746 -0.12538 C -0.26076 -0.11844 -0.26493 -0.10988 -0.26927 -0.10409 E">
                                      <p:cBhvr>
                                        <p:cTn id="64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5.71362E-007 C -0.00087 -0.01272 -0.00261 -0.0222 -0.00782 -0.03308 C -0.01216 -0.05228 -0.02188 -0.06847 -0.03056 -0.08443 C -0.03299 -0.08883 -0.0349 -0.09623 -0.03751 -0.10039 C -0.05261 -0.12352 -0.07518 -0.14064 -0.09792 -0.14504 C -0.10626 -0.14897 -0.11389 -0.14943 -0.12275 -0.15036 C -0.13924 -0.14989 -0.15574 -0.14989 -0.17223 -0.1492 C -0.18004 -0.14874 -0.17327 -0.14827 -0.17813 -0.14504 C -0.18021 -0.14365 -0.18299 -0.14388 -0.18508 -0.14249 C -0.19324 -0.13694 -0.20001 -0.12815 -0.20886 -0.12399 C -0.2099 -0.1226 -0.2106 -0.12098 -0.21181 -0.12005 C -0.21268 -0.11936 -0.21389 -0.11959 -0.21476 -0.11867 C -0.22084 -0.11242 -0.21285 -0.11635 -0.2198 -0.11358 C -0.22049 -0.11265 -0.22171 -0.1108 -0.22171 -0.1108 E">
                                      <p:cBhvr>
                                        <p:cTn id="6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14" descr=""/>
          <p:cNvPicPr/>
          <p:nvPr/>
        </p:nvPicPr>
        <p:blipFill>
          <a:blip r:embed="rId2"/>
          <a:stretch/>
        </p:blipFill>
        <p:spPr>
          <a:xfrm>
            <a:off x="1092240" y="692280"/>
            <a:ext cx="6959520" cy="695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3"/>
          <a:stretch/>
        </p:blipFill>
        <p:spPr>
          <a:xfrm>
            <a:off x="2556000" y="476280"/>
            <a:ext cx="2627280" cy="1655640"/>
          </a:xfrm>
          <a:prstGeom prst="rect">
            <a:avLst/>
          </a:prstGeom>
          <a:ln w="0">
            <a:noFill/>
          </a:ln>
        </p:spPr>
      </p:pic>
      <p:grpSp>
        <p:nvGrpSpPr>
          <p:cNvPr id="190" name="Freeform 15"/>
          <p:cNvGrpSpPr/>
          <p:nvPr/>
        </p:nvGrpSpPr>
        <p:grpSpPr>
          <a:xfrm>
            <a:off x="2755800" y="79200"/>
            <a:ext cx="285840" cy="511200"/>
            <a:chOff x="2755800" y="79200"/>
            <a:chExt cx="285840" cy="511200"/>
          </a:xfrm>
        </p:grpSpPr>
        <p:pic>
          <p:nvPicPr>
            <p:cNvPr id="191" name="Freeform 15" descr=""/>
            <p:cNvPicPr/>
            <p:nvPr/>
          </p:nvPicPr>
          <p:blipFill>
            <a:blip r:embed="rId4"/>
            <a:stretch/>
          </p:blipFill>
          <p:spPr>
            <a:xfrm>
              <a:off x="2755800" y="79200"/>
              <a:ext cx="285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93960" y="81000"/>
              <a:ext cx="2034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3" name="Freeform 18"/>
          <p:cNvGrpSpPr/>
          <p:nvPr/>
        </p:nvGrpSpPr>
        <p:grpSpPr>
          <a:xfrm>
            <a:off x="3286080" y="36360"/>
            <a:ext cx="152280" cy="444600"/>
            <a:chOff x="3286080" y="36360"/>
            <a:chExt cx="152280" cy="444600"/>
          </a:xfrm>
        </p:grpSpPr>
        <p:pic>
          <p:nvPicPr>
            <p:cNvPr id="194" name="Freeform 18" descr=""/>
            <p:cNvPicPr/>
            <p:nvPr/>
          </p:nvPicPr>
          <p:blipFill>
            <a:blip r:embed="rId5"/>
            <a:stretch/>
          </p:blipFill>
          <p:spPr>
            <a:xfrm>
              <a:off x="3286080" y="36360"/>
              <a:ext cx="1522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322800" y="36360"/>
              <a:ext cx="759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6" name="Freeform 19"/>
          <p:cNvGrpSpPr/>
          <p:nvPr/>
        </p:nvGrpSpPr>
        <p:grpSpPr>
          <a:xfrm>
            <a:off x="3730680" y="60480"/>
            <a:ext cx="244440" cy="396720"/>
            <a:chOff x="3730680" y="60480"/>
            <a:chExt cx="244440" cy="396720"/>
          </a:xfrm>
        </p:grpSpPr>
        <p:pic>
          <p:nvPicPr>
            <p:cNvPr id="197" name="Freeform 19" descr=""/>
            <p:cNvPicPr/>
            <p:nvPr/>
          </p:nvPicPr>
          <p:blipFill>
            <a:blip r:embed="rId6"/>
            <a:stretch/>
          </p:blipFill>
          <p:spPr>
            <a:xfrm>
              <a:off x="3730680" y="60480"/>
              <a:ext cx="2444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765600" y="100080"/>
              <a:ext cx="190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Freeform 20"/>
          <p:cNvGrpSpPr/>
          <p:nvPr/>
        </p:nvGrpSpPr>
        <p:grpSpPr>
          <a:xfrm>
            <a:off x="4267080" y="262080"/>
            <a:ext cx="596880" cy="371160"/>
            <a:chOff x="4267080" y="262080"/>
            <a:chExt cx="596880" cy="371160"/>
          </a:xfrm>
        </p:grpSpPr>
        <p:pic>
          <p:nvPicPr>
            <p:cNvPr id="200" name="Freeform 20" descr=""/>
            <p:cNvPicPr/>
            <p:nvPr/>
          </p:nvPicPr>
          <p:blipFill>
            <a:blip r:embed="rId7"/>
            <a:stretch/>
          </p:blipFill>
          <p:spPr>
            <a:xfrm>
              <a:off x="4267080" y="262080"/>
              <a:ext cx="59688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282920" y="289080"/>
              <a:ext cx="543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-541440" y="-171360"/>
            <a:ext cx="479916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ounded Rectangular Callout 10"/>
          <p:cNvSpPr/>
          <p:nvPr/>
        </p:nvSpPr>
        <p:spPr>
          <a:xfrm>
            <a:off x="4140360" y="3257640"/>
            <a:ext cx="3384360" cy="1539720"/>
          </a:xfrm>
          <a:prstGeom prst="wedgeRoundRectCallout">
            <a:avLst>
              <a:gd name="adj1" fmla="val -107777"/>
              <a:gd name="adj2" fmla="val -68819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Deliciosa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ounded Rectangular Callout 12"/>
          <p:cNvSpPr/>
          <p:nvPr/>
        </p:nvSpPr>
        <p:spPr>
          <a:xfrm>
            <a:off x="5364000" y="189000"/>
            <a:ext cx="3384720" cy="1539720"/>
          </a:xfrm>
          <a:prstGeom prst="wedgeRoundRectCallout">
            <a:avLst>
              <a:gd name="adj1" fmla="val 61240"/>
              <a:gd name="adj2" fmla="val 98902"/>
              <a:gd name="adj3" fmla="val 16667"/>
            </a:avLst>
          </a:prstGeom>
          <a:solidFill>
            <a:srgbClr val="ff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¿Cómo es la sop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debeb"/>
          </a:solidFill>
          <a:ln w="9360">
            <a:solidFill>
              <a:srgbClr val="ad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Es un monstruo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ounded Rectangular Callout 6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Ho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Soy el monstruo cociner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2"/>
          <a:stretch/>
        </p:blipFill>
        <p:spPr>
          <a:xfrm>
            <a:off x="-108000" y="781200"/>
            <a:ext cx="331164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Quiere cocinar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2"/>
          <a:stretch/>
        </p:blipFill>
        <p:spPr>
          <a:xfrm>
            <a:off x="-108000" y="781200"/>
            <a:ext cx="3311640" cy="485604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8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Quiero cocinar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Pone dos tomate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"/>
          <p:cNvPicPr/>
          <p:nvPr/>
        </p:nvPicPr>
        <p:blipFill>
          <a:blip r:embed="rId9"/>
          <a:stretch/>
        </p:blipFill>
        <p:spPr>
          <a:xfrm>
            <a:off x="4543560" y="3141720"/>
            <a:ext cx="633240" cy="71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10"/>
          <a:stretch/>
        </p:blipFill>
        <p:spPr>
          <a:xfrm>
            <a:off x="5200560" y="3141720"/>
            <a:ext cx="63180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7.17557E-006 C -0.00017 -0.00717 0.00678 -0.04533 -0.00486 -0.05551 C -0.00607 -0.05968 -0.00989 -0.06731 -0.00989 -0.06731 C -0.01093 -0.07217 -0.01301 -0.07355 -0.01475 -0.07795 C -0.01996 -0.09183 -0.02586 -0.10525 -0.03558 -0.11496 C -0.03749 -0.11681 -0.03975 -0.11774 -0.04149 -0.12005 C -0.04218 -0.12098 -0.0427 -0.12213 -0.04357 -0.12283 C -0.04548 -0.12468 -0.04756 -0.1263 -0.04947 -0.12815 C -0.05051 -0.12907 -0.05242 -0.13069 -0.05242 -0.13069 C -0.05503 -0.13601 -0.05781 -0.13925 -0.06232 -0.14133 C -0.06614 -0.14642 -0.071 -0.14966 -0.07621 -0.15174 C -0.07968 -0.15498 -0.08211 -0.15544 -0.08611 -0.15706 C -0.08715 -0.15752 -0.08819 -0.15776 -0.08906 -0.15845 C -0.0901 -0.15914 -0.09097 -0.16053 -0.09201 -0.16099 C -0.09999 -0.16493 -0.1085 -0.16539 -0.11683 -0.16631 C -0.13142 -0.17302 -0.1684 -0.16793 -0.17413 -0.1677 C -0.18003 -0.16562 -0.18611 -0.16585 -0.19201 -0.16377 C -0.19913 -0.16123 -0.20503 -0.15637 -0.2118 -0.15313 C -0.2184 -0.14434 -0.21076 -0.15336 -0.21874 -0.14781 C -0.22343 -0.14457 -0.2276 -0.13809 -0.23263 -0.13601 C -0.23611 -0.13092 -0.23888 -0.13069 -0.24253 -0.12676 C -0.24895 -0.11959 -0.23975 -0.12815 -0.24652 -0.12144 C -0.24774 -0.12005 -0.25086 -0.11612 -0.25242 -0.11612 E">
                                      <p:cBhvr>
                                        <p:cTn id="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21305E-006 C -0.00104 -0.00463 -0.00191 -0.00787 -0.00399 -0.0118 C -0.00712 -0.03586 -0.01893 -0.06269 -0.02969 -0.08189 C -0.03177 -0.09114 -0.02865 -0.0805 -0.03368 -0.08837 C -0.04028 -0.09878 -0.03108 -0.08976 -0.03854 -0.09623 C -0.0408 -0.10549 -0.03768 -0.09577 -0.04254 -0.10294 C -0.0441 -0.10526 -0.04462 -0.10896 -0.04653 -0.11081 C -0.04757 -0.11173 -0.04861 -0.11243 -0.04948 -0.11358 C -0.05382 -0.1189 -0.05764 -0.12561 -0.06233 -0.1307 C -0.06615 -0.13486 -0.07014 -0.13741 -0.07413 -0.14111 C -0.07795 -0.14458 -0.08056 -0.14851 -0.08507 -0.15036 C -0.09149 -0.15638 -0.10226 -0.15985 -0.1099 -0.16239 C -0.11493 -0.16401 -0.11962 -0.16725 -0.12465 -0.16887 C -0.13698 -0.1728 -0.14965 -0.17535 -0.16233 -0.17673 C -0.18351 -0.18159 -0.20556 -0.17882 -0.22674 -0.17812 C -0.23229 -0.17558 -0.23785 -0.17326 -0.24358 -0.17164 C -0.24774 -0.16563 -0.24254 -0.17211 -0.24948 -0.16748 C -0.25538 -0.16355 -0.26077 -0.158 -0.26736 -0.15568 C -0.27413 -0.14967 -0.27101 -0.15129 -0.27622 -0.14921 C -0.28316 -0.13926 -0.2908 -0.13833 -0.29601 -0.12538 E">
                                      <p:cBhvr>
                                        <p:cTn id="1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ular Callout 14"/>
          <p:cNvSpPr/>
          <p:nvPr/>
        </p:nvSpPr>
        <p:spPr>
          <a:xfrm>
            <a:off x="3924360" y="18900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Soy el monstruo cocinero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Cocino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Pone cinco judías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"/>
          <p:cNvPicPr/>
          <p:nvPr/>
        </p:nvPicPr>
        <p:blipFill>
          <a:blip r:embed="rId9"/>
          <a:stretch/>
        </p:blipFill>
        <p:spPr>
          <a:xfrm rot="5795400">
            <a:off x="4570560" y="2464560"/>
            <a:ext cx="150336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63243E-006 C 0.00243 -0.03007 0.0059 -0.07101 -0.00886 -0.09762 C -0.01389 -0.11658 -0.02292 -0.13601 -0.03368 -0.15036 C -0.03577 -0.15614 -0.03768 -0.15868 -0.04167 -0.16215 C -0.04618 -0.17141 -0.05348 -0.1758 -0.06042 -0.18066 C -0.08004 -0.19454 -0.10365 -0.20125 -0.1257 -0.2031 C -0.13264 -0.20263 -0.14584 -0.20263 -0.15452 -0.20055 C -0.1625 -0.1987 -0.17032 -0.19431 -0.1783 -0.19269 C -0.18525 -0.1913 -0.19236 -0.19061 -0.19896 -0.18737 C -0.20955 -0.18228 -0.22032 -0.17788 -0.23073 -0.17279 C -0.23473 -0.17071 -0.2382 -0.16771 -0.24254 -0.16609 C -0.24479 -0.16331 -0.24775 -0.16169 -0.24948 -0.15822 C -0.2533 -0.15059 -0.24931 -0.15475 -0.25452 -0.15036 C -0.25556 -0.1455 -0.25747 -0.14087 -0.25747 -0.13578 E"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sp>
        <p:nvSpPr>
          <p:cNvPr id="104" name="Rounded Rectangular Callout 14"/>
          <p:cNvSpPr/>
          <p:nvPr/>
        </p:nvSpPr>
        <p:spPr>
          <a:xfrm>
            <a:off x="3924360" y="18900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Soy el monstruo cocinero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Cocino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Pone tres zanahoria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9"/>
          <a:stretch/>
        </p:blipFill>
        <p:spPr>
          <a:xfrm rot="15001200">
            <a:off x="3721680" y="3046680"/>
            <a:ext cx="138132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/>
          <p:cNvPicPr/>
          <p:nvPr/>
        </p:nvPicPr>
        <p:blipFill>
          <a:blip r:embed="rId10"/>
          <a:stretch/>
        </p:blipFill>
        <p:spPr>
          <a:xfrm rot="15001200">
            <a:off x="4077000" y="3046320"/>
            <a:ext cx="1381320" cy="690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"/>
          <p:cNvPicPr/>
          <p:nvPr/>
        </p:nvPicPr>
        <p:blipFill>
          <a:blip r:embed="rId11"/>
          <a:stretch/>
        </p:blipFill>
        <p:spPr>
          <a:xfrm rot="15001200">
            <a:off x="4513680" y="3046680"/>
            <a:ext cx="13813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-2.63937E-006 C 0.00034 -0.00578 0.00243 -0.01133 0.00399 -0.01712 C 0.00347 -0.03516 0.00399 -0.0532 0.00277 -0.07124 C 0.0026 -0.07564 -0.01007 -0.10062 -0.01372 -0.10409 C -0.01997 -0.11751 -0.03785 -0.13648 -0.05157 -0.14249 C -0.0566 -0.14781 -0.06112 -0.14897 -0.06789 -0.15036 C -0.08247 -0.1603 -0.09931 -0.16053 -0.11598 -0.16354 C -0.13125 -0.16262 -0.14757 -0.16308 -0.16268 -0.15961 C -0.16893 -0.15475 -0.17848 -0.15105 -0.18646 -0.14897 C -0.19375 -0.14133 -0.20278 -0.13902 -0.21164 -0.13439 C -0.21632 -0.13208 -0.22431 -0.12514 -0.22431 -0.12491 C -0.22622 -0.12075 -0.22987 -0.11404 -0.23316 -0.1108 C -0.23351 -0.10941 -0.23438 -0.10687 -0.23438 -0.10664 L -0.23438 -0.09877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8737E-007 C -0.00035 -0.02429 -0.00035 -0.04834 -0.00104 -0.07263 C -0.00139 -0.08281 -0.00521 -0.09206 -0.00694 -0.10178 C -0.00833 -0.10987 -0.00833 -0.11543 -0.01285 -0.12144 C -0.01458 -0.13 -0.01667 -0.13185 -0.02187 -0.13856 C -0.03385 -0.15406 -0.04774 -0.16493 -0.06441 -0.16886 C -0.06979 -0.17141 -0.07569 -0.17279 -0.08125 -0.17418 C -0.08906 -0.17788 -0.08507 -0.17649 -0.09305 -0.17811 C -0.10989 -0.18598 -0.12969 -0.18459 -0.14757 -0.18621 C -0.16042 -0.18575 -0.17326 -0.18621 -0.18611 -0.18482 C -0.19323 -0.1839 -0.19253 -0.18158 -0.19705 -0.17811 C -0.20399 -0.17279 -0.2118 -0.16956 -0.21892 -0.16493 C -0.22396 -0.16169 -0.22726 -0.15614 -0.23264 -0.15452 C -0.24601 -0.14272 -0.25642 -0.12884 -0.26545 -0.11103 C -0.26805 -0.10571 -0.27135 -0.10293 -0.27135 -0.09646 E">
                                      <p:cBhvr>
                                        <p:cTn id="2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28337E-006 C 0.00747 -0.02798 -0.00174 -0.08743 -0.01875 -0.11218 C -0.02083 -0.11982 -0.02587 -0.12213 -0.02969 -0.12791 C -0.04115 -0.14596 -0.05538 -0.16145 -0.07326 -0.16631 C -0.08698 -0.17811 -0.11111 -0.18158 -0.12674 -0.18343 C -0.14288 -0.18713 -0.15903 -0.18597 -0.17517 -0.18482 C -0.18108 -0.18274 -0.18628 -0.1795 -0.19201 -0.17672 C -0.19601 -0.17163 -0.19948 -0.16446 -0.20486 -0.16238 C -0.21024 -0.15151 -0.22031 -0.14572 -0.2276 -0.13717 C -0.22934 -0.13508 -0.23073 -0.13254 -0.23264 -0.13069 C -0.2349 -0.12838 -0.23958 -0.12398 -0.23958 -0.12398 C -0.24167 -0.11982 -0.24392 -0.11288 -0.24653 -0.10941 C -0.2474 -0.10524 -0.24844 -0.10201 -0.24844 -0.09761 E">
                                      <p:cBhvr>
                                        <p:cTn id="3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dede"/>
          </a:solidFill>
          <a:ln w="9360">
            <a:solidFill>
              <a:srgbClr val="78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5148360" y="3068640"/>
            <a:ext cx="36036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504720" y="-24300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2"/>
          <p:cNvSpPr/>
          <p:nvPr/>
        </p:nvSpPr>
        <p:spPr>
          <a:xfrm>
            <a:off x="1187280" y="3068640"/>
            <a:ext cx="36036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Flowchart: Manual Operation 3"/>
          <p:cNvSpPr/>
          <p:nvPr/>
        </p:nvSpPr>
        <p:spPr>
          <a:xfrm rot="10800000">
            <a:off x="0" y="2781000"/>
            <a:ext cx="6588000" cy="1224000"/>
          </a:xfrm>
          <a:prstGeom prst="flowChartManualOperation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270480" y="4005360"/>
            <a:ext cx="358920" cy="143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-4680" y="4005360"/>
            <a:ext cx="360360" cy="14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c58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8"/>
          <a:stretch/>
        </p:blipFill>
        <p:spPr>
          <a:xfrm>
            <a:off x="1692360" y="2394000"/>
            <a:ext cx="2411280" cy="139536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ular Callout 14"/>
          <p:cNvSpPr/>
          <p:nvPr/>
        </p:nvSpPr>
        <p:spPr>
          <a:xfrm>
            <a:off x="3924360" y="189000"/>
            <a:ext cx="4824360" cy="2089080"/>
          </a:xfrm>
          <a:prstGeom prst="wedgeRoundRectCallout">
            <a:avLst>
              <a:gd name="adj1" fmla="val -68504"/>
              <a:gd name="adj2" fmla="val 334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Soy el monstruo cocinero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Cocino sop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6:53Z</dcterms:modified>
  <cp:revision>166</cp:revision>
  <dc:subject/>
  <dc:title>TITLE</dc:title>
</cp:coreProperties>
</file>