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92A7-847D-457A-86A4-F26F7D5E2D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9015-E550-4E90-9B03-A1312A2777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D049-39E8-474A-8130-A11DC330F2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4F0-DE0C-41BC-9B9C-3A05C53E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D56-5F59-427D-87EF-4169F5C6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E48-A526-4ABB-8D76-D3355121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CDB-B03C-4AF9-A696-9A827D85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EB5-41A5-41CC-92FC-CBFBC972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E4B-9E7C-42E9-B2BA-07131225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126-8BF9-49CB-BC3F-1123F174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E31-5793-435A-82BB-791C546D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97D-71C2-457E-9A24-72A34A4F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7D2-07B0-4292-A306-B43BB2EF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320-1F15-439D-A8EB-CF7B825D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64E-42B2-4B83-8ACB-12273281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F305-3ECD-4ACA-A039-9F283761DC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9144000" cy="2562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l _______ comió, comió y atravesó _____  ______, pero aun seguía hambrient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60280"/>
            <a:ext cx="8136000" cy="2287440"/>
          </a:xfrm>
          <a:prstGeom prst="rect">
            <a:avLst/>
          </a:prstGeom>
          <a:solidFill>
            <a:srgbClr val="fffff7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El jueves comió, comió, y atravesó cuatro fresas, pero aun seguía hambrient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l _______ comió, comió y atravesó _____  ______, pero aun seguía hambrient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07240" y="2060640"/>
            <a:ext cx="3236760" cy="501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781360"/>
            <a:ext cx="431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lunes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martes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miércoles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jueves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viernes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ábado</a:t>
            </a:r>
            <a:br>
              <a:rPr sz="3600"/>
            </a:b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dom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1-31T09:12:18Z</dcterms:modified>
  <cp:revision>104</cp:revision>
  <dc:subject/>
  <dc:title>TITLE</dc:title>
</cp:coreProperties>
</file>