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4A34B-28BF-458B-AB50-034651812C8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311D0-69D5-465A-8EBB-1195E727FBD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20908-9F7A-4D3B-A850-98DF9B79559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F70F-6C79-48AA-96F5-ED7344A53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246C-694C-49FF-BAA0-050924FFD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20FC-5340-4330-BC5A-90E4509B4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B5C7-1180-45CD-95A1-62AD8A7FD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8381-119F-4E88-A6A0-95742331B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2D90-D475-4A87-9463-97C55D57D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CF11-3570-4BBF-BA91-05B09BBD6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9419-2F07-4966-8424-BD2CEDC63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843F-EE33-461C-99B7-96F4A4236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F436-4AC7-4818-9ECC-3E93D895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6D64-6303-4F32-AE14-53E56130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F647-AF41-4758-A0F9-3B829FAD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04CA2-DE38-4B0C-92D0-2F62BEA322E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9144000" cy="25628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El _______ comió, comió y atravesó _____  ______, pero aun seguía hambrienta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260280"/>
            <a:ext cx="8136000" cy="2287440"/>
          </a:xfrm>
          <a:prstGeom prst="rect">
            <a:avLst/>
          </a:prstGeom>
          <a:solidFill>
            <a:srgbClr val="fffff7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  <a:ea typeface="Arial"/>
              </a:rPr>
              <a:t>El jueves comió, comió, y atravesó cuatro fresas, pero aun seguía hambrienta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25628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El _______ comió, comió y atravesó _____  ______, pero aun seguía hambrienta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07240" y="2060640"/>
            <a:ext cx="3236760" cy="5013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68360" y="2781360"/>
            <a:ext cx="4319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7"/>
                </a:solidFill>
                <a:latin typeface="Comic Sans MS"/>
              </a:rPr>
              <a:t>lunes</a:t>
            </a:r>
            <a:br>
              <a:rPr sz="3600"/>
            </a:br>
            <a:r>
              <a:rPr b="0" lang="en-GB" sz="3600" spc="-1" strike="noStrike">
                <a:solidFill>
                  <a:srgbClr val="fffff7"/>
                </a:solidFill>
                <a:latin typeface="Comic Sans MS"/>
              </a:rPr>
              <a:t>martes</a:t>
            </a:r>
            <a:br>
              <a:rPr sz="3600"/>
            </a:br>
            <a:r>
              <a:rPr b="0" lang="en-GB" sz="3600" spc="-1" strike="noStrike">
                <a:solidFill>
                  <a:srgbClr val="fffff7"/>
                </a:solidFill>
                <a:latin typeface="Comic Sans MS"/>
              </a:rPr>
              <a:t>miércoles</a:t>
            </a:r>
            <a:br>
              <a:rPr sz="3600"/>
            </a:br>
            <a:r>
              <a:rPr b="0" lang="en-GB" sz="3600" spc="-1" strike="noStrike">
                <a:solidFill>
                  <a:srgbClr val="fffff7"/>
                </a:solidFill>
                <a:latin typeface="Comic Sans MS"/>
              </a:rPr>
              <a:t>jueves</a:t>
            </a:r>
            <a:br>
              <a:rPr sz="3600"/>
            </a:br>
            <a:r>
              <a:rPr b="0" lang="en-GB" sz="3600" spc="-1" strike="noStrike">
                <a:solidFill>
                  <a:srgbClr val="fffff7"/>
                </a:solidFill>
                <a:latin typeface="Comic Sans MS"/>
              </a:rPr>
              <a:t>viernes</a:t>
            </a:r>
            <a:br>
              <a:rPr sz="3600"/>
            </a:br>
            <a:r>
              <a:rPr b="0" lang="en-GB" sz="3600" spc="-1" strike="noStrike">
                <a:solidFill>
                  <a:srgbClr val="fffff7"/>
                </a:solidFill>
                <a:latin typeface="Comic Sans MS"/>
              </a:rPr>
              <a:t>sábado</a:t>
            </a:r>
            <a:br>
              <a:rPr sz="3600"/>
            </a:br>
            <a:r>
              <a:rPr b="0" lang="en-GB" sz="3600" spc="-1" strike="noStrike">
                <a:solidFill>
                  <a:srgbClr val="fffff7"/>
                </a:solidFill>
                <a:latin typeface="Comic Sans MS"/>
              </a:rPr>
              <a:t>domin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1-01-31T09:12:18Z</dcterms:modified>
  <cp:revision>104</cp:revision>
  <dc:subject/>
  <dc:title>TITLE</dc:title>
</cp:coreProperties>
</file>