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73A4-137D-49A6-A6F1-3E4E9CBCFC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52ED-A9D0-432C-B948-F44FC69AB1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E651-8B79-450D-8481-590469A0C5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F583-2464-4D64-8E1A-5B5D2A8FA3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0D5-2BE9-41FA-BB40-283B91B4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DEC-72F0-44AB-8A10-3BF0AF29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431-1400-453D-9091-6EDC625A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78A-E2E1-4302-AA50-208B1977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AE51-D50A-4B0A-969A-46B68EEE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CA60-6D4C-4934-90D3-C8E364B0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F189-B1BB-42A5-B1B4-B314ABCB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D2CD-9ECF-406C-9AFF-89C779C9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19DD-0F7A-4D42-99D4-1BD01BBF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B5AA-E25D-46C3-9DA3-9CA04598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330C-5F77-435C-A134-C0EB4259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CA3-0556-484F-9C69-32F5855D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4F31-17B1-4BCC-AA84-0B16D97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BAA2-BDE2-439E-B266-DEE7BA7D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BA1B-D2AA-4F23-931E-00590DDD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F890-604C-46AF-8CD3-F5B1580F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DF32-AEBC-41F9-9DE6-F432D4F9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5E3D-A1CE-4DD1-A750-18A45E96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4633-DE3C-4587-99B0-C36850D3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C630-D80E-4A18-BCFC-E64462B9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F7FC-25B5-4B36-AF7E-564FC0D2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A9B8-0EDD-415B-94D6-D1E8E0A3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4C4-6CA0-4028-9750-30DB6114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DBB70-A07A-44B9-8EC2-B9D4249B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D788-1496-43B3-831C-3622E23B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8D679-3F71-48CA-903D-E4974735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47C0-44AC-4E7C-A785-44803F17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C56A-6A22-4C59-AD24-AE8E9078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822F-26E2-47B6-9DA5-93B8654E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4EEA-B90F-4758-8F09-70B8FE13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DE1-D3F7-4E54-877E-5CD6D900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8EC-A100-4224-B8EA-B71F35DC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E68-308C-417B-BA8E-24DF522C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CC2-F63B-49D0-A76E-7E899FDB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690-77CB-4208-8FFF-888A2C37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074-FEF0-43A7-8DBC-28EAA53A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360A-28AF-4B97-8FA0-E3DD1E0773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FB26-13E3-4DFF-80B4-ADA3806793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1075-931E-4518-B4FA-3CD685B5718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burrid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legr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nimad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ailabl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mocion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motiv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nergétic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rav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mpresion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nt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dern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bo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5475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cheerful / happ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10954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ive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16430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danceab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21906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exci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27385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emotion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328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energetic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8322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serio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3797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impressi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49276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interes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4752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sl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602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moder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ápid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lajan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ítmic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uidos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encil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os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ranquila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riste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aria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475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relax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0954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rhythmic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16430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no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1906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sim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27385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du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328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calm / qui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38322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s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43797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vari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5:39Z</dcterms:modified>
  <cp:revision>353</cp:revision>
  <dc:subject/>
  <dc:title>TITLE</dc:title>
</cp:coreProperties>
</file>