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3FD7-9966-46B0-A515-7D2DCA52FA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55CB-BE21-4E01-A01B-8B10DED939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CBB-D497-4587-83A2-B0E1DA0A4E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DD1-2D31-43D3-BA8A-1D20837E44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E11-3B10-4918-A4F5-CCC5A2C4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511-4D1B-4C62-8982-7645AA84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E91-0826-47E4-B8E4-45B079F9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D19-31D7-49E8-9250-F9CF8511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2E6-8C77-4A55-B875-23260FA9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D449-FA35-4BF0-8132-F27E449E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27C4-0557-4FE1-8B32-449BA69A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42A-1CA4-4669-BB61-D38A1A3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71BA-5BC7-4B24-BE96-B740CB1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D42C-73DB-4D35-A0CE-8C4BAA6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4018-685B-4222-A0AA-C6068FE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3A-5ADC-4428-AE1A-F4CB62A4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4166-6AE4-455E-91CA-D3FB660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FB8-BEC9-4EBE-B9BF-1C0D15E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EEB7-BC17-4587-AB2F-5A16DD1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6926-5A2E-43D4-8C44-2B01D301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B13-873A-4F59-8DAA-2A9B458F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820F9-2169-44E4-804F-11345117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9F75-030D-4F0B-A445-6C52A7AE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A843-4E70-4EB1-9241-1D3E47A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A364-3130-461D-871B-3EEE619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B29E-4E74-4148-A4EC-6CA60F1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38A-AC76-471B-88EE-1E081F2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BCD4-B744-42B5-98F8-5F9ED70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F4EF-D7D9-4674-9235-4DDE554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7954-D6A2-4653-80BA-2A431AE7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A3D6-3A55-4514-8BBD-8F87F0F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FA7C-0077-4C21-B072-AB218CA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B1E8-195E-4E96-9F4C-61176308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BCC4-EA5E-4CC1-AA44-11936483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50F-BE0F-4D31-8670-A01EBC8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911-5D83-4C71-971B-1E7F69C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D70-B2B6-4A84-96F7-48DBA42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D8F-0AEE-49F3-90FD-DABD6EC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726-A6FC-4E82-98A3-BEBCD7A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B23-5629-4443-89AD-5936EDC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BE1-F4EC-402A-9DA6-2683E8D391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848-730B-4E62-A18C-FD229F8D2B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044-4773-4DE7-B197-464A5BB900E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burri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legr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ima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ailabl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cion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v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ergétic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av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mpresion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nt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bo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5475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heerful / happ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0954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iv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6430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ancea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2190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27385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motio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nerget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8322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erio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3797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impress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49276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75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602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ápi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laj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ítmic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uidos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ncil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s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ris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ari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475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relax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0954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rhythm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16430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no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190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27385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u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alm / qui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38322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3797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vari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5:39Z</dcterms:modified>
  <cp:revision>353</cp:revision>
  <dc:subject/>
  <dc:title>TITLE</dc:title>
</cp:coreProperties>
</file>