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6229-71E8-49CF-8D8C-6F73DA6A909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6B6E-7BC2-445E-9395-1E5B2C4D2E7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77A9-91F6-42E4-9D5F-235C043C547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6C72-427C-49C3-BEF7-3C2FCFD29C7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235C-D286-455E-B8CE-D349863E8F5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0DFD-AFF5-4107-8586-3ECD952980F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256B-243F-4D12-905A-245D71526B4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0476-D4C9-465A-AFB1-B53296269CA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B4EE-9A50-4231-82A7-B37CBFA4412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713C-457D-45C2-9254-592D9CE3348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3DD0-179E-4644-A08C-C5FBB9832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46A0-6334-4222-B2F4-B1549DF2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6C1A-7813-47EB-91A4-2115683EB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62E0-4349-40B7-B04A-10BC07C73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7580-9EFD-4BBA-B5D8-A0C344625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CB45-3147-43D8-AD9E-42DBD92C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228C-B357-43B2-A295-6EA87AE1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8A57-6587-4921-A2F8-6FDFEDA3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7939-AFC1-4A86-A8F9-1E2E7139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526A-45B9-4FC6-B0C8-EFFEDD8A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0C07-FC85-4E86-9467-1A7E3E97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43EB-9E9A-4F2F-8C72-C9537135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C266-F6E7-4862-A66E-101A52BD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B316-6310-42BA-8085-07B90DC7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77BD-C6CA-4657-99A4-40D62228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877F-F0A0-4498-9C00-DFC42FB1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8AF5-9523-4E95-B616-742F14DED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5F646-47FB-463F-A3DF-E529BAB4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EB34F-16F3-44DD-BEE2-CD44DAEB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EEEC9-A5AE-4628-A2DC-AFB094E9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DF484-7B27-4C62-A5EB-D8BE95B2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476FC-1ECE-4962-9A3C-4D5D9641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C8FD-49D4-4E8A-A0B1-743CE292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59649-4502-4048-88F1-3788F933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989DB-0A4D-49BE-A876-9965FC61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4BCA8-F5BA-47DC-9B9D-BBAB6F73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DFBD3-99B1-4A89-B839-17CADAED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73E46-6D11-46F3-B427-C042ED7F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EEF3F-AB32-4B24-B45A-26EC9E08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4558B-4B29-4FC4-B5CE-64DA1586E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DF9F-6DF3-42E8-A799-9803FD2B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DBB9-E41E-4328-9B53-4577F5E2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D415-D20E-4FCE-B99B-861597C6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D855-DA9C-4345-ACA1-BC4BE042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91C4-A297-477A-B11B-109574BB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F8A2-E70B-4F6D-B78D-7CFB4F4F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9D4E-2691-4F53-8058-56341DD56E8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0CFE-67B0-4B43-B0BA-EFC27EADB9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9972-3945-4AF6-8F76-FCF5A460667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image" Target="../media/image9.jpeg"/><Relationship Id="rId5" Type="http://schemas.openxmlformats.org/officeDocument/2006/relationships/image" Target="../media/image8.jpeg"/><Relationship Id="rId6" Type="http://schemas.openxmlformats.org/officeDocument/2006/relationships/image" Target="../media/image7.jpeg"/><Relationship Id="rId7" Type="http://schemas.openxmlformats.org/officeDocument/2006/relationships/image" Target="../media/image6.jpeg"/><Relationship Id="rId8" Type="http://schemas.openxmlformats.org/officeDocument/2006/relationships/image" Target="../media/image5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3995640" y="189000"/>
            <a:ext cx="5148360" cy="78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african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clásic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español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folclóric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heavy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jazz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pop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regga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3780000" y="981000"/>
            <a:ext cx="5041800" cy="9367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971640" y="549360"/>
            <a:ext cx="23432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26920" y="1052640"/>
            <a:ext cx="2419560" cy="4360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995640" y="189000"/>
            <a:ext cx="5148360" cy="78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african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clásic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español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folclóric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heavy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jazz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pop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regga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189000"/>
            <a:ext cx="5041800" cy="936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3995640" y="189000"/>
            <a:ext cx="5148360" cy="78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african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clásic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español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folclóric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heavy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jazz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pop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regga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3708360" y="4005360"/>
            <a:ext cx="5041800" cy="936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3384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3995640" y="189000"/>
            <a:ext cx="5148360" cy="78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african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clásic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español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folclóric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heavy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jazz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pop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regga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3708360" y="5589720"/>
            <a:ext cx="5041800" cy="936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38386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3995640" y="189000"/>
            <a:ext cx="5148360" cy="78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african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clásic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español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folclóric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heavy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jazz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pop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regga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3995640" y="2492280"/>
            <a:ext cx="5042160" cy="9367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352908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3995640" y="189000"/>
            <a:ext cx="5148360" cy="78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african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clásic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español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folclóric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heavy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jazz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pop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regga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3780000" y="3284640"/>
            <a:ext cx="5041800" cy="936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3456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3995640" y="189000"/>
            <a:ext cx="5148360" cy="78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african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clásic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español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folclóric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heavy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jazz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pop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regga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1700280"/>
            <a:ext cx="5041800" cy="9367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331308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3995640" y="189000"/>
            <a:ext cx="5148360" cy="78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african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clásic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español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folclórica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heavy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jazz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pop</a:t>
            </a:r>
            <a:br>
              <a:rPr sz="4400"/>
            </a:b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música regga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3708360" y="4797360"/>
            <a:ext cx="5041800" cy="9367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3456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268360" y="189000"/>
            <a:ext cx="2374920" cy="18525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4932360" y="189000"/>
            <a:ext cx="2014560" cy="2014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179280" y="2421000"/>
            <a:ext cx="1944720" cy="1817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179280" y="4508640"/>
            <a:ext cx="3838680" cy="18478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2340000" y="242100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4500720" y="2349360"/>
            <a:ext cx="2236680" cy="4032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>
            <a:off x="7093080" y="2349360"/>
            <a:ext cx="1703160" cy="40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3-07-02T10:44:56Z</dcterms:modified>
  <cp:revision>345</cp:revision>
  <dc:subject/>
  <dc:title>TITLE</dc:title>
</cp:coreProperties>
</file>