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D29A-5B06-42FB-A292-E7032C1776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E0FF-C09B-4EF0-BBDA-D8453009747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7349-D166-4F59-9C35-A8CB79D6D1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7EFD-F61E-4331-B009-3A7A084113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B76F-C38D-446A-BC4C-FBB939C28FD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2701-24BE-4FBA-B7C1-2EA44691CA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B5AD-1688-4C13-86F2-10A1ADDF54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C38F-BD34-43C4-81C6-CFFA1FD94B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48AD-46D6-4DA0-B274-A49AA48306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AAED-1AF3-42D1-916A-924FA9BF67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665-B767-41D4-9EDC-2EC32112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AC8-FDED-45AF-9FD7-AD5F990B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145-BA98-4539-8DA4-A82B0025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139-00A1-4A34-AC27-9243BFB8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574E-5459-4E53-9094-F288922C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CB90-F341-4532-853A-EB7CBCF1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C32E-6D1C-4B2F-9924-BBCDFAB6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D9D7-0EE8-414D-8CC3-FD67C032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AB05-C2BF-4001-953B-6EF76848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59F4-6070-4A25-A6A3-FE380910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7160-1E32-4AAE-8DD9-6DC8F20A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BBA-7B2B-4CD8-A175-A7457D45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D988-347A-4ED3-94A5-2A99AA0E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6B07-2544-498A-9A59-17364F40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BF52-BD4C-4646-A09F-0196D1EA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B5DE-ED0E-4879-BD21-2D264D0B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20A9-1D42-45D8-A11E-2D6D0BE5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B26AF-801E-42E2-9AD8-01716F2D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6ABF9-FF32-4E60-A46B-E3ADA560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E46D3-CA74-40EC-AFFE-1C31B00F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4F2E6-A785-473C-AE7D-B548433E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88A8-A616-48BC-90A6-370737E1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213-EF2D-4B8F-AB6B-7A8DB052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0CC11-4B5B-490D-9D31-51CEA585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01678-04B8-47F3-9A52-4EB589B9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5B708-3505-4482-9A4B-C8F50C9B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42028-37C8-4316-8BA7-683833CB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5A618-462F-484C-8750-EE038566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E1DB3-2944-49CA-9715-418879BB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2B6D1-EF4D-4312-A2B8-A4A89CA5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915-F96A-4D84-A9A1-5B5EE73D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D70-9D71-4671-B370-5589AA68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269-23BC-4095-B9AB-9A5B5D02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FB9-6F0B-4614-8C53-5D60F519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A79-8233-4BCE-8CCF-BBEACC2D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D34-B17C-4A93-B0A5-8EB70C24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E399-B4D2-4930-BAAE-FF22EB05C88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882C-4B5A-44E0-A5FA-0BBF7CD368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5840-5C22-41FD-B940-06B50237A4E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6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189000"/>
            <a:ext cx="514836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african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clás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español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folclór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heavy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jazz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pop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regga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981000"/>
            <a:ext cx="5041800" cy="936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23432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2419560" cy="4360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95640" y="189000"/>
            <a:ext cx="514836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african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clás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español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folclór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heavy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jazz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pop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regga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189000"/>
            <a:ext cx="5041800" cy="93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189000"/>
            <a:ext cx="514836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african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clás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español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folclór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heavy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jazz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pop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regga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4005360"/>
            <a:ext cx="5041800" cy="93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3995640" y="189000"/>
            <a:ext cx="514836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african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clás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español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folclór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heavy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jazz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pop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regga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5589720"/>
            <a:ext cx="5041800" cy="93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3838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3995640" y="189000"/>
            <a:ext cx="514836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african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clás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español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folclór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heavy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jazz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pop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regga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2492280"/>
            <a:ext cx="5042160" cy="936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35290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189000"/>
            <a:ext cx="514836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african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clás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español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folclór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heavy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jazz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pop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regga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780000" y="3284640"/>
            <a:ext cx="5041800" cy="93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189000"/>
            <a:ext cx="514836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african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clás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español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folclór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heavy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jazz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pop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regga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1700280"/>
            <a:ext cx="5041800" cy="936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33130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189000"/>
            <a:ext cx="514836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african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clás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español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folclór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heavy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jazz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pop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regga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3708360" y="4797360"/>
            <a:ext cx="5041800" cy="936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268360" y="189000"/>
            <a:ext cx="2374920" cy="1852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932360" y="18900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179280" y="2421000"/>
            <a:ext cx="1944720" cy="1817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179280" y="4508640"/>
            <a:ext cx="3838680" cy="1847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2340000" y="242100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4500720" y="2349360"/>
            <a:ext cx="2236680" cy="4032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7093080" y="2349360"/>
            <a:ext cx="170316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44:56Z</dcterms:modified>
  <cp:revision>345</cp:revision>
  <dc:subject/>
  <dc:title>TITLE</dc:title>
</cp:coreProperties>
</file>