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283A-75AE-4089-806A-CDECBA5C1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DBD9-9430-4AFA-BB54-30AFE6077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FBAA-29D3-4485-A265-0458F0168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CE89-AFFD-4C78-B393-41EC30ABE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05E67-A238-47AD-8B0F-96D568B19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4F3A5-A8E6-4FA0-A4EE-2AB00C00E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3E786-D02E-4275-B66A-D1B82DD0A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8820D-292A-4D63-AE4D-B263D8E68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B12BA-553A-4FEE-B86C-F71569A31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06C13-9109-4BDA-8679-AA55635F6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EA876-6F2E-4175-B035-913A39ABB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ADA9-757E-4653-BA74-AFCD107AD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AB2C4-B8DD-4E43-94E2-7483B60A4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5AA60-4406-4E4D-942E-6D9629DC5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A27DF-9387-49F4-BACF-3079B7039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0D4A0-C441-4739-A30B-3A33E43CF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AE7F0-BA0E-4BB6-917B-53EF4E5AF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11043-99E1-480A-8CBA-2CE892E32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BE9BB-8BB4-4DBA-BE06-47AF847DA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21B85-3B33-4055-AE80-1E70DA532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5CF78-F173-4520-84B3-9EC02EF10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B8B8D-7318-40DE-80DA-107B9D850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4AC9-B9B4-47F4-976D-1FF5A9016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443C0-C9C2-4AF9-94A7-BBC9E53C3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6DAFB-7A4B-4FF9-9753-75E2361B2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260BA-6B27-4F8B-B446-89FC594FE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7678E-765C-4586-8148-013567FB4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38E2F-9FF7-4E1F-84D5-805380EAC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C5E06-6491-4E3F-A594-B6D0EB81D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6A18C-FCFA-4D72-99A6-CB9A2D2D7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9116-2F5F-4B0F-A019-D7144539B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EF19-3945-40CE-AE8C-3C0A0584D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213D-0E14-4A85-B503-D154DD2A0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6087-CA27-4AD2-8561-C2447457A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2513-A3A3-4D2E-96B6-8454C766B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60D2-6B31-4BBE-9493-46AB5D10F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6FAFE-01A5-46FA-AD5F-08DFA6A63CF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695C0-F957-496E-A95B-529E2891C5F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EE109-359D-43EC-B32F-4CB503DC7386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usicgames.net/livegames/orchestra/orchestra2.htm" TargetMode="External"/><Relationship Id="rId3" Type="http://schemas.openxmlformats.org/officeDocument/2006/relationships/hyperlink" Target="http://www.musicgames.net/livegames/orchestra/orchestra2.htm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rcRect l="5326" t="10336" r="57477" b="9930"/>
          <a:stretch/>
        </p:blipFill>
        <p:spPr>
          <a:xfrm>
            <a:off x="2556000" y="0"/>
            <a:ext cx="399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rcRect l="35251" t="8801" r="35733" b="9923"/>
          <a:stretch/>
        </p:blipFill>
        <p:spPr>
          <a:xfrm>
            <a:off x="2771640" y="0"/>
            <a:ext cx="306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rcRect l="1771" t="8121" r="3138" b="8446"/>
          <a:stretch/>
        </p:blipFill>
        <p:spPr>
          <a:xfrm>
            <a:off x="0" y="189000"/>
            <a:ext cx="9144000" cy="64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rcRect l="2893" t="8121" r="4263" b="11411"/>
          <a:stretch/>
        </p:blipFill>
        <p:spPr>
          <a:xfrm>
            <a:off x="0" y="189000"/>
            <a:ext cx="9144000" cy="63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">
            <a:hlinkClick r:id="rId2"/>
          </p:cNvPr>
          <p:cNvSpPr/>
          <p:nvPr/>
        </p:nvSpPr>
        <p:spPr>
          <a:xfrm>
            <a:off x="3492360" y="1844640"/>
            <a:ext cx="1727280" cy="1655640"/>
          </a:xfrm>
          <a:custGeom>
            <a:avLst/>
            <a:gdLst>
              <a:gd name="textAreaLeft" fmla="*/ 107280 w 1727280"/>
              <a:gd name="textAreaRight" fmla="*/ 1620000 w 1727280"/>
              <a:gd name="textAreaTop" fmla="*/ 107280 h 1655640"/>
              <a:gd name="textAreaBottom" fmla="*/ 1548360 h 1655640"/>
            </a:gdLst>
            <a:ahLst/>
            <a:rect l="textAreaLeft" t="textAreaTop" r="textAreaRight" b="textAreaBottom"/>
            <a:pathLst>
              <a:path w="22534" h="21600">
                <a:moveTo>
                  <a:pt x="0" y="0"/>
                </a:moveTo>
                <a:lnTo>
                  <a:pt x="22534" y="0"/>
                </a:lnTo>
                <a:lnTo>
                  <a:pt x="22534" y="21600"/>
                </a:lnTo>
                <a:lnTo>
                  <a:pt x="0" y="21600"/>
                </a:lnTo>
                <a:close/>
              </a:path>
              <a:path fill="lightenLess" w="22534" h="21600">
                <a:moveTo>
                  <a:pt x="0" y="0"/>
                </a:moveTo>
                <a:lnTo>
                  <a:pt x="22534" y="0"/>
                </a:lnTo>
                <a:lnTo>
                  <a:pt x="21134" y="1400"/>
                </a:lnTo>
                <a:lnTo>
                  <a:pt x="1400" y="1400"/>
                </a:lnTo>
                <a:close/>
              </a:path>
              <a:path fill="darken" w="22534" h="21600">
                <a:moveTo>
                  <a:pt x="22534" y="0"/>
                </a:moveTo>
                <a:lnTo>
                  <a:pt x="22534" y="21600"/>
                </a:lnTo>
                <a:lnTo>
                  <a:pt x="21134" y="20200"/>
                </a:lnTo>
                <a:lnTo>
                  <a:pt x="21134" y="1400"/>
                </a:lnTo>
                <a:close/>
              </a:path>
              <a:path fill="darkenLess" w="22534" h="21600">
                <a:moveTo>
                  <a:pt x="225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34" y="20200"/>
                </a:lnTo>
                <a:close/>
              </a:path>
              <a:path fill="lighten" w="225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2534" h="21600">
                <a:moveTo>
                  <a:pt x="5740" y="3985"/>
                </a:moveTo>
                <a:lnTo>
                  <a:pt x="12738" y="3985"/>
                </a:lnTo>
                <a:lnTo>
                  <a:pt x="16794" y="7484"/>
                </a:lnTo>
                <a:lnTo>
                  <a:pt x="16794" y="17615"/>
                </a:lnTo>
                <a:lnTo>
                  <a:pt x="5740" y="17615"/>
                </a:lnTo>
                <a:close/>
              </a:path>
              <a:path fill="darken" w="22534" h="21600">
                <a:moveTo>
                  <a:pt x="12738" y="3985"/>
                </a:moveTo>
                <a:lnTo>
                  <a:pt x="16794" y="7484"/>
                </a:lnTo>
                <a:lnTo>
                  <a:pt x="12738" y="7484"/>
                </a:lnTo>
                <a:close/>
              </a:path>
            </a:pathLst>
          </a:cu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"/>
          <p:cNvSpPr/>
          <p:nvPr/>
        </p:nvSpPr>
        <p:spPr>
          <a:xfrm>
            <a:off x="1476360" y="4149720"/>
            <a:ext cx="640872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5050"/>
                </a:solidFill>
                <a:uFillTx/>
                <a:latin typeface="Comic Sans MS"/>
                <a:hlinkClick r:id="rId3"/>
              </a:rPr>
              <a:t>http://www.musicgames.net/livegames/orchestra/orchestra2.htm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13-07-02T10:46:55Z</dcterms:modified>
  <cp:revision>357</cp:revision>
  <dc:subject/>
  <dc:title>TITLE</dc:title>
</cp:coreProperties>
</file>