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817-E84D-4BF9-9773-2ECEA261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DA7-DDF4-4A38-A92E-0B210A5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FCB-5A21-45EF-8629-97A4DBBB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F77-DAEC-4986-9111-8088A554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430-18AE-4A6A-A085-38A3454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30F1-6C6E-40D8-BB4F-CE20D411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9B97-3468-44A6-9C9D-3AFA8E98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730E-14A3-4895-B595-A039C439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0AA-C88A-4A57-A4F9-E68A8FD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B12-AFE3-4412-9D45-E2FC3B5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3DCD-3305-419A-A551-ED14CAD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2A4-F951-463C-9C66-796F1D0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DB1C-DD32-4BFA-B66A-ADDE3F8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72F-5DE4-4512-8FBE-2C67A87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3B36-7EFC-413B-9AC7-4F9658D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895D-18CB-459D-8462-5559C60D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014-A210-437C-9662-F6EA8CA6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53B7-9AB3-4660-B94E-8DFAD194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71F5-69E2-4E67-8E98-CCD1A75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DEFD-6784-4CB1-B819-F965834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9CD0-1DF4-4C32-97CA-B98FBE2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ED15-C0D0-4417-ACA6-3B65B55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8BB-2627-4898-97A6-2FFBB30E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F207-7E51-42E9-9249-1BD516B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FB49-A174-4D2C-A8DC-A988EAF3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5A9D-A75D-4054-849C-2CB57C1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4BA1-70A4-44CC-8DAC-9523D77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6C31-56CB-4943-BB6F-91959F3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974A-B5F2-44C5-95C2-4D2C49C9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F942-C59E-42C8-92A6-1605B08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EFA-1E9E-424A-99AA-2130DFD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5F4-A996-4EA3-BAC1-003D95C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DC5-778B-4EEB-8316-C4FEBEBF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ECA-6AEB-4BD1-B53D-22294569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376-6E5C-48EE-8AE3-1D8ECEF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EDE-58EB-465A-90E1-D79A564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241-1A17-43F2-AF60-55C113B17D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708-9BAC-4629-AC27-8CB6A7269D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05B-F26C-4C65-B182-8412B889E58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icgames.net/livegames/orchestra/orchestra2.htm" TargetMode="External"/><Relationship Id="rId3" Type="http://schemas.openxmlformats.org/officeDocument/2006/relationships/hyperlink" Target="http://www.musicgames.net/livegames/orchestra/orchestra2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5326" t="10336" r="57477" b="9930"/>
          <a:stretch/>
        </p:blipFill>
        <p:spPr>
          <a:xfrm>
            <a:off x="255600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35251" t="8801" r="35733" b="9923"/>
          <a:stretch/>
        </p:blipFill>
        <p:spPr>
          <a:xfrm>
            <a:off x="2771640" y="0"/>
            <a:ext cx="30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771" t="8121" r="3138" b="8446"/>
          <a:stretch/>
        </p:blipFill>
        <p:spPr>
          <a:xfrm>
            <a:off x="0" y="18900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893" t="8121" r="4263" b="11411"/>
          <a:stretch/>
        </p:blipFill>
        <p:spPr>
          <a:xfrm>
            <a:off x="0" y="18900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3492360" y="1844640"/>
            <a:ext cx="1727280" cy="1655640"/>
          </a:xfrm>
          <a:custGeom>
            <a:avLst/>
            <a:gdLst>
              <a:gd name="textAreaLeft" fmla="*/ 107280 w 1727280"/>
              <a:gd name="textAreaRight" fmla="*/ 1620000 w 172728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2534" h="21600">
                <a:moveTo>
                  <a:pt x="0" y="0"/>
                </a:moveTo>
                <a:lnTo>
                  <a:pt x="22534" y="0"/>
                </a:lnTo>
                <a:lnTo>
                  <a:pt x="22534" y="21600"/>
                </a:lnTo>
                <a:lnTo>
                  <a:pt x="0" y="21600"/>
                </a:lnTo>
                <a:close/>
              </a:path>
              <a:path fill="lightenLess" w="22534" h="21600">
                <a:moveTo>
                  <a:pt x="0" y="0"/>
                </a:moveTo>
                <a:lnTo>
                  <a:pt x="22534" y="0"/>
                </a:lnTo>
                <a:lnTo>
                  <a:pt x="21134" y="1400"/>
                </a:lnTo>
                <a:lnTo>
                  <a:pt x="1400" y="1400"/>
                </a:lnTo>
                <a:close/>
              </a:path>
              <a:path fill="darken" w="22534" h="21600">
                <a:moveTo>
                  <a:pt x="22534" y="0"/>
                </a:moveTo>
                <a:lnTo>
                  <a:pt x="22534" y="21600"/>
                </a:lnTo>
                <a:lnTo>
                  <a:pt x="21134" y="20200"/>
                </a:lnTo>
                <a:lnTo>
                  <a:pt x="21134" y="1400"/>
                </a:lnTo>
                <a:close/>
              </a:path>
              <a:path fill="darkenLess" w="22534" h="21600">
                <a:moveTo>
                  <a:pt x="22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4" y="20200"/>
                </a:lnTo>
                <a:close/>
              </a:path>
              <a:path fill="lighten" w="22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534" h="21600">
                <a:moveTo>
                  <a:pt x="5740" y="3985"/>
                </a:moveTo>
                <a:lnTo>
                  <a:pt x="12738" y="3985"/>
                </a:lnTo>
                <a:lnTo>
                  <a:pt x="16794" y="7484"/>
                </a:lnTo>
                <a:lnTo>
                  <a:pt x="16794" y="17615"/>
                </a:lnTo>
                <a:lnTo>
                  <a:pt x="5740" y="17615"/>
                </a:lnTo>
                <a:close/>
              </a:path>
              <a:path fill="darken" w="22534" h="21600">
                <a:moveTo>
                  <a:pt x="12738" y="3985"/>
                </a:moveTo>
                <a:lnTo>
                  <a:pt x="16794" y="7484"/>
                </a:lnTo>
                <a:lnTo>
                  <a:pt x="12738" y="7484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4149720"/>
            <a:ext cx="6408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3"/>
              </a:rPr>
              <a:t>http://www.musicgames.net/livegames/orchestra/orchestra2.ht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6:55Z</dcterms:modified>
  <cp:revision>357</cp:revision>
  <dc:subject/>
  <dc:title>TITLE</dc:title>
</cp:coreProperties>
</file>