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0A2-504C-4C5C-B1EF-7A80497587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338C-7D4B-45C0-9D56-F3F5C3BE26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822-09F9-4C7C-8CE3-880D88EA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DA3-5758-4027-90EA-1ADC326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279-6C1F-4995-ADD1-715EE82E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308-0720-42DF-89A8-728C0948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2870-46ED-48EE-8289-61EC0EB9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F4F-F9C7-4F65-9EC8-7CD6A997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DD2-A2EB-4C75-92BE-47B6D8B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2BE-7BC0-4363-9D36-62344DA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0DA4-42AF-4D23-A713-A9C083C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4800-1DE1-4CF5-B7A1-228A9FC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C83F-A71A-4AB8-A126-9E61B1D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798-B93B-4AD5-877E-88C02433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4362-3E5D-425B-83B0-97C475C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5A1F-4522-4BE0-BF57-7BED44A6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BCD2-F8DC-4C97-A125-12D1CE0B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5375-1F99-4816-A172-6C22A058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1383-6569-4F25-8280-9996A8F4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070E-5840-4F49-BA3F-5D06A485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EE1C-8A88-4BE1-AEF9-2D2B9ED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0580-4405-4AF5-9780-D4A397E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D1DC-B623-41A4-ACEC-5DB1188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3B13-AF46-4ED0-90A0-400E042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AE1-2015-48D4-A829-08F9A977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02E5-0009-4AC9-BE5C-87A7561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D4EC-BB13-48A3-8AE9-7AE9B18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1558-F778-4DF9-A33F-85DC9EF8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EB0E-5F99-48DD-9F97-7A43B75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5683-A791-4E06-98D4-D6EDC3CE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12BF-F73D-4B51-B040-0C56CAC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2E1B-01C8-43BE-AC17-A2033081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902-89AA-4FC4-9BB7-AAF5E6BA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812-8F83-4CBC-8D7E-DE2087F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75-C09A-4438-8269-3C017CB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CD9-7631-4F9E-8564-5609420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5C1-930E-45EF-8D09-B80C259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5B0-4FD4-4997-83E8-D1FD9B9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AC5-0B96-4899-AFEC-30A9B3E0A5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FB7-A9BA-4D7B-AF91-42839D76D6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F91-57FF-4F82-891E-C9C34A9A7F9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8543" r="7443" b="4004"/>
          <a:stretch/>
        </p:blipFill>
        <p:spPr>
          <a:xfrm>
            <a:off x="3203640" y="2997360"/>
            <a:ext cx="2303280" cy="217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9973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0"/>
            <a:ext cx="3024360" cy="21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217188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132000" y="0"/>
            <a:ext cx="148932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59280" y="522936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ol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609588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xof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rin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uitar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te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0259E-006 L -0.31094 -0.45421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0259E-006 L -0.37413 -0.44357 E">
                                      <p:cBhvr>
                                        <p:cTn id="1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67808E-007 L -0.00382 -0.59089 E">
                                      <p:cBhvr>
                                        <p:cTn id="1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20259E-006 L -0.04341 -0.00301 E">
                                      <p:cBhvr>
                                        <p:cTn id="1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301 L 0.30712 -0.12627 E">
                                      <p:cBhvr>
                                        <p:cTn id="2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301 L 0.3309 -0.12627 E">
                                      <p:cBhvr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89000"/>
            <a:ext cx="8785440" cy="72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 soy músico y vengo de Madrid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é como tocar, tocar el pi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-pia-piano, piano, pi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-pia-piano, pia-pia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violín    vio-vio-viol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clarinete    clari-clari-clarin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saxofón    saxo-saxo-saxof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guitarra    guita-guita-guitar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batería     bate-bate-bate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6:04Z</dcterms:modified>
  <cp:revision>357</cp:revision>
  <dc:subject/>
  <dc:title>TITLE</dc:title>
</cp:coreProperties>
</file>