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266-28AB-4AEB-8AEF-681C0D5B94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5A29-AE04-43DE-BD72-63CE4F7B99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C5B-669C-4224-B5EF-F728B802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284-D8E7-4D85-B267-138F594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706-D7F9-41D7-A401-DE5034BE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A82-F332-4973-9B4F-AFCBB185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968-D9DF-441C-82C4-3A468BE6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87D6-33DF-4283-9014-CC7752EF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53A3-611B-44B4-970F-9FADAB5E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74C-563A-4833-B067-EE53BE1E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A58-6D9B-4A42-BB41-EFA8F46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5F02-E357-4DCC-B6B8-B4A5CAB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EDA7-98E2-48B2-9FD2-D50BF12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C38-8B89-4B82-90D0-77FB2B9F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CD42-B581-4A47-B48F-CDD19869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ED5-076B-4C7A-932A-597573D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C9EC-DD58-4E17-84D2-7EDB4E93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6CDC-8D67-4C4F-B7FF-847D19E1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483-7C62-4BEA-9CEA-F5F6F21A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738D-DB28-4516-BF98-D209B94F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A815-FC3F-4656-9A2E-D76078A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07D8-DA1E-455A-B44B-F9C09DC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60D2-C895-4E92-9B2C-B0E13F8B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B7EC-23CC-4E44-9AD2-CB4A58AE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66D-CD90-49D0-98CE-D56B465A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EAD5-42C2-4555-9C78-C5BEC7A5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93A1-CB44-493E-9DFA-8ACFAAE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CFFD-9705-42A2-BAC8-195293B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4F0D-5B7D-4B32-8A7B-59421C6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748B-F050-488C-B87B-78E83B2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482D-0F1F-42A9-9269-0959DBFA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9398-6E50-42ED-8F22-9C770A38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DC3-CF63-4FDC-BAA8-1FF95BEB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D1D-8EAF-4C4D-9D0C-F6E1E5A3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6B5-51D4-4BE6-A278-5945E713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2CD-97C8-40AC-8B75-32E0E31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FA3-A277-447D-A7F1-3483F97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BE7-8402-47FA-94E0-F14AC9A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DCFE-DE71-423B-AAAA-61F1436688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6E8-3167-41E2-82A5-B81269177A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3C8-CEB4-4531-AE59-CB7C07C0105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8543" r="7443" b="4004"/>
          <a:stretch/>
        </p:blipFill>
        <p:spPr>
          <a:xfrm>
            <a:off x="3203640" y="2997360"/>
            <a:ext cx="2303280" cy="217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997360"/>
            <a:ext cx="2808000" cy="21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0"/>
            <a:ext cx="3024360" cy="21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95280" y="0"/>
            <a:ext cx="217188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132000" y="0"/>
            <a:ext cx="148932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59280" y="522936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522936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olí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609588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xof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522936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rin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609588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uitar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609588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te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0259E-006 L -0.31094 -0.45421 E">
                                      <p:cBhvr>
                                        <p:cTn id="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0259E-006 L -0.37413 -0.44357 E">
                                      <p:cBhvr>
                                        <p:cTn id="1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67808E-007 L -0.00382 -0.59089 E">
                                      <p:cBhvr>
                                        <p:cTn id="1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20259E-006 L -0.04341 -0.00301 E">
                                      <p:cBhvr>
                                        <p:cTn id="1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301 L 0.30712 -0.12627 E">
                                      <p:cBhvr>
                                        <p:cTn id="2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301 L 0.3309 -0.12627 E">
                                      <p:cBhvr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89000"/>
            <a:ext cx="8785440" cy="72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 soy músico y vengo de Madrid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é como tocar, tocar el pi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a-pia-piano, piano, pian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a-pia-piano, pia-pia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violín    vio-vio-violí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clarinete    clari-clari-clarin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saxofón    saxo-saxo-saxof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guitarra    guita-guita-guitar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batería     bate-bate-bate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3-07-02T10:46:04Z</dcterms:modified>
  <cp:revision>357</cp:revision>
  <dc:subject/>
  <dc:title>TITLE</dc:title>
</cp:coreProperties>
</file>