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F6A-D501-4D4E-8EB4-B2FD3F1098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E325-191C-4C3B-9874-CD456EF4A9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D13D-7BA8-4992-8E12-B320CA5DD8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E6D1-0189-46D5-BFFF-A170855586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B943-1429-4FD9-9C00-1ADCE3F58A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AA06-36D5-4577-B056-B8282E443B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81A1-4962-4B78-8769-A84E1E534F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72B7-3625-479E-8713-C9B0F466C5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132C-9A16-4C9C-97A4-9ECDB161A1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91F5-343E-4A5C-ADF7-C9A00A504E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EF84-606C-465D-AE1C-FBFFB33AFD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3C69-8D9D-4A0D-9816-6F5F9FB9AC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E70D-7271-40C5-8E31-9E61B6C4FB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1A7-A5F0-4356-B108-902E333D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281-31F1-4FFF-A0E4-399D352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A71-3D78-4221-9070-CA22412D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E51-17EB-421C-A9AE-863C25D3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1B828-9C8A-422C-B9FB-48BD1B0462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3692C-4836-4F47-BB88-6FBBB86DE9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8E1BE-33FA-4AA6-AAB3-0CD02BA897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C8548-10E5-4A75-AAEC-E361768C96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E030C-FDEC-48AE-8B9E-12D8F69062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7CC58-DF98-47E6-8698-1B432A9D11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0F7DD-C485-458F-9944-56F112C56A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A2C-8546-4867-B1AD-C9AF0B1A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CED44-844B-4601-A5C7-0D77A7A3E9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48210-F66A-4E5B-BCFA-083A0A3C16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5F5B8-2CF2-4E08-9AE0-54EB370E13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1C81C-D2EA-4E34-88DD-ABB125297C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67F67-9668-4F45-BDB2-4B0042F05B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29685-C2B1-475C-9AEE-148FB314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E30D15-AD92-433F-9443-FAABE079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6B57A-AAAA-446B-8770-FADC8883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B3B38-5AE6-4FFB-8F5F-7EE9EFBD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7C588-342B-4FF6-B395-87B0148B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4CD-2BDE-47A4-851E-D9028BFA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F20E6C-4190-4711-A643-313ABDE8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3FECD-C024-4DAF-B646-CD720315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61C08-2F3C-487A-AEE8-BAD7A11A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3E741-84C7-4755-9321-519D9A8A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02761-C87A-47ED-94A5-40AA3012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81C3F-6F93-4376-93F1-1B4127CA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63263-720C-4CB1-9EFB-7558CB04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1F0A4-7BBD-4228-AC76-B411C1DB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D3947-ED95-4FA0-B063-BA5A6B47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75761-4EBA-47D6-A477-A155883E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03C-2427-48AA-B1AE-A0089845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1E921-D003-434D-882B-6E5498AD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C0A35-109B-4470-9C14-DFA4290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D799D-7E4C-444A-B33A-0E247BDB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7E7B3-3D45-4CE4-8C1C-93AAA20F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D6557-EBA6-49F7-8C31-25F1168A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88FE9-ACF3-4512-8EB2-17D74695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CF4BC-62A4-41B2-ACF7-E8FEDED1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340CC-B1FB-4EA4-8701-7147E186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02E16-BD8A-408F-8B68-5BC8C0D8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EC5-2D6B-4AF2-895C-B52532A0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4C0-7580-47B5-BA72-799FC0EE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A70-164E-4A3A-B85A-33AFDFCD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F50-D72B-426E-9C6D-226A1ED0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6E8-8CD8-4D17-B0E5-A73681F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9787-55C9-45C8-8086-334C50DD26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B47F-8A2E-4217-8694-C4A135B9726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B68A-CA4C-4045-81C6-8B9CE92E07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5DCF-39C0-4B08-B895-6147570FC920}" type="slidenum"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rcRect l="13965" t="0" r="0" b="0"/>
          <a:stretch/>
        </p:blipFill>
        <p:spPr>
          <a:xfrm>
            <a:off x="-66600" y="1773360"/>
            <a:ext cx="6003720" cy="43606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Negr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6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4356000" y="4581360"/>
            <a:ext cx="4710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a0000"/>
                </a:solidFill>
                <a:latin typeface="Comic Sans MS"/>
                <a:ea typeface="ＭＳ Ｐゴシック"/>
              </a:rPr>
              <a:t>Se llama </a:t>
            </a:r>
            <a:r>
              <a:rPr b="0" lang="en-GB" sz="4400" spc="-1" strike="noStrike" u="sng">
                <a:solidFill>
                  <a:srgbClr val="9a0000"/>
                </a:solidFill>
                <a:uFillTx/>
                <a:latin typeface="Comic Sans MS"/>
                <a:ea typeface="ＭＳ Ｐゴシック"/>
              </a:rPr>
              <a:t>Negro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  <a:ea typeface="ＭＳ Ｐゴシック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a0000"/>
                </a:solidFill>
                <a:latin typeface="Comic Sans MS"/>
                <a:ea typeface="ＭＳ Ｐゴシック"/>
              </a:rPr>
              <a:t>Tiene </a:t>
            </a:r>
            <a:r>
              <a:rPr b="0" lang="en-GB" sz="4400" spc="-1" strike="noStrike" u="sng">
                <a:solidFill>
                  <a:srgbClr val="9a0000"/>
                </a:solidFill>
                <a:uFillTx/>
                <a:latin typeface="Comic Sans MS"/>
                <a:ea typeface="ＭＳ Ｐゴシック"/>
              </a:rPr>
              <a:t>sesenta y dos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  <a:ea typeface="ＭＳ Ｐゴシック"/>
              </a:rPr>
              <a:t>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Blan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-1314360" y="1563840"/>
            <a:ext cx="7399080" cy="46242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5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marill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-1281240" y="1700280"/>
            <a:ext cx="7221600" cy="45147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4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ulticolo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-1368360" y="1547640"/>
            <a:ext cx="7380360" cy="46134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79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zul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-1297080" y="1692360"/>
            <a:ext cx="7201080" cy="4498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9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arró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-1224000" y="1628640"/>
            <a:ext cx="7308720" cy="45673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88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Ver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-1208160" y="1700280"/>
            <a:ext cx="7075440" cy="4422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4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Gri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-1332000" y="1617840"/>
            <a:ext cx="7344000" cy="45892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6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Naranj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-1260360" y="1628640"/>
            <a:ext cx="7308720" cy="45673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3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os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-1206360" y="1581120"/>
            <a:ext cx="7308720" cy="45673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7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Violet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-1332000" y="1527120"/>
            <a:ext cx="7488360" cy="4680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9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oj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-1206360" y="1628640"/>
            <a:ext cx="7308720" cy="45673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1:50Z</dcterms:modified>
  <cp:revision>252</cp:revision>
  <dc:subject/>
  <dc:title>TITLE</dc:title>
</cp:coreProperties>
</file>