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BE99-6B71-40C6-B8EA-B551984EFD2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7B1E-4A6F-412A-B63F-9DB03F48460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4424-2398-4B85-9FDD-90A722A5D40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6DB5-D2B2-4F02-9095-B38344859A6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6275-669B-485F-83A2-16EE2C4CB1C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E107-056C-48AF-AFDD-96729CFE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0B52-703B-4F80-A4C6-C1B90C15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987-B170-41B0-8FC4-C15B87EA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C97-368C-4125-A37B-04003A91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DDF6-FC3F-471D-A467-7C8B1ABE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6B97-EC64-48E2-BD99-76E89174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BB65-21F1-4397-A60D-8BB19929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F2E9-D84A-4B02-96FF-5BAB3A97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8D1D-F91E-4204-AFB5-BD8B08E1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ABCB-3538-4C46-AAF3-26F65051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8999-9355-4BCE-9447-C6A33039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99B8-C53F-45C8-B6D7-393464BF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6CF4-F132-4FC2-AAC3-E79523E8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2CEA-016E-491D-ACDD-86ACDCAB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6CCD-728D-4F9A-BEDE-069B5B0E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244E-088E-4FB0-8813-DAA4B7DC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14ED-CC2C-47EE-95C4-09D344F3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BB6B4-09E7-4468-8A1B-9B73051C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8BBF0-019B-4BBB-BE21-1DDF8501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5C158-0A07-4958-B008-F64612DF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4F25F-09FA-4F84-8C55-9C16BCAB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9E6D0-826A-43A2-83F9-27959210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D241-E22B-4150-90F2-FFB3CA6A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FD473-70F1-4F52-86CB-71436B08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E6D86-BD8B-4D7C-BE20-F93C2388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CA991-710D-445D-AA9A-3B03C30D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3EF23-5073-4936-AC4C-298030E5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EEDBB-9474-4E20-8350-66B2E83A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6EC52-90B5-4BCB-AB0B-12BD5DD0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23C8F-43C3-430A-9201-FA68EC00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9CC3-E854-4154-8CCB-60291823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D357-6A4B-4D64-947C-E02EB7E6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78F-AE56-4BA2-B28E-0BB5535D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BAAF-6D67-4A1A-9B28-3A338155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B44-2E81-40EF-A18D-1F5217ED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E67-1979-4B68-9526-31B5F23D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0EE5-944E-42AF-B420-3BE4905210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734F-DB9A-46A5-980F-C30A043ED2D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5FED-586A-429C-8815-9C2C6809345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-396720" y="1673280"/>
            <a:ext cx="5184720" cy="51847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179280" y="115920"/>
            <a:ext cx="885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e llama Maribel.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4356000" y="299736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iene … año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179280" y="115920"/>
            <a:ext cx="885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e llama Alfredo.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4356000" y="299736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iene … año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181080" y="1563840"/>
            <a:ext cx="400680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179280" y="115920"/>
            <a:ext cx="885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e llama Josefina.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4356000" y="299736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iene … año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-468360" y="1268280"/>
            <a:ext cx="2759040" cy="55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179280" y="115920"/>
            <a:ext cx="885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e llama Francisco.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4356000" y="299736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iene … año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Oval 5"/>
          <p:cNvSpPr/>
          <p:nvPr/>
        </p:nvSpPr>
        <p:spPr>
          <a:xfrm>
            <a:off x="1258920" y="2349360"/>
            <a:ext cx="720720" cy="503280"/>
          </a:xfrm>
          <a:prstGeom prst="ellipse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Oval 6"/>
          <p:cNvSpPr/>
          <p:nvPr/>
        </p:nvSpPr>
        <p:spPr>
          <a:xfrm>
            <a:off x="1403280" y="2852640"/>
            <a:ext cx="5763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rcRect l="57037" t="0" r="0" b="0"/>
          <a:stretch/>
        </p:blipFill>
        <p:spPr>
          <a:xfrm>
            <a:off x="611280" y="1563840"/>
            <a:ext cx="17604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1-23T09:45:02Z</dcterms:modified>
  <cp:revision>229</cp:revision>
  <dc:subject/>
  <dc:title>TITLE</dc:title>
</cp:coreProperties>
</file>