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04DF4-2024-4D82-B79F-5606559F5CA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8CA13-A8C8-4D33-8153-2C46BDA0302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9B278-0466-49AE-AB12-47375CDB6A9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F90A-270B-43C1-B1CF-155CEFC6366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874D9-D443-43C1-9A3E-6ADA5759DBE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BCFC-4123-407E-9C34-B2D1F649B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3085-0E07-48AF-A912-C17F0C32B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67B4-EC32-487E-947A-CD732AD66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DFCD-CB35-4370-BF9B-8EEEAF16A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AD40B-EE83-4BBB-BB65-93BF729AB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D19D1-3F0F-400F-8660-D1AA05041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AAABB-9468-4D30-AE20-2DE6BC599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08869-247A-40C5-A5E7-520B2B43A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4A2C0-1A09-4F11-BC05-70DD919F4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B0B48-B099-41E9-BC40-43E4F60E7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42108-558A-4613-AF0E-4E73993B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6B5E-7E36-47A9-8361-815BDE502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3747F-86D1-4483-AB00-D43411F1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35690-4AD4-463F-B8B1-658D56FD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CE970-2B26-4C26-96EB-15F33C9D0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A9D51-CF37-479F-8D37-27A15F580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E552C-1452-49D6-8AF4-28F8FB7F9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D425D-3693-4CAB-A0DB-6842FE793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6CF6F-96BB-4274-8F27-0563A82C4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4CA39-2349-4938-A3F2-35B7FA211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0FA92-E95C-4566-AF05-D518D602A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65EF5-69EF-4ED5-805B-2C2610F44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3D1B-2FE0-46E7-BB72-4621528F3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49074-B4CE-4392-9CF9-993BAB967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A5794-9195-455B-A8B3-7AA5A016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01435-D6B4-46EF-B096-A214E40D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558B2-BD9A-4C04-83E0-76D20A6C2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0E9AE-3DA5-4274-928C-67D1125D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2030B-D908-443F-93A2-CDE0DE00A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DC334-D7A7-43ED-8F08-1CCD5BD7A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91FC-9766-4D2C-9E7B-184F7B00F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9A7F-4AB3-4CE3-B06B-AEDA6F6BB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5B47-0874-4F4A-AB97-1AF1D9D3F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9F99-DBAC-4F37-8EB3-D9C67ADB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57E4-A692-4C65-B350-D359D4B3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4311-2C18-419F-A9C4-0E23CA2F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C8868-4763-409C-B066-4AD34C3A27C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03164-BCB3-4805-BBD1-5B95A0D2ECF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69A0A-E928-4A6D-9D95-8D1674805934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1" name="Picture 1" descr=""/>
          <p:cNvPicPr/>
          <p:nvPr/>
        </p:nvPicPr>
        <p:blipFill>
          <a:blip r:embed="rId1"/>
          <a:stretch/>
        </p:blipFill>
        <p:spPr>
          <a:xfrm>
            <a:off x="-396720" y="1673280"/>
            <a:ext cx="5184720" cy="5184720"/>
          </a:xfrm>
          <a:prstGeom prst="rect">
            <a:avLst/>
          </a:prstGeom>
          <a:ln w="0">
            <a:noFill/>
          </a:ln>
        </p:spPr>
      </p:pic>
      <p:sp>
        <p:nvSpPr>
          <p:cNvPr id="132" name="TextBox 3"/>
          <p:cNvSpPr/>
          <p:nvPr/>
        </p:nvSpPr>
        <p:spPr>
          <a:xfrm>
            <a:off x="179280" y="115920"/>
            <a:ext cx="885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Se llama Maribel.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¿Cuántos años tiene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4356000" y="2997360"/>
            <a:ext cx="468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Tiene … año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TextBox 3"/>
          <p:cNvSpPr/>
          <p:nvPr/>
        </p:nvSpPr>
        <p:spPr>
          <a:xfrm>
            <a:off x="179280" y="115920"/>
            <a:ext cx="885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Se llama Alfredo.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¿Cuántos años tiene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4356000" y="2997360"/>
            <a:ext cx="468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Tiene … año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-181080" y="1563840"/>
            <a:ext cx="4006800" cy="56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TextBox 3"/>
          <p:cNvSpPr/>
          <p:nvPr/>
        </p:nvSpPr>
        <p:spPr>
          <a:xfrm>
            <a:off x="179280" y="115920"/>
            <a:ext cx="885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Se llama Josefina.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¿Cuántos años tiene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TextBox 4"/>
          <p:cNvSpPr/>
          <p:nvPr/>
        </p:nvSpPr>
        <p:spPr>
          <a:xfrm>
            <a:off x="4356000" y="2997360"/>
            <a:ext cx="468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Tiene … año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1" name="Picture 1" descr=""/>
          <p:cNvPicPr/>
          <p:nvPr/>
        </p:nvPicPr>
        <p:blipFill>
          <a:blip r:embed="rId1"/>
          <a:stretch/>
        </p:blipFill>
        <p:spPr>
          <a:xfrm>
            <a:off x="-468360" y="1268280"/>
            <a:ext cx="2759040" cy="551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TextBox 3"/>
          <p:cNvSpPr/>
          <p:nvPr/>
        </p:nvSpPr>
        <p:spPr>
          <a:xfrm>
            <a:off x="179280" y="115920"/>
            <a:ext cx="885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Se llama Francisco.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¿Cuántos años tiene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4356000" y="2997360"/>
            <a:ext cx="468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Tiene … año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Oval 5"/>
          <p:cNvSpPr/>
          <p:nvPr/>
        </p:nvSpPr>
        <p:spPr>
          <a:xfrm>
            <a:off x="1258920" y="2349360"/>
            <a:ext cx="720720" cy="503280"/>
          </a:xfrm>
          <a:prstGeom prst="ellipse">
            <a:avLst/>
          </a:prstGeom>
          <a:solidFill>
            <a:srgbClr val="fffff7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Oval 6"/>
          <p:cNvSpPr/>
          <p:nvPr/>
        </p:nvSpPr>
        <p:spPr>
          <a:xfrm>
            <a:off x="1403280" y="2852640"/>
            <a:ext cx="576360" cy="576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rcRect l="57037" t="0" r="0" b="0"/>
          <a:stretch/>
        </p:blipFill>
        <p:spPr>
          <a:xfrm>
            <a:off x="611280" y="1563840"/>
            <a:ext cx="176040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0-11-23T09:45:02Z</dcterms:modified>
  <cp:revision>229</cp:revision>
  <dc:subject/>
  <dc:title>TITLE</dc:title>
</cp:coreProperties>
</file>