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9F73-58D9-4D69-81CB-975038EA436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C667-F2F9-4507-A0AC-A6780EF6DFC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FA04-5985-41E5-A752-B1B6DEABFA9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5AEF-6155-49C0-9724-997462C7564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68E0-1339-4F0C-915B-44A81F58048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75F-B7B3-4D29-9E67-22B0C85D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75D2-8E49-41FA-97AD-64015623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8864-C96A-490D-B530-0F829234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4E33-907D-417B-ABD7-89A989C9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7F34-782B-4CBD-9A11-E916AB77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C82-C9BF-4EE7-8216-4EBF53EA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8E14-D9E3-41D8-9F98-C14C08DB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E01-D01A-4FA5-BF8B-B0CE43BD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87BA-B7C4-42FF-A2B0-B8E43123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4E16-8230-477E-B5E5-D3961FF0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7598-94EC-4FEA-A1E3-917A7B93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42B7-2434-4EDB-A4C6-933F3E84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FB69-E48E-492A-8BB2-FBF2A97FD1F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108000" y="1609560"/>
            <a:ext cx="897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fffffa"/>
                </a:solidFill>
                <a:latin typeface="Comic Sans MS"/>
                <a:ea typeface="Arial"/>
              </a:rPr>
              <a:t>a  e  o</a:t>
            </a:r>
            <a:endParaRPr b="0" lang="en-US" sz="1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108000" y="1609560"/>
            <a:ext cx="897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fffffa"/>
                </a:solidFill>
                <a:latin typeface="Comic Sans MS"/>
                <a:ea typeface="Arial"/>
              </a:rPr>
              <a:t>a  e  o</a:t>
            </a:r>
            <a:endParaRPr b="0" lang="en-US" sz="1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Up Arrow 1"/>
          <p:cNvSpPr/>
          <p:nvPr/>
        </p:nvSpPr>
        <p:spPr>
          <a:xfrm>
            <a:off x="1547640" y="4290840"/>
            <a:ext cx="863640" cy="1008360"/>
          </a:xfrm>
          <a:prstGeom prst="upArrow">
            <a:avLst>
              <a:gd name="adj1" fmla="val 50000"/>
              <a:gd name="adj2" fmla="val 50010"/>
            </a:avLst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108000" y="1609560"/>
            <a:ext cx="897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fffffa"/>
                </a:solidFill>
                <a:latin typeface="Comic Sans MS"/>
                <a:ea typeface="Arial"/>
              </a:rPr>
              <a:t>a  e  o</a:t>
            </a:r>
            <a:endParaRPr b="0" lang="en-US" sz="1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Up Arrow 1"/>
          <p:cNvSpPr/>
          <p:nvPr/>
        </p:nvSpPr>
        <p:spPr>
          <a:xfrm>
            <a:off x="4164120" y="4149720"/>
            <a:ext cx="863640" cy="1008000"/>
          </a:xfrm>
          <a:prstGeom prst="upArrow">
            <a:avLst>
              <a:gd name="adj1" fmla="val 50000"/>
              <a:gd name="adj2" fmla="val 49993"/>
            </a:avLst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108000" y="1609560"/>
            <a:ext cx="897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fffffa"/>
                </a:solidFill>
                <a:latin typeface="Comic Sans MS"/>
                <a:ea typeface="Arial"/>
              </a:rPr>
              <a:t>a  e  o</a:t>
            </a:r>
            <a:endParaRPr b="0" lang="en-US" sz="1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Up Arrow 1"/>
          <p:cNvSpPr/>
          <p:nvPr/>
        </p:nvSpPr>
        <p:spPr>
          <a:xfrm>
            <a:off x="6732720" y="4076640"/>
            <a:ext cx="863640" cy="1008000"/>
          </a:xfrm>
          <a:prstGeom prst="upArrow">
            <a:avLst>
              <a:gd name="adj1" fmla="val 50000"/>
              <a:gd name="adj2" fmla="val 49993"/>
            </a:avLst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9280" y="1268280"/>
          <a:ext cx="3672000" cy="5329440"/>
        </p:xfrm>
        <a:graphic>
          <a:graphicData uri="http://schemas.openxmlformats.org/drawingml/2006/table">
            <a:tbl>
              <a:tblPr/>
              <a:tblGrid>
                <a:gridCol w="503280"/>
                <a:gridCol w="3168720"/>
              </a:tblGrid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b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61" name="TextBox 2"/>
          <p:cNvSpPr/>
          <p:nvPr/>
        </p:nvSpPr>
        <p:spPr>
          <a:xfrm>
            <a:off x="179280" y="2602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,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,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or … something else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95640" y="1268280"/>
          <a:ext cx="3672000" cy="5329440"/>
        </p:xfrm>
        <a:graphic>
          <a:graphicData uri="http://schemas.openxmlformats.org/drawingml/2006/table">
            <a:tbl>
              <a:tblPr/>
              <a:tblGrid>
                <a:gridCol w="503280"/>
                <a:gridCol w="3168720"/>
              </a:tblGrid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 _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ct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P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bl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9280" y="1268280"/>
          <a:ext cx="3672000" cy="5329440"/>
        </p:xfrm>
        <a:graphic>
          <a:graphicData uri="http://schemas.openxmlformats.org/drawingml/2006/table">
            <a:tbl>
              <a:tblPr/>
              <a:tblGrid>
                <a:gridCol w="503280"/>
                <a:gridCol w="3168720"/>
              </a:tblGrid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b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65" name="TextBox 2"/>
          <p:cNvSpPr/>
          <p:nvPr/>
        </p:nvSpPr>
        <p:spPr>
          <a:xfrm>
            <a:off x="179280" y="2602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,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,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or … something else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995640" y="1268280"/>
          <a:ext cx="3672000" cy="5329440"/>
        </p:xfrm>
        <a:graphic>
          <a:graphicData uri="http://schemas.openxmlformats.org/drawingml/2006/table">
            <a:tbl>
              <a:tblPr/>
              <a:tblGrid>
                <a:gridCol w="503280"/>
                <a:gridCol w="3168720"/>
              </a:tblGrid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 _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ct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P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bl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67" name="TextBox 3"/>
          <p:cNvSpPr/>
          <p:nvPr/>
        </p:nvSpPr>
        <p:spPr>
          <a:xfrm>
            <a:off x="1258920" y="17733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2411280" y="17733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1476360" y="357336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2124000" y="35733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2700360" y="357336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826920" y="53244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1835280" y="53244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4643280" y="17733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5261040" y="17953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6300720" y="177336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4716360" y="35244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5292720" y="357336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18"/>
          <p:cNvSpPr/>
          <p:nvPr/>
        </p:nvSpPr>
        <p:spPr>
          <a:xfrm>
            <a:off x="6012000" y="35733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Box 19"/>
          <p:cNvSpPr/>
          <p:nvPr/>
        </p:nvSpPr>
        <p:spPr>
          <a:xfrm>
            <a:off x="5076720" y="531828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20"/>
          <p:cNvSpPr/>
          <p:nvPr/>
        </p:nvSpPr>
        <p:spPr>
          <a:xfrm>
            <a:off x="5940360" y="53244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9280" y="1268280"/>
          <a:ext cx="3672000" cy="5329440"/>
        </p:xfrm>
        <a:graphic>
          <a:graphicData uri="http://schemas.openxmlformats.org/drawingml/2006/table">
            <a:tbl>
              <a:tblPr/>
              <a:tblGrid>
                <a:gridCol w="503280"/>
                <a:gridCol w="3168720"/>
              </a:tblGrid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rmen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e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b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84" name="TextBox 2"/>
          <p:cNvSpPr/>
          <p:nvPr/>
        </p:nvSpPr>
        <p:spPr>
          <a:xfrm>
            <a:off x="179280" y="2602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asculine or feminin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95640" y="1268280"/>
          <a:ext cx="3672000" cy="5329440"/>
        </p:xfrm>
        <a:graphic>
          <a:graphicData uri="http://schemas.openxmlformats.org/drawingml/2006/table">
            <a:tbl>
              <a:tblPr/>
              <a:tblGrid>
                <a:gridCol w="503280"/>
                <a:gridCol w="3168720"/>
              </a:tblGrid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écto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en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bl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9280" y="1268280"/>
          <a:ext cx="3672000" cy="5329440"/>
        </p:xfrm>
        <a:graphic>
          <a:graphicData uri="http://schemas.openxmlformats.org/drawingml/2006/table">
            <a:tbl>
              <a:tblPr/>
              <a:tblGrid>
                <a:gridCol w="503280"/>
                <a:gridCol w="3168720"/>
              </a:tblGrid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rmen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e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b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88" name="TextBox 2"/>
          <p:cNvSpPr/>
          <p:nvPr/>
        </p:nvSpPr>
        <p:spPr>
          <a:xfrm>
            <a:off x="179280" y="2602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asculine or feminin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995640" y="1268280"/>
          <a:ext cx="3672000" cy="5329440"/>
        </p:xfrm>
        <a:graphic>
          <a:graphicData uri="http://schemas.openxmlformats.org/drawingml/2006/table">
            <a:tbl>
              <a:tblPr/>
              <a:tblGrid>
                <a:gridCol w="503280"/>
                <a:gridCol w="3168720"/>
              </a:tblGrid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écto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en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bl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90" name="Picture 3" descr=""/>
          <p:cNvPicPr/>
          <p:nvPr/>
        </p:nvPicPr>
        <p:blipFill>
          <a:blip r:embed="rId1"/>
          <a:srcRect l="7654" t="26912" r="79291" b="44089"/>
          <a:stretch/>
        </p:blipFill>
        <p:spPr>
          <a:xfrm>
            <a:off x="6496200" y="3500280"/>
            <a:ext cx="596880" cy="85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rcRect l="71742" t="24551" r="16326" b="52137"/>
          <a:stretch/>
        </p:blipFill>
        <p:spPr>
          <a:xfrm>
            <a:off x="2916360" y="3586320"/>
            <a:ext cx="582480" cy="73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3"/>
          <a:srcRect l="45923" t="62533" r="42247" b="18738"/>
          <a:stretch/>
        </p:blipFill>
        <p:spPr>
          <a:xfrm>
            <a:off x="2830680" y="5373720"/>
            <a:ext cx="753840" cy="771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4"/>
          <a:srcRect l="34665" t="24810" r="54836" b="52580"/>
          <a:stretch/>
        </p:blipFill>
        <p:spPr>
          <a:xfrm>
            <a:off x="6357960" y="5338800"/>
            <a:ext cx="554040" cy="771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5"/>
          <a:srcRect l="58552" t="37890" r="30631" b="42098"/>
          <a:stretch/>
        </p:blipFill>
        <p:spPr>
          <a:xfrm>
            <a:off x="3138480" y="1844640"/>
            <a:ext cx="662040" cy="792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"/>
          <p:cNvPicPr/>
          <p:nvPr/>
        </p:nvPicPr>
        <p:blipFill>
          <a:blip r:embed="rId6"/>
          <a:srcRect l="22823" t="56316" r="67490" b="23385"/>
          <a:stretch/>
        </p:blipFill>
        <p:spPr>
          <a:xfrm>
            <a:off x="6912000" y="1773360"/>
            <a:ext cx="584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31:54Z</dcterms:modified>
  <cp:revision>189</cp:revision>
  <dc:subject/>
  <dc:title>TITLE</dc:title>
</cp:coreProperties>
</file>