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F750-FA39-46F5-A335-82693DF89D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0670-9D12-4538-8C50-701F94044A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5829-EBC9-49D7-B30B-52F818C4E7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DB2E-B652-46C3-878C-8650834F16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B1FC-C987-4B62-BE49-C1955788E6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D8F-6A6D-4A43-832B-A2DAE806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773-D869-411B-9E22-8086FE47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644-5167-4000-8A3B-20BF16F4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60B-8523-4E17-8069-C53D4820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EB4-F0FE-47BD-8CA8-E5719720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A4C-D923-4F8F-9F57-639AFF0A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48B-95E6-44A6-9B15-66084E78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8A7-3290-45D2-A7C2-0C19AE52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B68-2814-4B67-A640-26BE7140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EAC-6398-4BC5-BE71-5ED2767D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EEE-D00D-4DEE-9F16-06C9060D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50C-BD31-40DD-92B1-7D51D606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A807-84F0-46CB-AC75-EA8BCD7988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08000" y="1609560"/>
            <a:ext cx="897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a"/>
                </a:solidFill>
                <a:latin typeface="Comic Sans MS"/>
                <a:ea typeface="Arial"/>
              </a:rPr>
              <a:t>a  e  o</a:t>
            </a:r>
            <a:endParaRPr b="0" lang="en-US" sz="1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108000" y="1609560"/>
            <a:ext cx="897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a"/>
                </a:solidFill>
                <a:latin typeface="Comic Sans MS"/>
                <a:ea typeface="Arial"/>
              </a:rPr>
              <a:t>a  e  o</a:t>
            </a:r>
            <a:endParaRPr b="0" lang="en-US" sz="1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Up Arrow 1"/>
          <p:cNvSpPr/>
          <p:nvPr/>
        </p:nvSpPr>
        <p:spPr>
          <a:xfrm>
            <a:off x="1547640" y="4290840"/>
            <a:ext cx="863640" cy="100836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108000" y="1609560"/>
            <a:ext cx="897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a"/>
                </a:solidFill>
                <a:latin typeface="Comic Sans MS"/>
                <a:ea typeface="Arial"/>
              </a:rPr>
              <a:t>a  e  o</a:t>
            </a:r>
            <a:endParaRPr b="0" lang="en-US" sz="1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Up Arrow 1"/>
          <p:cNvSpPr/>
          <p:nvPr/>
        </p:nvSpPr>
        <p:spPr>
          <a:xfrm>
            <a:off x="4164120" y="4149720"/>
            <a:ext cx="863640" cy="1008000"/>
          </a:xfrm>
          <a:prstGeom prst="upArrow">
            <a:avLst>
              <a:gd name="adj1" fmla="val 50000"/>
              <a:gd name="adj2" fmla="val 49993"/>
            </a:avLst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08000" y="1609560"/>
            <a:ext cx="897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a"/>
                </a:solidFill>
                <a:latin typeface="Comic Sans MS"/>
                <a:ea typeface="Arial"/>
              </a:rPr>
              <a:t>a  e  o</a:t>
            </a:r>
            <a:endParaRPr b="0" lang="en-US" sz="1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Up Arrow 1"/>
          <p:cNvSpPr/>
          <p:nvPr/>
        </p:nvSpPr>
        <p:spPr>
          <a:xfrm>
            <a:off x="6732720" y="4076640"/>
            <a:ext cx="863640" cy="1008000"/>
          </a:xfrm>
          <a:prstGeom prst="upArrow">
            <a:avLst>
              <a:gd name="adj1" fmla="val 50000"/>
              <a:gd name="adj2" fmla="val 49993"/>
            </a:avLst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667640" y="6093000"/>
            <a:ext cx="147636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b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1" name="TextBox 2"/>
          <p:cNvSpPr/>
          <p:nvPr/>
        </p:nvSpPr>
        <p:spPr>
          <a:xfrm>
            <a:off x="179280" y="2602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,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,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r … something els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9564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 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ct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bl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M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b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5" name="TextBox 2"/>
          <p:cNvSpPr/>
          <p:nvPr/>
        </p:nvSpPr>
        <p:spPr>
          <a:xfrm>
            <a:off x="179280" y="2602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,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,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or … something els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9564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 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ct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P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r>
                        <a:rPr b="0" lang="en-GB" sz="4800" spc="-1" strike="noStrike">
                          <a:solidFill>
                            <a:srgbClr val="404040"/>
                          </a:solidFill>
                          <a:latin typeface="Comic Sans MS"/>
                        </a:rPr>
                        <a:t>bl</a:t>
                      </a:r>
                      <a:r>
                        <a:rPr b="0" lang="en-GB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7" name="TextBox 3"/>
          <p:cNvSpPr/>
          <p:nvPr/>
        </p:nvSpPr>
        <p:spPr>
          <a:xfrm>
            <a:off x="1258920" y="1773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411280" y="1773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1476360" y="357336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2124000" y="3573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700360" y="357336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826920" y="5324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1835280" y="5324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4643280" y="1773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5261040" y="17953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6300720" y="177336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4716360" y="3524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5292720" y="357336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6012000" y="3573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5076720" y="531828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5940360" y="53244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me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e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b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4" name="TextBox 2"/>
          <p:cNvSpPr/>
          <p:nvPr/>
        </p:nvSpPr>
        <p:spPr>
          <a:xfrm>
            <a:off x="179280" y="2602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asculine or feminin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9564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écto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n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bl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me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e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b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8" name="TextBox 2"/>
          <p:cNvSpPr/>
          <p:nvPr/>
        </p:nvSpPr>
        <p:spPr>
          <a:xfrm>
            <a:off x="179280" y="2602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asculine or feminin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95640" y="1268280"/>
          <a:ext cx="3672000" cy="5329440"/>
        </p:xfrm>
        <a:graphic>
          <a:graphicData uri="http://schemas.openxmlformats.org/drawingml/2006/table">
            <a:tbl>
              <a:tblPr/>
              <a:tblGrid>
                <a:gridCol w="503280"/>
                <a:gridCol w="3168720"/>
              </a:tblGrid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écto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n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776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bl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3" descr=""/>
          <p:cNvPicPr/>
          <p:nvPr/>
        </p:nvPicPr>
        <p:blipFill>
          <a:blip r:embed="rId1"/>
          <a:srcRect l="7654" t="26912" r="79291" b="44089"/>
          <a:stretch/>
        </p:blipFill>
        <p:spPr>
          <a:xfrm>
            <a:off x="6496200" y="3500280"/>
            <a:ext cx="596880" cy="85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rcRect l="71742" t="24551" r="16326" b="52137"/>
          <a:stretch/>
        </p:blipFill>
        <p:spPr>
          <a:xfrm>
            <a:off x="2916360" y="3586320"/>
            <a:ext cx="582480" cy="73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rcRect l="45923" t="62533" r="42247" b="18738"/>
          <a:stretch/>
        </p:blipFill>
        <p:spPr>
          <a:xfrm>
            <a:off x="2830680" y="537372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4"/>
          <a:srcRect l="34665" t="24810" r="54836" b="52580"/>
          <a:stretch/>
        </p:blipFill>
        <p:spPr>
          <a:xfrm>
            <a:off x="6357960" y="5338800"/>
            <a:ext cx="554040" cy="771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rcRect l="58552" t="37890" r="30631" b="42098"/>
          <a:stretch/>
        </p:blipFill>
        <p:spPr>
          <a:xfrm>
            <a:off x="3138480" y="1844640"/>
            <a:ext cx="662040" cy="7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6"/>
          <a:srcRect l="22823" t="56316" r="67490" b="23385"/>
          <a:stretch/>
        </p:blipFill>
        <p:spPr>
          <a:xfrm>
            <a:off x="6912000" y="1773360"/>
            <a:ext cx="584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1:54Z</dcterms:modified>
  <cp:revision>189</cp:revision>
  <dc:subject/>
  <dc:title>TITLE</dc:title>
</cp:coreProperties>
</file>