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A03-004A-4171-83B4-675317531D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689-5B0D-498B-BB8C-4454F799CF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6195-9280-492D-9D6B-1604B4DFD0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CB6-AE90-4169-9C22-C461D542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D85-F479-4F25-B7DB-89A8BA27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A56-D76D-41BB-8EB2-AA9E324B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312-BAF6-4D82-8C45-7B3A23E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37A-CB0A-4A22-B012-984832AA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525-23E3-456C-8553-4EB9C48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FC9-5FA9-4453-9D34-1451521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AC3-3E18-40D6-9B4A-788F01AC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683-4B90-401F-AB90-7EA1047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02D-F5A3-4AB8-B7FB-8BBB835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74C-65B3-4D8F-BDD9-B5A95C2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C8F-81C3-41D8-80F2-9EE2F11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396E-9917-4AD9-B66F-405CBCB54A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952560"/>
                <a:gridCol w="3225600"/>
                <a:gridCol w="951120"/>
                <a:gridCol w="3224160"/>
              </a:tblGrid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p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illerm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oni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gu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u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car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ejandr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zal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istóba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naci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952560"/>
                <a:gridCol w="3225600"/>
                <a:gridCol w="951120"/>
                <a:gridCol w="3224160"/>
              </a:tblGrid>
              <a:tr h="85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í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gar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ab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i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lo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é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mi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4:56Z</dcterms:modified>
  <cp:revision>110</cp:revision>
  <dc:subject/>
  <dc:title>TITLE</dc:title>
</cp:coreProperties>
</file>