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4FE-B2B4-4D72-A086-B322C83222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52FD-0E89-47D3-9601-26BD227349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921-9F70-40C1-9BF3-B6B7B3BA75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276-6D09-475D-AC48-79CBAE6D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D32-C6B0-4C1D-B39B-D60FF335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EE5-8B21-4372-B9B7-AEBBD14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2EB-A23A-43D5-B094-7F8009F7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D9D-7200-41E8-819E-72BBB6A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81E-C3AE-42BD-ABFC-4EF3B93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C1F-A164-4DF0-AF22-1ABF188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DF7-839A-4710-88ED-9CF152E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893-07D8-4DE0-9F42-A3275F13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0FF-AC55-46B0-8B9D-BA6D60C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B76-0886-43D4-A1D7-3C04A44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848-4A16-4C5C-AC50-F75C911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1F14-155B-4CB9-A54E-0BDDD58376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952560"/>
                <a:gridCol w="3225600"/>
                <a:gridCol w="951120"/>
                <a:gridCol w="3224160"/>
              </a:tblGrid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p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illerm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oni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gu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u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car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ejandr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zal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istóba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naci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952560"/>
                <a:gridCol w="3225600"/>
                <a:gridCol w="951120"/>
                <a:gridCol w="3224160"/>
              </a:tblGrid>
              <a:tr h="85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í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gari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ab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i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lo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é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mi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4:56Z</dcterms:modified>
  <cp:revision>110</cp:revision>
  <dc:subject/>
  <dc:title>TITLE</dc:title>
</cp:coreProperties>
</file>