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574-7353-4ABA-A5A6-F52DAA60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CA7-23A8-40B3-B9E8-17C441D7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836-D909-410A-AD64-C3398FDC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0A6-D8CE-427B-B550-54BBE7E8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DDA-6D14-4C68-AAA6-D2E1B8C9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40B-FC22-4EE2-BF93-D404FDBE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42C-C6D2-4CB4-AF20-D6FBDEA2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F20-5A0D-43A3-83BB-8D194ACD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AF3-DD48-43E3-9A5B-312FC36B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146-8DF3-4FC5-9223-5BFC611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C2A-70CB-4708-81C1-ACC23784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030-8F0B-4FEB-847F-CAD75EB4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70B9-B7FD-4D08-A68F-93B777B11D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260280"/>
            <a:ext cx="446400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26028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501336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189000"/>
            <a:ext cx="5616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836640"/>
            <a:ext cx="5616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1557360"/>
            <a:ext cx="5616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2276640"/>
            <a:ext cx="5616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2924280"/>
            <a:ext cx="5616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3645000"/>
            <a:ext cx="5616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4292640"/>
            <a:ext cx="5616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89000"/>
            <a:ext cx="4176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nd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ath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w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ka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iathl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189000"/>
            <a:ext cx="540072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lonman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mara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re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correr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atinaje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triatl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camin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5013360"/>
            <a:ext cx="5616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18308" t="18919" r="17620" b="13043"/>
          <a:stretch/>
        </p:blipFill>
        <p:spPr>
          <a:xfrm>
            <a:off x="179280" y="476280"/>
            <a:ext cx="8785440" cy="5830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26028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1052640"/>
            <a:ext cx="5400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170028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34936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306864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3716280"/>
            <a:ext cx="5400360" cy="475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260280"/>
            <a:ext cx="324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dmint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eb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x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nc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noe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f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ntath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60280"/>
            <a:ext cx="5400360" cy="4786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admintón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éisbol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boxe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la esgrima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iragüismo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golf</a:t>
            </a:r>
            <a:br>
              <a:rPr sz="4400"/>
            </a:br>
            <a:r>
              <a:rPr b="0" lang="en-GB" sz="4400" spc="-1" strike="noStrike">
                <a:solidFill>
                  <a:srgbClr val="000099"/>
                </a:solidFill>
                <a:latin typeface="Comic Sans MS"/>
              </a:rPr>
              <a:t>el pentat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4481640"/>
            <a:ext cx="5400360" cy="47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8:03Z</dcterms:modified>
  <cp:revision>155</cp:revision>
  <dc:subject/>
  <dc:title>TITLE</dc:title>
</cp:coreProperties>
</file>