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9C5-9255-4888-A77D-654BFBC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142-F978-4A97-A2C1-AE7D8C0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431-1373-41E1-8FEB-85E7846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6E1-6381-40C0-B972-355F94C2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63B-A414-44A2-BD13-5D2C591C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C30-3F40-4AE8-8631-11EBCDF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E65-4B5B-420B-83DC-B37A86C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AB4-FE3F-48C7-90B9-A2AB5587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363-0CAA-4B89-9F5E-7FC507D2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E32-6148-46E1-A5AB-3F7D0C7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8D6-3255-4D14-B635-19107C5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7C4-BE36-4DD0-994A-1FCF8E3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D2FF-FDF6-4F92-B267-8CEEED1281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60280"/>
            <a:ext cx="446400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26028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01336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8900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83664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155736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227664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292428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364500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429264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501336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18308" t="18919" r="17620" b="13043"/>
          <a:stretch/>
        </p:blipFill>
        <p:spPr>
          <a:xfrm>
            <a:off x="179280" y="476280"/>
            <a:ext cx="8785440" cy="583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60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052640"/>
            <a:ext cx="5400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1700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34936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306864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3716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4481640"/>
            <a:ext cx="5400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8:03Z</dcterms:modified>
  <cp:revision>155</cp:revision>
  <dc:subject/>
  <dc:title>TITLE</dc:title>
</cp:coreProperties>
</file>