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4DFC-16F3-422E-8B76-E03A359F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FE3-D8CA-486C-99CA-EFEBE3DF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EB2-74CB-4C74-BC82-ED292690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0DD-31A5-4E00-A882-98FBF0BF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54A-FB6D-4207-B98F-780935B0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06E-32EA-4D19-BDE0-91F39601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1E3-661A-4C82-9B28-990E22A9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6C7-A6D7-4F80-ACC2-5BD16B14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C99-07A1-4263-95C7-74B9B874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5A3-C02C-4ED2-B950-EF9ABAB1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169-3534-491B-9A0B-F13F9807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5AD-FB0E-4D7D-A42B-27E7CF71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E86E-EEDE-4F79-A95E-056F78DF33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7.png"/><Relationship Id="rId17" Type="http://schemas.openxmlformats.org/officeDocument/2006/relationships/image" Target="../media/image9.png"/><Relationship Id="rId18" Type="http://schemas.openxmlformats.org/officeDocument/2006/relationships/image" Target="../media/image8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7"/>
          <a:stretch/>
        </p:blipFill>
        <p:spPr>
          <a:xfrm>
            <a:off x="692460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9"/>
          <a:stretch/>
        </p:blipFill>
        <p:spPr>
          <a:xfrm>
            <a:off x="5784840" y="5950080"/>
            <a:ext cx="874800" cy="65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10"/>
          <a:stretch/>
        </p:blipFill>
        <p:spPr>
          <a:xfrm>
            <a:off x="5008680" y="6022800"/>
            <a:ext cx="544320" cy="511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11"/>
          <a:stretch/>
        </p:blipFill>
        <p:spPr>
          <a:xfrm>
            <a:off x="4260960" y="6175440"/>
            <a:ext cx="527040" cy="349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12"/>
          <a:stretch/>
        </p:blipFill>
        <p:spPr>
          <a:xfrm>
            <a:off x="2075040" y="3741840"/>
            <a:ext cx="2269800" cy="278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13"/>
          <a:stretch/>
        </p:blipFill>
        <p:spPr>
          <a:xfrm>
            <a:off x="4019400" y="4400640"/>
            <a:ext cx="1262160" cy="101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14"/>
          <a:stretch/>
        </p:blipFill>
        <p:spPr>
          <a:xfrm>
            <a:off x="5207040" y="488484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15"/>
          <a:stretch/>
        </p:blipFill>
        <p:spPr>
          <a:xfrm>
            <a:off x="6732720" y="5246640"/>
            <a:ext cx="753840" cy="528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16"/>
          <a:stretch/>
        </p:blipFill>
        <p:spPr>
          <a:xfrm>
            <a:off x="7494480" y="522756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17"/>
          <a:stretch/>
        </p:blipFill>
        <p:spPr>
          <a:xfrm>
            <a:off x="6308640" y="3147840"/>
            <a:ext cx="1119240" cy="771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18"/>
          <a:stretch/>
        </p:blipFill>
        <p:spPr>
          <a:xfrm>
            <a:off x="6732720" y="602784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/>
          <p:cNvPicPr/>
          <p:nvPr/>
        </p:nvPicPr>
        <p:blipFill>
          <a:blip r:embed="rId19"/>
          <a:stretch/>
        </p:blipFill>
        <p:spPr>
          <a:xfrm>
            <a:off x="5508720" y="6102360"/>
            <a:ext cx="874440" cy="65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20"/>
          <a:stretch/>
        </p:blipFill>
        <p:spPr>
          <a:xfrm>
            <a:off x="4788000" y="6302520"/>
            <a:ext cx="544320" cy="51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"/>
          <p:cNvPicPr/>
          <p:nvPr/>
        </p:nvPicPr>
        <p:blipFill>
          <a:blip r:embed="rId21"/>
          <a:stretch/>
        </p:blipFill>
        <p:spPr>
          <a:xfrm>
            <a:off x="4067280" y="6392880"/>
            <a:ext cx="527040" cy="34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"/>
          <p:cNvPicPr/>
          <p:nvPr/>
        </p:nvPicPr>
        <p:blipFill>
          <a:blip r:embed="rId22"/>
          <a:stretch/>
        </p:blipFill>
        <p:spPr>
          <a:xfrm>
            <a:off x="755640" y="4043520"/>
            <a:ext cx="22701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0:05Z</dcterms:modified>
  <cp:revision>147</cp:revision>
  <dc:subject/>
  <dc:title>TITLE</dc:title>
</cp:coreProperties>
</file>