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DF5-692D-4A50-A1E8-5018623B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4F4-4DC1-4512-AC39-90A434AA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4C6-5245-4999-B301-88711459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E1C-66F3-4295-B07E-B92FC9E4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C7B-7128-46AC-9A45-B2CBD1F9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749-203C-4656-B90E-DCB3E12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DD1-9885-4BBA-8027-71A6F480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3D5-2F1C-4D5F-848E-0F002FF7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871-7FC9-4C2C-A665-FFB433B4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2C9-1E77-44EA-95E9-909BCD8A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B84-8A77-4885-BED9-F29A1911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E2B-2DAE-42EC-8D7F-242E88C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2CA2-1683-47B9-AE88-54D24A72EE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7.png"/><Relationship Id="rId17" Type="http://schemas.openxmlformats.org/officeDocument/2006/relationships/image" Target="../media/image9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7"/>
          <a:stretch/>
        </p:blipFill>
        <p:spPr>
          <a:xfrm>
            <a:off x="692460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10"/>
          <a:stretch/>
        </p:blipFill>
        <p:spPr>
          <a:xfrm>
            <a:off x="5008680" y="602280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11"/>
          <a:stretch/>
        </p:blipFill>
        <p:spPr>
          <a:xfrm>
            <a:off x="4260960" y="6175440"/>
            <a:ext cx="527040" cy="349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12"/>
          <a:stretch/>
        </p:blipFill>
        <p:spPr>
          <a:xfrm>
            <a:off x="2075040" y="3741840"/>
            <a:ext cx="2269800" cy="27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13"/>
          <a:stretch/>
        </p:blipFill>
        <p:spPr>
          <a:xfrm>
            <a:off x="4019400" y="4400640"/>
            <a:ext cx="1262160" cy="101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14"/>
          <a:stretch/>
        </p:blipFill>
        <p:spPr>
          <a:xfrm>
            <a:off x="5207040" y="488484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15"/>
          <a:stretch/>
        </p:blipFill>
        <p:spPr>
          <a:xfrm>
            <a:off x="6732720" y="5246640"/>
            <a:ext cx="753840" cy="5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16"/>
          <a:stretch/>
        </p:blipFill>
        <p:spPr>
          <a:xfrm>
            <a:off x="7494480" y="522756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7"/>
          <a:stretch/>
        </p:blipFill>
        <p:spPr>
          <a:xfrm>
            <a:off x="6308640" y="3147840"/>
            <a:ext cx="1119240" cy="771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18"/>
          <a:stretch/>
        </p:blipFill>
        <p:spPr>
          <a:xfrm>
            <a:off x="6732720" y="602784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19"/>
          <a:stretch/>
        </p:blipFill>
        <p:spPr>
          <a:xfrm>
            <a:off x="5508720" y="6102360"/>
            <a:ext cx="874440" cy="65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20"/>
          <a:stretch/>
        </p:blipFill>
        <p:spPr>
          <a:xfrm>
            <a:off x="4788000" y="630252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"/>
          <p:cNvPicPr/>
          <p:nvPr/>
        </p:nvPicPr>
        <p:blipFill>
          <a:blip r:embed="rId21"/>
          <a:stretch/>
        </p:blipFill>
        <p:spPr>
          <a:xfrm>
            <a:off x="4067280" y="6392880"/>
            <a:ext cx="527040" cy="34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"/>
          <p:cNvPicPr/>
          <p:nvPr/>
        </p:nvPicPr>
        <p:blipFill>
          <a:blip r:embed="rId22"/>
          <a:stretch/>
        </p:blipFill>
        <p:spPr>
          <a:xfrm>
            <a:off x="755640" y="4043520"/>
            <a:ext cx="22701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0:05Z</dcterms:modified>
  <cp:revision>147</cp:revision>
  <dc:subject/>
  <dc:title>TITLE</dc:title>
</cp:coreProperties>
</file>