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04FA-A1BF-471A-B23C-025DBBF62A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71C0-DC70-41D2-8E0F-76AC08572C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4D1D-99D4-48D6-A626-49023A4B0F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7860-7C82-46EC-9609-28141ED273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714C-CE41-41D4-B223-ED85B0E48C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EE5B-4AC1-490F-9BFA-C6A03816A1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7F63-1792-4CDE-BAD0-3C3DE5D445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9F0-2C0F-4F87-B72B-02671A4F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FE9-626C-47A3-8564-2FC83B7B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F3C-13E7-4E22-B3D3-B6CF13C5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50C-19EE-43F8-BDB9-F34BC442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C17D-423A-43E6-951D-F797D1F1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58C6-038E-463A-8A3C-C704C9B6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D80A-04C1-455E-BB01-ED31AD04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2E5A-CE52-4FAF-BAFF-2AA4BA0F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42A0-097E-46C5-A75B-1567C1A9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60FA-BAF0-464A-BEAC-2ED6BEEC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4F39-6D41-476E-B83D-11FE89C4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69C-2FD1-47AF-9D82-A491701E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FF91-B2AC-4B96-AEAE-FE49A13A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8C1E-8A6B-4C51-BA1E-0AD9AA12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FDFD-A1F9-49D2-8CFD-FCDF59CF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FF0A-F608-457C-B16B-90359B79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9136-41CD-478B-B7CD-11CD20B4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D31FA-6A0A-4953-B0D9-216B997A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8AD96-5917-4947-8CB8-699CE0BA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BF76-C143-4A82-B659-3D81E375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D21B6-6DBE-428B-BC8E-9A3048AC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1C9A-6021-428F-A1A8-4F8CFC20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E71-84DA-4A2E-A32E-AA94DA98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6C03-84F7-4A86-8602-5BA365A5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93D6-0A45-4DFB-AB70-4E8A9088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5E4D-5290-4716-932F-D35003DD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C9FC-B628-47CD-A890-768B4C42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6650-0185-48A5-A0BF-26C7D61C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148E-202F-47CD-B750-3FA31946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E4331-D37D-4B7C-BED7-BC08E232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ADA29-D41A-4355-BD5B-61927F0F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A164D-B423-4F11-A591-FF2E1381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C2704-50BA-47AA-88B1-A6625F9F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8B1-81C5-4415-90FE-420E4301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96363-81D1-4EE1-8735-92303972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A08D-6E22-4A2C-B646-D8E44D67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28CDC-C431-4D34-B105-F86D1FA9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6C642-1005-4FCC-8219-2133EC40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BEEE9-2373-437D-A229-DC751E6B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52AEE-FF0E-4E52-B296-5CBBA3E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C3BE9-FD5B-441F-9E41-6C815DE9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74542-D7FC-42C4-9DB0-391CF3A7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8164D-495E-4677-B161-44B08581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65DA8-A523-499D-A44D-07EEE84F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C7D-E665-4687-89E8-575CF865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AAD0A-2BC3-48CC-966B-1B84711F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9BBED-7B06-4744-B856-C2901EDD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1F6FF-0029-44F8-9084-6FBB4C9D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86B6E-072C-477B-95F6-50AA91DA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3E374-2245-497B-810B-CC1EBA29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6022E-8D8D-4742-986B-D2A08A39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FB83A-6149-40C2-9F9A-485ACD8F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09C3D-D44A-415F-8E97-06B104E1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B7B65-FDFD-442F-B57E-186043D6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9FCB6-B5F1-4EAA-A9C4-3C062DAD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66E-6F0E-4C4F-8D49-1DDD4E53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AF5DA-9121-4B8F-A135-2808A1A8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CD0C4-0267-4CF5-BA52-DD2ACE68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FAC44-4171-4F10-8B40-20997483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DA0B0-5DCE-46DC-ABB1-76FA64F7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BA3A-A2BF-4369-8855-0C868349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7A420-3AB7-48B1-8732-5F7FB170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F6A6-4B47-4D90-BFB5-E592BDFF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DB4D-1ECC-4EAF-B7E7-5D32CD2D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05102-1D03-4722-8724-66F6FA68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14693-CB09-4200-813D-83A99230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93C-1A88-43FC-A589-A17ACDCD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48313-F399-4F42-BC6C-7174CA42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49A17-A0DD-46B0-82BC-6818A59D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865AF-DBCA-4B8F-B74C-D8D337C6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F20-E2AE-4651-932E-B8C7AA11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B24-BE32-4A19-BF54-1689714D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1F25-D1DC-41C8-B009-D33AE55073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C9F0-3050-4F59-A54E-ECA2DE314B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A687-D0E7-4002-B69D-3AD393502D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A0B4-30F6-4E8D-B9D6-6737F7C12C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0B92-6608-4FE5-A733-5A511F4726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88A4-5D22-4606-A576-9A57FF0655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61928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708360" y="2565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63528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5796000" y="2565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72436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1619280" y="2565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7308720" y="765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403280" y="476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5508720" y="3645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2843280" y="4724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148360" y="1628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63640" y="3860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7308720" y="476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3640" y="5205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5508720" y="4437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619280" y="3860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6659640" y="23050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595520" y="620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1763640" y="45068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435640" y="836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3851280" y="23922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7:26:36Z</dcterms:modified>
  <cp:revision>110</cp:revision>
  <dc:subject/>
  <dc:title>TITLE</dc:title>
</cp:coreProperties>
</file>