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A6CA-5575-4BEB-9C40-49CA817E76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F6C8-F5A3-4FEA-AEBA-0F3C19FB489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9FE2-80AE-4011-9A9E-53F15FD445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561C-95C4-434B-9892-2412386D05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50BC-F8F0-46E1-AA97-FF74603BC5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5A32-8AC0-47A7-A582-D70A14094E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2518-03F7-48F7-833B-E29E6D577C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F0B-C6F0-4541-A612-4491217F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EA1-2CE7-4340-A50E-EC56F402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857-F026-4EB2-ABA2-35726508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89B-BF26-4C3B-A2BE-35B9FE9F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B01A-319B-4215-B1A3-AA0D4F2A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207E-576E-4068-835D-1C393515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2886-A90B-4B42-B23C-69BB7162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8600-D774-41B6-818D-6506BA6C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F3D8-9B42-432B-AE55-297C7373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06FF-9332-4187-87FD-DA7660E8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62C9-6FDE-4CD0-BE81-8C0469D0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2F4-D3FD-470C-9C63-ACCBAB12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8E1F-4D16-47B5-BFD8-80AAA58A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1C57-427A-4ECD-88E5-D6151B25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5186-60B9-42FC-BAEF-A54346AA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0EA6-335D-4EB1-BC38-2420CE5E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0769-9F43-43FB-8354-1EEB3CBA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D617-5EE6-46F4-BA67-2E52DF4C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F1BF1-9EF7-4BC8-864D-83CBDDEA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FA430-1ABF-4700-8C9E-805235F4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6A847-722A-401C-B678-F0FD5A26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2FC3E-F6BD-457A-98C6-44BCF715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9E0-FB30-4B26-8035-97D07521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C088-6CB3-4A5F-8EFB-D353D92C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789FC-225C-4083-BD0A-A85CBA81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41960-97FE-40D2-994B-6A2B3F89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6009A-8B55-4270-9500-4147F8D5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76AE7-0E96-4F97-9E65-CD065E9B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764D6-F885-42AE-B342-4E0B5DF4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4B2E8-38EA-4BA2-BB8B-8688D8CD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A2651-BCE3-4053-86CA-8AB2F252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D8776-31CF-4924-A055-B2C38A62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73913-2D07-4B92-946F-47F7FCD4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1F1-D586-4682-8540-8C17CB9D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FDF4B-94FE-49B3-9EF1-BEFF5F29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2D22E-6E44-4AFA-AC96-5ABF9BEA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2DEBD-63C1-4973-8DC2-22167886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A73CA-EA62-456D-A836-4E18A6FB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2FD25-C3F1-4523-98DA-C2908242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D24D5-F381-4196-B2CB-D0E403DA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60224-BCE6-4725-984F-B5A66FE8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BA795-D675-4F76-AF04-D1955331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10C7B-A9F1-4B4E-A86A-6D7AEA99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F158B-BC01-4449-A178-6955CD2C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542-678D-4511-A28D-954CB0ED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43717-020E-4142-87AA-95706E56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66782-FB6A-4800-81F8-3584B0D8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2A5C1-3400-4470-A9CD-9A43A887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ED0F-9330-4C94-A56E-5E6801A9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6851C-F1DE-4204-859B-BE154592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A1FDE-1DC1-4016-8DBE-14FB56CB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70B9E-7379-4191-A939-3C31F99E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FF3E3-96E2-43D1-BB22-8AD08A3B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7638D-675F-488A-A782-2387894B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5A3FF-4045-4702-9AE8-D3B9ECFD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976-D082-4F25-BE7D-BD8A4E85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116A8-88D3-43DF-84D8-86D7DA6B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F73F1-BAEA-46C0-836D-FBE88649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0C958-0732-4D7D-BC4E-82B1787A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E863E-775B-4487-9524-3913019D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83612-6D72-4671-8EC3-5981461B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A2774-2880-4998-A77B-6C3C59C3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B0C94-0568-45B8-A0D1-FDC77FC1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3EA07-6614-4B38-B546-4BFB7B75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18022-B842-444C-A512-E35B8573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D80DD-0684-4709-8C7D-5130636B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238-C95B-46CE-841C-11C0DDEB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89356-EF35-409F-AEED-B6888E90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7CB13-BA77-4BAF-AEA2-8A3CD73A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B7B81-58CA-43A6-A2DB-1F332746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140-016B-4BB2-8E9F-31DE4A20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5FB-CAA5-4B9F-BA87-19464020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4FDD-7E6E-49CA-A43A-4F4237B9D2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1E8A-3268-482F-8BE1-6930A21D11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CC44-435E-47C4-8211-8DAE1BB9BC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E604-3162-4982-AF72-B16F6BBD6B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9633-7B1E-41A4-8378-BFED04E64E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5777-8AA4-4A33-919E-D4D07DE8096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619280" y="549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708360" y="2565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635280" y="549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5796000" y="2565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5724360" y="549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1619280" y="2565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7308720" y="765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403280" y="476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5508720" y="3645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2843280" y="4724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5148360" y="1628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63640" y="3860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7308720" y="476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3640" y="5205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5508720" y="44370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619280" y="3860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6659640" y="23050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595520" y="620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1763640" y="45068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435640" y="836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3851280" y="239220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7:26:36Z</dcterms:modified>
  <cp:revision>110</cp:revision>
  <dc:subject/>
  <dc:title>TITLE</dc:title>
</cp:coreProperties>
</file>