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8B72-EF9E-444A-900A-D402B93249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1908-FAFB-4C85-9EC8-6DE41426C4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9C2-4371-4BB7-9DA8-F37A7D13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516-C84B-4837-B1E6-2D87C32C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0D2-A4DA-475A-943F-DFF17C41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ABA-44E6-4BAF-AA2B-22FE30CD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FDC-030B-4F70-A6C4-948AC558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ADC-BEF0-4D69-9E4E-5D1286C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B72-D376-4191-8105-053496CD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C83-824E-4C14-80B9-E3C9B42C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B96-4B86-43C0-B367-E2541E67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9B3-4271-42BF-A7F3-63E190A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A33-7724-437D-9DC1-E0842EF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26A-AED8-4C21-AAC5-15F10C24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EC26-550F-4024-9273-2DD0E895EF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36440"/>
          <a:ext cx="8928000" cy="65851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2"/>
          <p:cNvSpPr/>
          <p:nvPr/>
        </p:nvSpPr>
        <p:spPr>
          <a:xfrm>
            <a:off x="7236000" y="5921280"/>
            <a:ext cx="2089080" cy="89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2-14T08:30:33Z</dcterms:modified>
  <cp:revision>108</cp:revision>
  <dc:subject/>
  <dc:title>TITLE</dc:title>
</cp:coreProperties>
</file>