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73A3-F8AD-4302-8B65-8B0E68A395D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54FA-00A5-4849-9F07-244D53DA067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8178-F39D-4CCB-8ED8-95A1DB4A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E22D-36F5-41E6-93E8-B5705340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394B-D238-4F4A-8C7E-8A376575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AB48-AE57-49B0-A5EE-C94D5110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1728-DE0B-4692-87CC-283EF030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99C4-12C3-480F-9C1A-43CD2816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BABA-B3C4-433D-B37E-ACD3A0B4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8B32-D59D-4296-9456-CB6D477A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CE4D-3B03-4C07-AB07-5AD1347D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F841-D694-4AC7-8983-3D0E9AA9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0BD1-D0BD-45C3-995D-1F2164EF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E40D-16C7-4316-867F-499E18A4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D890-AA9F-4477-BC3E-AC7966B23DF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8000" y="136440"/>
          <a:ext cx="8928000" cy="65851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922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2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2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2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2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2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2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2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" name="Rectangle 2"/>
          <p:cNvSpPr/>
          <p:nvPr/>
        </p:nvSpPr>
        <p:spPr>
          <a:xfrm>
            <a:off x="7236000" y="5921280"/>
            <a:ext cx="2089080" cy="89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2-14T08:30:33Z</dcterms:modified>
  <cp:revision>108</cp:revision>
  <dc:subject/>
  <dc:title>TITLE</dc:title>
</cp:coreProperties>
</file>