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A8FA-2AFE-4A4C-B481-E44631B128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36C-BBD9-4C13-9F1B-2610D6BFAF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FD83-4D2C-40FC-9199-4CCD6D934A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6CE-FD74-4A19-83AF-B6B83FE8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B2B-A3B8-4B79-8395-31A420A1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FC3-BC71-402D-BF52-F48AB603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991-CD41-4894-ACA2-C0B8EC0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84F-0B3B-42BD-97B3-85D940D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449-12BF-4A04-A17E-88B17153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3E4-03E2-4079-97EA-316BAC69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669-CA4A-4DFA-8999-3E7DD27F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129-2439-45E8-851C-84C48FC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5AC-3C86-428D-A28A-3834293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0FD-66EA-469A-8230-F285171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182-E966-4FC2-B279-380A5CF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3C5-40D9-4C4C-9559-AD0069043D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ounded Rectangular Callout 1"/>
          <p:cNvSpPr/>
          <p:nvPr/>
        </p:nvSpPr>
        <p:spPr>
          <a:xfrm>
            <a:off x="324000" y="333360"/>
            <a:ext cx="5040000" cy="1943280"/>
          </a:xfrm>
          <a:prstGeom prst="wedgeRoundRectCallout">
            <a:avLst>
              <a:gd name="adj1" fmla="val 38736"/>
              <a:gd name="adj2" fmla="val 93513"/>
              <a:gd name="adj3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Qué número tienes, por favo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ular Callout 5"/>
          <p:cNvSpPr/>
          <p:nvPr/>
        </p:nvSpPr>
        <p:spPr>
          <a:xfrm>
            <a:off x="3581280" y="3429000"/>
            <a:ext cx="5040360" cy="1944720"/>
          </a:xfrm>
          <a:prstGeom prst="wedgeRoundRectCallout">
            <a:avLst>
              <a:gd name="adj1" fmla="val -48990"/>
              <a:gd name="adj2" fmla="val 105449"/>
              <a:gd name="adj3" fmla="val 16667"/>
            </a:avLst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go el número ____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24000" y="260280"/>
            <a:ext cx="8640720" cy="2196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bie tiene el número d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lynn tiene el número och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2573280"/>
            <a:ext cx="8640720" cy="4115880"/>
          </a:xfrm>
          <a:prstGeom prst="rect">
            <a:avLst/>
          </a:prstGeom>
          <a:solidFill>
            <a:srgbClr val="ffff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 cer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  sei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1  o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 un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  siet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  do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do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  och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3  tre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 t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  nuev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4  cato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cuatr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 diez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 ci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3:44Z</dcterms:modified>
  <cp:revision>88</cp:revision>
  <dc:subject/>
  <dc:title>TITLE</dc:title>
</cp:coreProperties>
</file>