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952A-3DA5-4F11-903D-3D67C39D3C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5DE-0751-446E-9140-1DE7F7BE36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CE24-0DDC-440A-8BB7-90E0603E56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C5C-01D3-4429-A12C-62C2E931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F58-0309-44ED-941B-CB11B37F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50B-37B9-4880-A1A4-82D558E9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51F-B18A-47EE-B47E-8611EEFB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110-F8BF-4606-B94C-9FF0BDD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AA8-7743-448B-9B28-5B450983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B6C-72CF-48F8-910C-BF8636C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74C-879C-4D00-B6CA-B40C100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52D-161E-42F5-AEA8-2C5C17DB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905-DEB5-45EC-8A3A-9D51068D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814-D6AC-4017-B8A5-0B466A65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344-7F64-4A75-A922-4E19B1EA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CC85-6F0F-4259-BBAA-FFC9BA5E9A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ounded Rectangular Callout 1"/>
          <p:cNvSpPr/>
          <p:nvPr/>
        </p:nvSpPr>
        <p:spPr>
          <a:xfrm>
            <a:off x="324000" y="333360"/>
            <a:ext cx="5040000" cy="1943280"/>
          </a:xfrm>
          <a:prstGeom prst="wedgeRoundRectCallout">
            <a:avLst>
              <a:gd name="adj1" fmla="val 38736"/>
              <a:gd name="adj2" fmla="val 93513"/>
              <a:gd name="adj3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é número tienes, por favo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ounded Rectangular Callout 5"/>
          <p:cNvSpPr/>
          <p:nvPr/>
        </p:nvSpPr>
        <p:spPr>
          <a:xfrm>
            <a:off x="3581280" y="3429000"/>
            <a:ext cx="5040360" cy="1944720"/>
          </a:xfrm>
          <a:prstGeom prst="wedgeRoundRectCallout">
            <a:avLst>
              <a:gd name="adj1" fmla="val -48990"/>
              <a:gd name="adj2" fmla="val 105449"/>
              <a:gd name="adj3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el número ____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24000" y="260280"/>
            <a:ext cx="8640720" cy="2196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bie tiene el número d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lynn tiene el número och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24000" y="2573280"/>
            <a:ext cx="8640720" cy="4115880"/>
          </a:xfrm>
          <a:prstGeom prst="rect">
            <a:avLst/>
          </a:prstGeom>
          <a:solidFill>
            <a:srgbClr val="ffff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0 cer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  sei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1  o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 un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  siet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2  do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 do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  och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3  tre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 tr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  nuev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4  cat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cuatr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 diez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 ci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3:44Z</dcterms:modified>
  <cp:revision>88</cp:revision>
  <dc:subject/>
  <dc:title>TITLE</dc:title>
</cp:coreProperties>
</file>