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601D-D6F0-483F-BAC5-DC5DB8C044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6858-C40F-4C19-990E-FE9670FE65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4B8A-F4DE-41E0-B40B-251ED86C45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86EB-DA7A-4318-9AC1-841C41E594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CCDE-5FE0-4476-9931-C6079F70C4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2E74-763E-404F-969D-4548F99838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CE0C-DDE2-45D9-AF2E-9EAEA83B62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E17F-215F-4A99-831C-C309C2F795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26E-4EDE-4E32-895D-96F24961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D3A-5CE2-4A0C-8CAE-3BEEDBE5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13A-0A45-40B1-9CB5-AF4E756E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BDF-A840-45E5-AF90-958C822E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2231-A438-4806-9B7E-70B67855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731C-BE60-4DA8-AD48-72DEAA64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96B1-ACEA-4241-815A-C1B5423E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4703-1902-4FDF-9E3C-7352228F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9C62-F067-4F9B-A781-96138608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574E-7C95-4E6E-9108-E75F8598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7992-A92E-4745-8D1D-009657D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F85-B817-4854-BD60-F14FC982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B922-3F1D-4535-8C01-A3651039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109A-9B9E-4E67-8AE5-623CA5E1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30FF-55EB-481B-BCD5-831756B6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E1B4-30AB-4F27-88BB-C0AE8934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C380-DC73-42FD-AD40-A7E24C3D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E18A-2201-4A31-9E14-A6BC0B78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61A82-E550-4349-BBBD-9B47429C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7AA7-DF25-4208-9D5C-C8223629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36AC-DF77-43AE-B4CB-36511CAB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FFB9-C5BF-4A32-A6FD-199A1A14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AE4-629E-49E4-9FCD-321101AD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3C6C-FDCE-4765-999F-EB398393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96CC-2213-4B9A-AEFB-FC0E88B1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A6A7-B3A9-4780-AB47-04DBAC10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5A5F-BA5C-463D-A1CC-61F5DE52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0509-F92D-4A78-B33D-C9E176E5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5A4A-2863-4C15-A39B-812CAABD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FCD7-C855-472A-914B-FDC0355B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FC7-A40E-470E-AE71-EED4984A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E31-02C8-49D6-9F2D-B3FA2BE8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7CF-6EA3-4ED4-9760-01AF25C1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071-6E50-49B8-A31A-2C6BB6CF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D73-5D56-4886-94F2-AE3080F6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E0C-05AD-4B91-AB3C-B21E1CFD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74C6-17E8-4499-82ED-506ECE75EC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D481-37B2-43D0-A9DC-71391943ADD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67A5-7A1A-4709-BC2C-F4579E27138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50920" y="2708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los números a 10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564000" y="1125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1628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doscientos dos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220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rescientos tres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270828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uatrocientos cuatro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32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inientos quin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92360" y="3716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eiscientos seis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4221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etecientos sete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47242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ochocientos ocho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5300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novecientos novec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5805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263700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12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263700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17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263700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15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63700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36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263700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94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05T19:40:25Z</dcterms:modified>
  <cp:revision>232</cp:revision>
  <dc:subject/>
  <dc:title>TITLE</dc:title>
</cp:coreProperties>
</file>