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615-7A8E-4351-9A72-D16F9539BD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54A2-F9C0-4CB7-97D6-A5BA900309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534-3A4A-4370-8DDA-050FDAD793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ADA-CCCC-4C50-BF13-027D814393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707-493A-4E7A-A11C-4F28F85084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B30-1097-41E9-BACD-C3D07E760D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8BB-04B1-4F62-8EF1-D23179661A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EAFB-DBF5-49B5-A088-0434511473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9A5-3755-4E8D-AED6-81984C5B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EE4-ADFF-41E5-9CFA-8598FEDA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029-4A6D-44FC-AC3A-BF7CBDE5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97F-7804-4195-93BB-97296075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AF66-219E-4027-B9B7-07BC3EFB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F909-6185-466C-B48B-176A0A6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54B1-DD66-4765-AE42-5210C0B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2DE2-1695-47D2-B6B1-5200A51D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D0F-B353-48D0-8286-EC79770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64C2-0F1A-474E-ADAB-67C8D5C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93B-BF1E-43E2-A9C2-AAFF602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0AD-D0CD-4AB7-B3C0-6DFA9D1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5E4-28C7-4809-A7F9-DF5F625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5CD3-1C0B-44D4-BE93-2C995A8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124-5271-4470-BB00-A67CF83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0EE9-DA1E-4658-95AA-6EED229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4DB2-D8A2-4A75-887D-B3183229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07D9-5EBA-4721-8D82-7CB8A7E5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D70B-6051-45A1-9AB3-F5F6EB0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7D6B-FABF-4617-8A62-675E7609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2C4F-FE28-4EE0-A3F5-0AF91C2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C006-F7A1-4B43-8D83-043B9093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E44-C5B1-4C84-94BB-DA43F1E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1BC7-B3B7-4B62-9FE4-E6E233E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B816-3E94-4ADE-BF57-2D102B6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36A1-AB51-4EC3-8CED-B119CFB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85EE-11C1-4972-B962-06D1F95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5926-49D6-416F-8B52-9883C31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D676-FB1B-4C2D-AAD3-93FABE06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88AA-5A12-42A0-83BA-AD223B9F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814-58C6-4BBD-9342-BAD7281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82D-B31C-483F-B85B-938382F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0F1-E396-418A-B5D0-8D3A577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706-3667-432F-B0BF-C2DAF00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D10-4C43-4C21-8E7D-E392A99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59F-609B-49DE-9BE1-3D003118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C97-B18F-4D24-AF9E-4C21E101A6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54A-B4A9-4045-9DBC-06FCDB9FB6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BDE-98BE-4D68-8B5D-439AC862E9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2708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los números a 1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6400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628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doscientos do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220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rescientos tre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2708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uatrocientos cuatro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inientos quin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3716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eiscientos sei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42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etecientos sete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7242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ochocientos ocho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530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vecientos nove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80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2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7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5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36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94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40:25Z</dcterms:modified>
  <cp:revision>232</cp:revision>
  <dc:subject/>
  <dc:title>TITLE</dc:title>
</cp:coreProperties>
</file>