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8119-5D58-49BB-AAAD-2821731807C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55C6-67A6-4403-87B9-51F0AA1CEC5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DF7A-EDCF-40F6-811C-8DBC2361A9B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58C4-DAB9-42B6-B518-49972EB6ABB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808B-2FA2-4BF4-A91D-D6A5A93A4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8930-74F8-4ED7-B1E7-F33CA5EF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B038-6AB2-465B-90C0-2BA65DDAA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934F-716D-4B49-8B53-E710C08D0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CD9A-0273-4F3B-84D4-B19FF61B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06E8-36D8-4DA3-AC0D-DCA47847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34EF-B7B6-4762-BFA2-2E541C1A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9D1E-B0E6-4D86-BDBC-874B93E1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FBD0-58F8-4B91-8524-9D00295E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CA08-DBB1-4A65-AAC4-83095130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49CD-F582-47A4-9975-904CE02F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0067-DF33-495D-8161-026A7CC9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0A7A-7E71-47E1-A735-FA78C12E5F7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2276640"/>
            <a:ext cx="907236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buClr>
                <a:srgbClr val="ffffd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d9"/>
                </a:solidFill>
                <a:latin typeface="Comic Sans MS"/>
              </a:rPr>
              <a:t>deportistas españo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buClr>
                <a:srgbClr val="ffffd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d9"/>
                </a:solidFill>
                <a:latin typeface="Comic Sans MS"/>
              </a:rPr>
              <a:t>equipación olímp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buClr>
                <a:srgbClr val="ffffd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d9"/>
                </a:solidFill>
                <a:latin typeface="Comic Sans MS"/>
              </a:rPr>
              <a:t>le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411280" y="4751280"/>
            <a:ext cx="223200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7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589800" y="0"/>
            <a:ext cx="2554200" cy="3429000"/>
          </a:xfrm>
          <a:prstGeom prst="rect">
            <a:avLst/>
          </a:prstGeom>
          <a:ln w="19080">
            <a:solidFill>
              <a:srgbClr val="fffff7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0" y="189000"/>
            <a:ext cx="91440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Comic Sans MS"/>
              </a:rPr>
              <a:t>Carolina Rodríguez</a:t>
            </a:r>
            <a:r>
              <a:rPr b="0" lang="es-ES" sz="4200" spc="-1" strike="noStrike">
                <a:solidFill>
                  <a:srgbClr val="000000"/>
                </a:solidFill>
                <a:latin typeface="Comic Sans MS"/>
              </a:rPr>
              <a:t> nació </a:t>
            </a:r>
            <a:br>
              <a:rPr sz="4200"/>
            </a:br>
            <a:r>
              <a:rPr b="0" lang="es-ES" sz="4200" spc="-1" strike="noStrike">
                <a:solidFill>
                  <a:srgbClr val="000000"/>
                </a:solidFill>
                <a:latin typeface="Comic Sans MS"/>
              </a:rPr>
              <a:t>en León el 24 de mayo </a:t>
            </a:r>
            <a:br>
              <a:rPr sz="4200"/>
            </a:br>
            <a:r>
              <a:rPr b="0" lang="es-ES" sz="4200" spc="-1" strike="noStrike">
                <a:solidFill>
                  <a:srgbClr val="000000"/>
                </a:solidFill>
                <a:latin typeface="Comic Sans MS"/>
              </a:rPr>
              <a:t>de 1986.  </a:t>
            </a:r>
            <a:br>
              <a:rPr sz="4200"/>
            </a:br>
            <a:r>
              <a:rPr b="0" lang="es-ES" sz="4200" spc="-1" strike="noStrike">
                <a:solidFill>
                  <a:srgbClr val="000000"/>
                </a:solidFill>
                <a:latin typeface="Comic Sans MS"/>
              </a:rPr>
              <a:t>Es una gimnasta española</a:t>
            </a:r>
            <a:br>
              <a:rPr sz="4200"/>
            </a:br>
            <a:r>
              <a:rPr b="0" lang="es-ES" sz="4200" spc="-1" strike="noStrike">
                <a:solidFill>
                  <a:srgbClr val="000000"/>
                </a:solidFill>
                <a:latin typeface="Comic Sans MS"/>
              </a:rPr>
              <a:t>y practica la gimnasia</a:t>
            </a:r>
            <a:br>
              <a:rPr sz="4200"/>
            </a:br>
            <a:r>
              <a:rPr b="0" lang="es-ES" sz="4200" spc="-1" strike="noStrike">
                <a:solidFill>
                  <a:srgbClr val="000000"/>
                </a:solidFill>
                <a:latin typeface="Comic Sans MS"/>
              </a:rPr>
              <a:t>rítmica. En Londres se convertirá en la única gimnasta que ha competido en dos olimpiadas como miembro del conjunto y como individual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7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805440" y="189000"/>
            <a:ext cx="2159280" cy="3240000"/>
          </a:xfrm>
          <a:prstGeom prst="rect">
            <a:avLst/>
          </a:prstGeom>
          <a:ln w="19080">
            <a:solidFill>
              <a:srgbClr val="fffff7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0" y="0"/>
            <a:ext cx="896472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David Cal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 nació en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Pontevedra el 10 de octubre de 1982. 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s un deportista español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y practica el piragüismo.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u especialidad es la canoa monoplaza en 500m y 1000m.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Ha ganado una medalla de oro y tres de plata en los Juegos Olímpicos (Atenas 2004 y Pekín 2008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2421000"/>
            <a:ext cx="85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Carolina Rodríguez</a:t>
            </a: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 and 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David Cal</a:t>
            </a: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 will both compete at the London Olympic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7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</a:rPr>
              <a:t>Para la Ceremonia de Apertura los chicos llevarán una chaqueta roja y un pantalón azul.  Las chicas llevarán una camisa amarilla y una falda roja. El chándal será rojo con motivos amarillos en el cuello, los puños y en el pantalón.</a:t>
            </a:r>
            <a:r>
              <a:rPr b="0" lang="es-ES" sz="4400" spc="-1" strike="noStrike">
                <a:solidFill>
                  <a:srgbClr val="ffffd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55640" y="692280"/>
            <a:ext cx="7632720" cy="5553000"/>
          </a:xfrm>
          <a:prstGeom prst="rect">
            <a:avLst/>
          </a:prstGeom>
          <a:ln w="19080">
            <a:solidFill>
              <a:srgbClr val="fffff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5-05T20:53:03Z</dcterms:modified>
  <cp:revision>188</cp:revision>
  <dc:subject/>
  <dc:title>TITLE</dc:title>
</cp:coreProperties>
</file>