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2F23-8208-42C0-9E34-3B37250E5F3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9548-E97D-4869-93DE-10F3FF43529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308D-2C2B-4AD5-B6DF-DA7BE24141D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9900-4249-4430-A7ED-BC9309A71B5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319-8151-40D3-BE2C-666832D4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B473-DEF7-4074-98B6-D060860A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73C-10B7-4EF9-9227-FCC74DF8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B4E2-8478-4B2F-AEF9-1F2DD9E9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54BE-2A60-4A5A-9C3D-30872310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11C-9BA0-4720-AD6A-6CAF959D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5A1-BC9D-45A3-8EE1-11DDDDE9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886-CD7B-42C5-97EC-0FF2C22D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6E0C-54B9-42EE-AD83-BEEA3618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639-2D99-49B1-AC35-B5DB6DAF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091-6429-4B3A-B853-E669651E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BF6-AF67-47DF-8EF4-58AA0783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46F4-55B6-44B4-B051-93A636C5579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2276640"/>
            <a:ext cx="90723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buClr>
                <a:srgbClr val="ffffd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deportistas españo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buClr>
                <a:srgbClr val="ffffd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equipación olímp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buClr>
                <a:srgbClr val="ffffd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le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11280" y="4751280"/>
            <a:ext cx="22320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7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589800" y="0"/>
            <a:ext cx="2554200" cy="342900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0" y="18900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Comic Sans MS"/>
              </a:rPr>
              <a:t>Carolina Rodríguez</a:t>
            </a:r>
            <a:r>
              <a:rPr b="0" lang="es-ES" sz="4200" spc="-1" strike="noStrike">
                <a:solidFill>
                  <a:srgbClr val="000000"/>
                </a:solidFill>
                <a:latin typeface="Comic Sans MS"/>
              </a:rPr>
              <a:t> nació </a:t>
            </a:r>
            <a:br>
              <a:rPr sz="4200"/>
            </a:br>
            <a:r>
              <a:rPr b="0" lang="es-ES" sz="4200" spc="-1" strike="noStrike">
                <a:solidFill>
                  <a:srgbClr val="000000"/>
                </a:solidFill>
                <a:latin typeface="Comic Sans MS"/>
              </a:rPr>
              <a:t>en León el 24 de mayo </a:t>
            </a:r>
            <a:br>
              <a:rPr sz="4200"/>
            </a:br>
            <a:r>
              <a:rPr b="0" lang="es-ES" sz="4200" spc="-1" strike="noStrike">
                <a:solidFill>
                  <a:srgbClr val="000000"/>
                </a:solidFill>
                <a:latin typeface="Comic Sans MS"/>
              </a:rPr>
              <a:t>de 1986.  </a:t>
            </a:r>
            <a:br>
              <a:rPr sz="4200"/>
            </a:br>
            <a:r>
              <a:rPr b="0" lang="es-ES" sz="4200" spc="-1" strike="noStrike">
                <a:solidFill>
                  <a:srgbClr val="000000"/>
                </a:solidFill>
                <a:latin typeface="Comic Sans MS"/>
              </a:rPr>
              <a:t>Es una gimnasta española</a:t>
            </a:r>
            <a:br>
              <a:rPr sz="4200"/>
            </a:br>
            <a:r>
              <a:rPr b="0" lang="es-ES" sz="4200" spc="-1" strike="noStrike">
                <a:solidFill>
                  <a:srgbClr val="000000"/>
                </a:solidFill>
                <a:latin typeface="Comic Sans MS"/>
              </a:rPr>
              <a:t>y practica la gimnasia</a:t>
            </a:r>
            <a:br>
              <a:rPr sz="4200"/>
            </a:br>
            <a:r>
              <a:rPr b="0" lang="es-ES" sz="4200" spc="-1" strike="noStrike">
                <a:solidFill>
                  <a:srgbClr val="000000"/>
                </a:solidFill>
                <a:latin typeface="Comic Sans MS"/>
              </a:rPr>
              <a:t>rítmica. En Londres se convertirá en la única gimnasta que ha competido en dos olimpiadas como miembro del conjunto y como individual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7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05440" y="189000"/>
            <a:ext cx="2159280" cy="324000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0" y="0"/>
            <a:ext cx="896472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David Cal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 nació en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Pontevedra el 10 de octubre de 1982.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s un deportista español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y practica el piragüismo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 especialidad es la canoa monoplaza en 500m y 1000m.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Ha ganado una medalla de oro y tres de plata en los Juegos Olímpicos (Atenas 2004 y Pekín 2008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421000"/>
            <a:ext cx="85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Carolina Rodríguez</a:t>
            </a: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 and 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David Cal</a:t>
            </a: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 will both compete at the London Olympic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7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</a:rPr>
              <a:t>Para la Ceremonia de Apertura los chicos llevarán una chaqueta roja y un pantalón azul.  Las chicas llevarán una camisa amarilla y una falda roja. El chándal será rojo con motivos amarillos en el cuello, los puños y en el pantalón.</a:t>
            </a:r>
            <a:r>
              <a:rPr b="0" lang="es-ES" sz="4400" spc="-1" strike="noStrike">
                <a:solidFill>
                  <a:srgbClr val="ffffd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7632720" cy="555300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5-05T20:53:03Z</dcterms:modified>
  <cp:revision>188</cp:revision>
  <dc:subject/>
  <dc:title>TITLE</dc:title>
</cp:coreProperties>
</file>