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4DF4-FE2E-4BBF-B4AA-EC5C858D7D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A94D-3E1E-4B46-AE85-955096DB3E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9A24-8CF2-4EB8-8923-4B602EE215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2CA3-A253-4F58-BDF1-84B1044607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03C7-39A7-4626-BFB5-AA1AD24ED0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8308-2046-41D5-B959-CEC7984FC5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240C-7EF1-43F9-ADAA-0F4550157C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A237-39F0-40A4-AB06-98E89ECF6F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6096-FBE0-4AD4-9D6F-B44074CBB5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8DA2-D5AE-48B8-AB69-B59A59B5C4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397D-A56A-48C8-956D-1B11780C76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FF4-629C-4C45-BE06-50919316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FB5-4588-441F-BA28-CBBA6DE9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5A3-F054-4E4B-8BAD-B3FDC1A1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F12-A88E-4FF7-84B1-E939D225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617-9311-4AA1-B265-ADF339DD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A4E-E7F3-4973-A853-FEB71DDA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2E4-33D5-4731-A2A0-D2D416AD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661-6642-4E77-8EC3-09086715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1E2-48D0-4158-AC9A-995BE0F8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FAA-0BDD-4F54-9BEC-5C53C42E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BB4-415F-4DB9-9EBB-E935055A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592-244C-4E84-8B42-4F7C2663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EF01-0944-4A10-8B5B-27292FFC57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05000"/>
            <a:ext cx="187164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058920" cy="236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95280" y="5300640"/>
            <a:ext cx="396072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5300640"/>
            <a:ext cx="4248360" cy="1739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os plát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205000"/>
            <a:ext cx="302436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5300640"/>
            <a:ext cx="439272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encan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a piz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5885" t="0" r="2940" b="0"/>
          <a:stretch/>
        </p:blipFill>
        <p:spPr>
          <a:xfrm>
            <a:off x="4716360" y="1989000"/>
            <a:ext cx="3311640" cy="23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205000"/>
            <a:ext cx="187164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5300640"/>
            <a:ext cx="4392720" cy="1739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No me gu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el hel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42745" t="3150" r="29134" b="11811"/>
          <a:stretch/>
        </p:blipFill>
        <p:spPr>
          <a:xfrm>
            <a:off x="4716360" y="1700280"/>
            <a:ext cx="135756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2205000"/>
            <a:ext cx="187164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5300640"/>
            <a:ext cx="439272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gu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el jam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16360" y="1843200"/>
            <a:ext cx="2951280" cy="263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2205000"/>
            <a:ext cx="316872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300640"/>
            <a:ext cx="4392720" cy="1739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encant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5300640"/>
            <a:ext cx="4248360" cy="1739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as naranj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2987640" cy="290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2205000"/>
            <a:ext cx="201600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300640"/>
            <a:ext cx="4392720" cy="1556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Comic Sans MS"/>
              </a:rPr>
              <a:t>No me gust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os pepi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2428920" cy="24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205000"/>
            <a:ext cx="316872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5300640"/>
            <a:ext cx="439272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encan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el ber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313200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2205000"/>
            <a:ext cx="216072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300640"/>
            <a:ext cx="439272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Me gust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as judí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5003640" y="2133720"/>
            <a:ext cx="2772000" cy="20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2205000"/>
            <a:ext cx="216072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300640"/>
            <a:ext cx="4392720" cy="1739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8000"/>
                </a:solidFill>
                <a:latin typeface="Comic Sans MS"/>
              </a:rPr>
              <a:t>No me gu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a limon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2086200" cy="30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54936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¿Cómo se d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2205000"/>
            <a:ext cx="2160720" cy="1922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5300640"/>
            <a:ext cx="4392720" cy="1556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Comic Sans MS"/>
              </a:rPr>
              <a:t>No me gust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5300640"/>
            <a:ext cx="4248360" cy="916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as ciruel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27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1:27Z</dcterms:modified>
  <cp:revision>186</cp:revision>
  <dc:subject/>
  <dc:title>TITLE</dc:title>
</cp:coreProperties>
</file>