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B795-EC4C-4D51-9533-33D7317D29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2190-58F3-4405-B034-9EA31EF822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CA23-DC62-4EE2-A7B6-F2A51AFFA0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F00E-AFA5-4C99-9F7E-01507225C1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D1F4-63F7-4658-8A0C-3D073AE22F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4563-5355-4E9A-A577-60256BE612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0EB3-C48F-45E6-91E0-DECCF43CEE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23D3-34F9-428E-AD97-A305659E30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4DC4-C5EA-490A-88DD-028794D3D7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B1D3-E7C8-44A8-B8BC-CEF2139C37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7DAB-E586-45A8-867F-F2532F24E4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800-26AB-436A-92F3-DD592751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A22-51E9-41B8-80F7-538F6611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54C-DC9C-4D87-952B-2B61D367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E63-33F6-4A9F-AF71-122E0A69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F9F-6DD8-4C50-A2E1-041DD526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CAB-8FBF-4B40-A7D6-4188B15C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C5E-CC21-401B-9082-DCC785B0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6AD-C44A-40DE-8EC6-141AA0ED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581-B500-4C19-9820-9C7F6B95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318-3F5F-4D88-9524-276CF047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297-1E24-47CD-8EFD-B6C1B460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DDB-35F8-415F-B7F5-B7960250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B867-BEFC-4F14-B32D-72EC833AA8E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05000"/>
            <a:ext cx="187164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058920" cy="236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95280" y="5300640"/>
            <a:ext cx="396072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5300640"/>
            <a:ext cx="4248360" cy="17398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los plát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2205000"/>
            <a:ext cx="302436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5300640"/>
            <a:ext cx="439272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Comic Sans MS"/>
              </a:rPr>
              <a:t>Me encan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5300640"/>
            <a:ext cx="424836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la piz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5885" t="0" r="2940" b="0"/>
          <a:stretch/>
        </p:blipFill>
        <p:spPr>
          <a:xfrm>
            <a:off x="4716360" y="1989000"/>
            <a:ext cx="3311640" cy="236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2205000"/>
            <a:ext cx="187164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5300640"/>
            <a:ext cx="4392720" cy="17398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Comic Sans MS"/>
              </a:rPr>
              <a:t>No me gu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16360" y="5300640"/>
            <a:ext cx="424836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el hel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42745" t="3150" r="29134" b="11811"/>
          <a:stretch/>
        </p:blipFill>
        <p:spPr>
          <a:xfrm>
            <a:off x="4716360" y="1700280"/>
            <a:ext cx="1357560" cy="29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2205000"/>
            <a:ext cx="187164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5300640"/>
            <a:ext cx="439272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Comic Sans MS"/>
              </a:rPr>
              <a:t>Me gu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5300640"/>
            <a:ext cx="424836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el jam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16360" y="1843200"/>
            <a:ext cx="2951280" cy="263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2205000"/>
            <a:ext cx="316872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5300640"/>
            <a:ext cx="4392720" cy="17398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Comic Sans MS"/>
              </a:rPr>
              <a:t>Me encant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5300640"/>
            <a:ext cx="4248360" cy="17398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las naranj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2987640" cy="290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95640" y="2205000"/>
            <a:ext cx="201600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300640"/>
            <a:ext cx="4392720" cy="1556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8000"/>
                </a:solidFill>
                <a:latin typeface="Comic Sans MS"/>
              </a:rPr>
              <a:t>No me gust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5300640"/>
            <a:ext cx="424836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los pepi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2428920" cy="24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2205000"/>
            <a:ext cx="316872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5300640"/>
            <a:ext cx="439272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Comic Sans MS"/>
              </a:rPr>
              <a:t>Me encan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360" y="5300640"/>
            <a:ext cx="424836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el ber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313200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2205000"/>
            <a:ext cx="216072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300640"/>
            <a:ext cx="439272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6360" y="5300640"/>
            <a:ext cx="424836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las judí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8395" t="7677" r="8395" b="0"/>
          <a:stretch/>
        </p:blipFill>
        <p:spPr>
          <a:xfrm>
            <a:off x="5003640" y="2133720"/>
            <a:ext cx="2772000" cy="200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0920" y="2205000"/>
            <a:ext cx="216072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5300640"/>
            <a:ext cx="4392720" cy="17398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Comic Sans MS"/>
              </a:rPr>
              <a:t>No me gu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5300640"/>
            <a:ext cx="424836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la limon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2086200" cy="30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2205000"/>
            <a:ext cx="216072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5300640"/>
            <a:ext cx="4392720" cy="1556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8000"/>
                </a:solidFill>
                <a:latin typeface="Comic Sans MS"/>
              </a:rPr>
              <a:t>No me gust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5300640"/>
            <a:ext cx="424836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las ciruel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270036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31:27Z</dcterms:modified>
  <cp:revision>186</cp:revision>
  <dc:subject/>
  <dc:title>TITLE</dc:title>
</cp:coreProperties>
</file>