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C571-7948-4419-B30C-2369AC1E28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2AB-9FAB-45FD-95E7-22B2DFB999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6D0D-E764-4F2E-8106-AEBE0637FE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E389-678F-4D9A-A978-75CE4E13FF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4D6-80F4-4C0B-A41B-D773C9A7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A34-12EF-4650-B9F7-2A1B53B5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B6B-C547-4532-9AE3-C2BFF821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92D-4410-425E-8024-B04E0826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FE1-08D1-4EA6-932F-4D177C9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5F8-D464-4B39-803B-E5608D8E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817-099D-4F4B-8FC0-C0DBE703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A07-6C69-4051-99D7-8F3FA37A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A45-AD1A-465C-8226-4B6EDB9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4BB-CB10-4BB0-97DA-0B880698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9F3-D989-40E9-9FD3-36ECC87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161-A15D-4997-8A50-1C79A03A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33EF-A635-4AE2-B222-A1FE53ABC9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8021" t="28358" r="17605" b="17771"/>
          <a:stretch/>
        </p:blipFill>
        <p:spPr>
          <a:xfrm>
            <a:off x="0" y="907920"/>
            <a:ext cx="91440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19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drawingml/2006/table">
            <a:tbl>
              <a:tblPr/>
              <a:tblGrid>
                <a:gridCol w="1152360"/>
                <a:gridCol w="1297080"/>
                <a:gridCol w="1942920"/>
                <a:gridCol w="1657440"/>
                <a:gridCol w="2592360"/>
              </a:tblGrid>
              <a:tr h="1020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in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ic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u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s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24000" y="1484280"/>
            <a:ext cx="1008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2492280"/>
            <a:ext cx="1008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49228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256536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249228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nza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3573360"/>
            <a:ext cx="1008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357336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357336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357336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iru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581360"/>
            <a:ext cx="100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4581360"/>
            <a:ext cx="1008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58136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58136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458136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ran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589720"/>
            <a:ext cx="100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5589720"/>
            <a:ext cx="100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58972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58972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558972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19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a31923"/>
          </a:solidFill>
          <a:ln w="93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0053" t="5083" r="10221" b="4918"/>
          <a:stretch/>
        </p:blipFill>
        <p:spPr>
          <a:xfrm>
            <a:off x="1476360" y="189000"/>
            <a:ext cx="6191280" cy="4368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8360" y="5084640"/>
            <a:ext cx="295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 Black"/>
              </a:rPr>
              <a:t>y = 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16360" y="5084640"/>
            <a:ext cx="417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Black"/>
              </a:rPr>
              <a:t>pero = b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9:17Z</dcterms:modified>
  <cp:revision>166</cp:revision>
  <dc:subject/>
  <dc:title>TITLE</dc:title>
</cp:coreProperties>
</file>