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C764F-E911-4615-9E6C-19D0A0BFB517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023D0-C374-4EC5-85E0-C93C271FE812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DFB5B-0E1A-49A3-9890-5D223D49CB26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3D093-F968-46AD-8928-61CC2E690CBF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5674E-8C4D-4E54-8F68-3535B49F2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E945B-CF75-45AA-AC5C-C8E9D356A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93B60-4F8B-4AB2-B128-C121C78A6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E755A-C38D-468C-9D79-1832947C5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826A4-90AF-4CF2-93B8-439FE0F04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0E11B-0B1D-427D-B832-BC39F6F9A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8EA44-8DA1-4310-A17D-EE816BCE4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92B1D-DAFE-4EC3-945F-E6F8DE651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0C86F-84F1-446F-9581-686378EEC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CB152-B9FE-4510-ACF7-E823948CE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BEF83-2F26-45FA-8218-8B1AEBDD4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19C3C-DA7A-46F4-9824-FB84DCAB6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FCE4B-4630-4A08-A9E7-0EC47A6D8EE3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rcRect l="18021" t="28358" r="17605" b="17771"/>
          <a:stretch/>
        </p:blipFill>
        <p:spPr>
          <a:xfrm>
            <a:off x="0" y="907920"/>
            <a:ext cx="9144000" cy="478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19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250920" y="333360"/>
          <a:ext cx="8642160" cy="6120000"/>
        </p:xfrm>
        <a:graphic>
          <a:graphicData uri="http://schemas.openxmlformats.org/drawingml/2006/table">
            <a:tbl>
              <a:tblPr/>
              <a:tblGrid>
                <a:gridCol w="1152360"/>
                <a:gridCol w="1297080"/>
                <a:gridCol w="1942920"/>
                <a:gridCol w="1657440"/>
                <a:gridCol w="2592360"/>
              </a:tblGrid>
              <a:tr h="102060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pinion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rticl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ruit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017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ustan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a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resa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102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1020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1017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1020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</a:tbl>
          </a:graphicData>
        </a:graphic>
      </p:graphicFrame>
      <p:sp>
        <p:nvSpPr>
          <p:cNvPr id="50" name=""/>
          <p:cNvSpPr/>
          <p:nvPr/>
        </p:nvSpPr>
        <p:spPr>
          <a:xfrm>
            <a:off x="324000" y="1484280"/>
            <a:ext cx="1008000" cy="76428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n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547640" y="2492280"/>
            <a:ext cx="1008360" cy="64260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771640" y="2492280"/>
            <a:ext cx="1800360" cy="64260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gust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716360" y="2565360"/>
            <a:ext cx="1440000" cy="64260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l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372360" y="2492280"/>
            <a:ext cx="2376360" cy="64260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manzan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547640" y="3573360"/>
            <a:ext cx="1008360" cy="64260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771640" y="3573360"/>
            <a:ext cx="1800360" cy="64260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gust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16360" y="3573360"/>
            <a:ext cx="1440000" cy="64260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l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372360" y="3573360"/>
            <a:ext cx="2376360" cy="64260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ciruel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24000" y="4581360"/>
            <a:ext cx="1008000" cy="64260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n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547640" y="4581360"/>
            <a:ext cx="1008360" cy="64260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771640" y="4581360"/>
            <a:ext cx="1800360" cy="64260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gust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16360" y="4581360"/>
            <a:ext cx="1440000" cy="64260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l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372360" y="4581360"/>
            <a:ext cx="2376360" cy="64260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naranj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5589720"/>
            <a:ext cx="1008000" cy="64260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n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476360" y="5589720"/>
            <a:ext cx="1008000" cy="64260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771640" y="5589720"/>
            <a:ext cx="1800360" cy="64260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gust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5589720"/>
            <a:ext cx="1440000" cy="64260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l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372360" y="5589720"/>
            <a:ext cx="2376360" cy="64260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plátan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19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a31923"/>
          </a:solidFill>
          <a:ln w="9360">
            <a:solidFill>
              <a:srgbClr val="a319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rcRect l="10053" t="5083" r="10221" b="4918"/>
          <a:stretch/>
        </p:blipFill>
        <p:spPr>
          <a:xfrm>
            <a:off x="1476360" y="189000"/>
            <a:ext cx="6191280" cy="43686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 txBox="1"/>
          <p:nvPr/>
        </p:nvSpPr>
        <p:spPr>
          <a:xfrm>
            <a:off x="468360" y="5084640"/>
            <a:ext cx="295128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 Black"/>
              </a:rPr>
              <a:t>y = an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716360" y="5084640"/>
            <a:ext cx="417528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66ff"/>
                    </a:gs>
                    <a:gs pos="100000">
                      <a:srgbClr val="ff3399"/>
                    </a:gs>
                  </a:gsLst>
                  <a:lin ang="5400000"/>
                </a:gradFill>
                <a:latin typeface="Arial Black"/>
              </a:rPr>
              <a:t>pero = bu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66ff"/>
                  </a:gs>
                  <a:gs pos="100000">
                    <a:srgbClr val="ff3399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10-06-21T13:39:17Z</dcterms:modified>
  <cp:revision>166</cp:revision>
  <dc:subject/>
  <dc:title>TITLE</dc:title>
</cp:coreProperties>
</file>