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4B9-88FA-4CBA-BF6D-31D869B5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E53-D99F-420A-AC6E-F05DA07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DFB-1DB4-45D4-879F-D10BC8D4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363-715C-411C-ABB8-F8ED0B1A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B9E-C220-4404-9B93-88059647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643-0820-4017-994E-4848046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11B-7034-4D71-A593-82B9E73E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1E1-6C9E-4B47-A8FF-1DF9CFE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FBA-D524-4D95-923E-B1783C1D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5A6-130E-41DC-BCAB-1A26ED3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232-789F-42A6-A255-1073E56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CB2-E190-4FA8-AE68-096CE905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4D08-1151-4600-BEC7-2C447F2B6C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765000"/>
            <a:ext cx="3457440" cy="2305080"/>
          </a:xfrm>
          <a:prstGeom prst="wedgeRoundRectCallout">
            <a:avLst>
              <a:gd name="adj1" fmla="val 36087"/>
              <a:gd name="adj2" fmla="val 76722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Te gusta e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620640"/>
            <a:ext cx="3745080" cy="1656000"/>
          </a:xfrm>
          <a:prstGeom prst="wedgeRoundRectCallout">
            <a:avLst>
              <a:gd name="adj1" fmla="val -57712"/>
              <a:gd name="adj2" fmla="val 106949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me gusta ene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4508640"/>
            <a:ext cx="3744720" cy="1655640"/>
          </a:xfrm>
          <a:prstGeom prst="wedgeRoundRectCallout">
            <a:avLst>
              <a:gd name="adj1" fmla="val -53435"/>
              <a:gd name="adj2" fmla="val -114814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, no me gusta ene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765000"/>
            <a:ext cx="3745080" cy="2305080"/>
          </a:xfrm>
          <a:prstGeom prst="wedgeRoundRectCallout">
            <a:avLst>
              <a:gd name="adj1" fmla="val 42032"/>
              <a:gd name="adj2" fmla="val 86157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Cuándo es tu cumple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3573360"/>
            <a:ext cx="3744720" cy="2808360"/>
          </a:xfrm>
          <a:prstGeom prst="wedgeRoundRectCallout">
            <a:avLst>
              <a:gd name="adj1" fmla="val -76495"/>
              <a:gd name="adj2" fmla="val -38185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 cumpleaños es el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onc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210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02T14:11:35Z</dcterms:modified>
  <cp:revision>119</cp:revision>
  <dc:subject/>
  <dc:title>TITLE</dc:title>
</cp:coreProperties>
</file>