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73A-BD25-4D75-AD1D-87BA8D5C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07C-B98F-43D1-9FD7-491F074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B4F-FB8A-43F5-8E1E-CF68D5A3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44E-763E-4BC7-B72D-A13E40A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104-12A7-45E6-9FA5-E5CBA10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1E7-AEEF-4CD1-AFBE-B4ED82C1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97C-FA60-4574-9FC4-275413AC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64C-9CCA-4511-9C6E-34CCF244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B9B-D8A1-47EE-86B5-428721A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D7A-C876-4C96-BB5B-46EBAC5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3D6-B022-42E7-8722-D729450A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2C1-012A-457E-A4CB-8F0E3D7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D68-EF5E-41BA-8EA8-92B455C649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765000"/>
            <a:ext cx="3457440" cy="2305080"/>
          </a:xfrm>
          <a:prstGeom prst="wedgeRoundRectCallout">
            <a:avLst>
              <a:gd name="adj1" fmla="val 36087"/>
              <a:gd name="adj2" fmla="val 7672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Te gusta e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620640"/>
            <a:ext cx="3745080" cy="1656000"/>
          </a:xfrm>
          <a:prstGeom prst="wedgeRoundRectCallout">
            <a:avLst>
              <a:gd name="adj1" fmla="val -57712"/>
              <a:gd name="adj2" fmla="val 10694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me gusta ene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4508640"/>
            <a:ext cx="3744720" cy="1655640"/>
          </a:xfrm>
          <a:prstGeom prst="wedgeRoundRectCallout">
            <a:avLst>
              <a:gd name="adj1" fmla="val -53435"/>
              <a:gd name="adj2" fmla="val -114814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, no me gusta ene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765000"/>
            <a:ext cx="3745080" cy="2305080"/>
          </a:xfrm>
          <a:prstGeom prst="wedgeRoundRectCallout">
            <a:avLst>
              <a:gd name="adj1" fmla="val 42032"/>
              <a:gd name="adj2" fmla="val 86157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Cuándo es tu cumple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573360"/>
            <a:ext cx="3744720" cy="2808360"/>
          </a:xfrm>
          <a:prstGeom prst="wedgeRoundRectCallout">
            <a:avLst>
              <a:gd name="adj1" fmla="val -76495"/>
              <a:gd name="adj2" fmla="val -38185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 cumpleaños es el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on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210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02T14:11:35Z</dcterms:modified>
  <cp:revision>119</cp:revision>
  <dc:subject/>
  <dc:title>TITLE</dc:title>
</cp:coreProperties>
</file>