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D4E8-9C50-40CA-8C06-4D58C2AC78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B77B-8A0B-4DF3-8AA9-A9C2AB78ABC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D29C-ECC7-4CE8-BE2C-89B853B338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39E0-9A03-4F1C-8710-58A0F1A38D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56A8-ACA1-4474-BA44-9CDBEB4AE5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FC77-FE7F-46B7-B004-4F2D42DAC6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DAA1-46DD-4F05-97C0-996B3A76000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1930-751E-46A4-A891-EFC378DCD6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59B0-5AF9-4994-9731-6409A16EE1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AE68-9660-4D77-AA6D-38931ECCA3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B5D3-AB01-4D57-9A9A-965BEBA095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6696-DD7B-4777-A32D-AFC378245F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FA1-CA51-46D0-88F7-55E33247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A43-22E4-4ACD-BFA4-9E766D32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27F69-7028-44D7-B348-A2319292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FD43B-7999-4FDE-BDFF-E4347B0A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2B163-B570-44A3-95F6-03B97328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0D3D0-8351-4235-943E-59CF3211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41C82-AAED-45DD-AE31-F2A8DA4B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C7004-C473-4014-93F0-D688EEE7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700A6-3F8F-4625-91A5-AD01BC3C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B99BC-C7FC-4875-8C39-DB6EC53E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C99C8-D360-44C5-ADA6-54B75BD9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E00A7-4456-4D24-8D3C-27B5C07A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7B2-1421-4256-8B66-E816FF42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2C5CE-5FE1-4C1F-A221-117290EC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CD3C2-A669-4233-9C23-4343B228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4D2A0-5EFF-483F-A500-7F0F1B5F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46908-F17E-4AD3-83BE-0D734165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40BD9-CCAB-43DC-BA0F-196B4C16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F6FA6-9AB4-4E55-A97A-7FFB28C4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16D24-7020-45F6-AEDF-C2C58D86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0D495-526A-47EF-BCD6-B4F93D7F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9296F-D481-4C19-8A15-1F4322CA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25543-BD25-44E8-8844-8A2A5989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F59-5115-4F5C-AEED-84949D45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E4153-05FE-4BC3-A944-2E11B075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95D64-AAFA-4016-A349-6D8AE94B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F3648-FC06-45C1-9888-A78E442C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F238B-A5E8-4E50-B5D2-2B34DD10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1F62C-27BB-4FD7-8C45-5E776C80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DD04E-C074-47F1-BAD5-08AB969F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70766-8FF3-4368-B7EA-BCE37FE9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EC8A6-6E54-4201-85AE-EE526435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037C1-9FFC-492E-AD0C-BE32A20D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2C5C4-4452-4C8D-A490-DAD37825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B173-E5E2-4170-B9E4-F8FF24AE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E2044-96DD-4DF8-AF5A-DECBE4DA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716DB-0C7C-4A6C-B6DC-2A654A05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02FF3-02B4-4ABF-BD23-F23B57C5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4ABC-9D40-4EE8-B7AD-F5244556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0AC6-0052-49AB-A434-7BD4E9D8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F9C8-BE61-499E-9FB8-15D793B7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F7E0-4B3A-44F9-955B-C50E1F69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53CF-9243-4C02-838F-93B54117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C75B-B6F3-4BF6-BD21-88321DD5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1E6-FAC0-4C3A-AE0D-6C1AE366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5900-A1CE-44B1-8C12-24B2EED8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0312-2549-406F-9F0C-BD0F486C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DD00-12FE-41FC-AFBD-57FD7ACA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9C9D-AEC8-42F6-B8DE-A92F29CE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BDCF-296C-4D65-8B4D-9B91FCAF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1580B-5BA6-4A36-87B3-CB69C798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00B0-7068-4BD5-AB74-CF051556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214AD-1093-4795-A9AF-D81EC54E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1D38C-6CCB-4D5F-8E4F-216A7C0E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7A12C-F573-4B2B-BBF7-AD4B9259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FEA-4760-4129-B32A-C8AF8EC0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25185-4AF4-455D-B0B6-90447EC0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986BF-15EF-4591-956C-D9FC56BC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F26B3-C01B-4C7D-9ABC-C24E7D42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69714-B3D7-4652-83AA-74FCE5FD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04501-0E8B-437E-BC32-DEB6A4F0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B21C-547E-4AFA-AF57-70671790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872C-A71E-4E14-8516-2666DA96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26693-47CF-4A23-ADCD-2075BDC1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C7C61-ACD6-4C3E-8E69-F30A0533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C95DD-9067-475D-AA8B-6E4497F2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155-7124-49E1-8C83-F8620507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80A4F-3524-45EE-83F0-44D77CD4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75CE2-3539-4C6D-89B1-5B6224BB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53809-2885-4780-B6B4-9FA7E00F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F300C-452F-4C2E-A8B3-0046A925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A3E6D-6DAA-45D4-BA7F-4F918A6A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B40AF-903C-41AB-892B-761C8C36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26E87-84AF-481F-A03F-47D47055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05794-5DD0-4CD7-8133-70DBC8BB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97395-F565-431B-B949-169B0EA8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341D3-74AE-4F5F-AF06-147F3488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49B-7F41-4A42-AEB3-6C27C748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6B7AD-EC49-480B-912E-93F62DA1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1FB2D-566D-4C8C-A5E1-250DB0B3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9A53E-C4AD-446A-93B3-3021229E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2924F-453C-4D67-BF74-A646DA83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217E5-CDED-4F32-8506-DD0255FC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17D98-5351-4CE8-A111-7FED1FF7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B4765-6F56-445E-80B8-4A9291E6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D5B34-8C28-46A6-BF74-38FA516C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353F2-33EC-456E-BBF4-3B1517E5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646C5-B1E3-4FCB-B74A-D880CB9C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3F2-04E1-4613-A464-AEE10E36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0A3AF-FAD9-46D4-A14B-E306C6CC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1834C-471B-42BD-B123-09CB03B9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E96CF-4F76-4CA8-A01F-34548DA5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CBE1E-8A63-4DDA-9258-FC567615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74B50-F345-4BBA-B33E-9B0574B4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418A5-B181-49FA-9795-469AA839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5642F-A2DC-4899-8C80-5F2E27F7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03AC6-033D-43F9-BDD9-382DB429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05418-7C61-4AB3-BA12-4E8B9873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234BB-29F6-4761-96E6-B10AF4CA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D99-8799-41BF-949D-B2BC0FDB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37A0B-5697-4F8D-85C5-7CEAE1A5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4AFFD-A41C-4204-9E6E-36D9A736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22ED0-DB6B-4F1F-903F-5A073A7F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B3955-99FE-4AEA-9A7D-F421B23C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916A4-4DB3-4A9F-A1ED-155912E0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2B60A-373E-4DDF-A05A-E1A7BD95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EC5CA-2972-410F-8F6F-D583817F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3EC47-B112-4CE2-8A15-37F438F4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696BD-1D91-4B69-B737-22701B27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C8C09-7C6C-492F-84FA-9F75DA56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4EF-84AF-4D79-9419-CF5F2F4A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2EE16-907B-47BC-86ED-FF22C09C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6C33B-64C4-4073-BF47-20103624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96DE4-59D6-48DA-974E-AED77C99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77B71-9AA5-4D65-AAB5-85FD80D4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B80B8-27B7-41DE-9ED9-75185833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E3797-1DE8-4548-8F6E-4611D8DF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B5DE0-9622-48C8-8966-ACD66EC8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3688B-68F5-475A-A622-079A38AF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9DDA0-CB02-4945-8235-A3A34CA3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111AA-8FBE-4773-B3AE-3BCDB55A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1AA-428D-49B0-BD89-9BE2F4CC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A2D22-8182-4818-A6FD-CA1DF5AD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E1568-7461-4127-96C0-549D1925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9692E-7B01-4E66-8B3E-AF5685AE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84D26-E384-4F6A-8B56-7B070EED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CBABA-F6F7-431A-9721-FE52A96B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3365E-9AC4-4178-AB18-22567E29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16BEC-3E3A-4660-8984-1578AEB3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DEDFB-B212-4D6C-8E8D-F538BA54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CF898-D344-441D-B2FB-46A020F9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8C79D-12E3-4A66-B1C9-0AA66775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9EDD-9932-41C0-9765-3A7F06FA65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2C8F-42F5-4586-A93B-C460C85123A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EBB2-0EAA-40FF-B104-DCBF74D572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4E05-7859-4EF6-8E67-BFDFCA59B6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CABE-CE31-4FD2-A27B-C85D028E48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70DB-13C4-4861-86AC-B85D946772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2697-769F-4BA0-9165-1FEB7C7463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83E5-F99A-43AD-B74C-80FDF81DE9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A822-6197-4A4A-B22A-35947A90F7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60A4-8B8B-4AE7-B097-F6873B6289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07A0-B6CF-44BA-AD85-9A6726EA41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108000" y="44280"/>
            <a:ext cx="8856720" cy="67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ike the ra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ike ra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ike the storm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ike storm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hate the sun and the cold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ove the sun and the cold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ove the snow and the fog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ove the snow and I like the fog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ike the wind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ike the wind and the ra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Box 1"/>
          <p:cNvSpPr/>
          <p:nvPr/>
        </p:nvSpPr>
        <p:spPr>
          <a:xfrm>
            <a:off x="250920" y="119700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9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ike the wind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1187280" y="2060640"/>
            <a:ext cx="779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gusta el viento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Box 1"/>
          <p:cNvSpPr/>
          <p:nvPr/>
        </p:nvSpPr>
        <p:spPr>
          <a:xfrm>
            <a:off x="250920" y="119700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10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ike the wind and the</a:t>
            </a:r>
            <a:br>
              <a:rPr sz="4800"/>
            </a:b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     rai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Box 4"/>
          <p:cNvSpPr/>
          <p:nvPr/>
        </p:nvSpPr>
        <p:spPr>
          <a:xfrm>
            <a:off x="1187280" y="2957400"/>
            <a:ext cx="779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gusta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 el viento y la lluvia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Box 1"/>
          <p:cNvSpPr/>
          <p:nvPr/>
        </p:nvSpPr>
        <p:spPr>
          <a:xfrm>
            <a:off x="250920" y="119700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1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ike the rai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TextBox 4"/>
          <p:cNvSpPr/>
          <p:nvPr/>
        </p:nvSpPr>
        <p:spPr>
          <a:xfrm>
            <a:off x="1187280" y="2165400"/>
            <a:ext cx="779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gusta la lluvia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TextBox 1"/>
          <p:cNvSpPr/>
          <p:nvPr/>
        </p:nvSpPr>
        <p:spPr>
          <a:xfrm>
            <a:off x="250920" y="119700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2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ike rai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1187280" y="2165400"/>
            <a:ext cx="779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gusta la lluvia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TextBox 1"/>
          <p:cNvSpPr/>
          <p:nvPr/>
        </p:nvSpPr>
        <p:spPr>
          <a:xfrm>
            <a:off x="250920" y="119700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3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ike the storms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Box 4"/>
          <p:cNvSpPr/>
          <p:nvPr/>
        </p:nvSpPr>
        <p:spPr>
          <a:xfrm>
            <a:off x="1187280" y="2165400"/>
            <a:ext cx="779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gusta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 las tormentas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Box 1"/>
          <p:cNvSpPr/>
          <p:nvPr/>
        </p:nvSpPr>
        <p:spPr>
          <a:xfrm>
            <a:off x="250920" y="119700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4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ike storms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Box 4"/>
          <p:cNvSpPr/>
          <p:nvPr/>
        </p:nvSpPr>
        <p:spPr>
          <a:xfrm>
            <a:off x="1187280" y="2165400"/>
            <a:ext cx="779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gusta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 las tormentas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Box 1"/>
          <p:cNvSpPr/>
          <p:nvPr/>
        </p:nvSpPr>
        <p:spPr>
          <a:xfrm>
            <a:off x="250920" y="119700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5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hate the sun and the</a:t>
            </a:r>
            <a:br>
              <a:rPr sz="4800"/>
            </a:b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     cold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Box 4"/>
          <p:cNvSpPr/>
          <p:nvPr/>
        </p:nvSpPr>
        <p:spPr>
          <a:xfrm>
            <a:off x="1187280" y="2957400"/>
            <a:ext cx="779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Odio el sol y el frío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Box 1"/>
          <p:cNvSpPr/>
          <p:nvPr/>
        </p:nvSpPr>
        <p:spPr>
          <a:xfrm>
            <a:off x="250920" y="119700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6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ove the sun and the</a:t>
            </a:r>
            <a:br>
              <a:rPr sz="4800"/>
            </a:b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     cold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Box 4"/>
          <p:cNvSpPr/>
          <p:nvPr/>
        </p:nvSpPr>
        <p:spPr>
          <a:xfrm>
            <a:off x="1187280" y="2957400"/>
            <a:ext cx="779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encanta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 el sol y el frío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250920" y="119700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7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ove the snow and the</a:t>
            </a:r>
            <a:br>
              <a:rPr sz="4800"/>
            </a:b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    fog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1187280" y="2957400"/>
            <a:ext cx="779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encanta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 la nieve y la niebla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Box 1"/>
          <p:cNvSpPr/>
          <p:nvPr/>
        </p:nvSpPr>
        <p:spPr>
          <a:xfrm>
            <a:off x="250920" y="119700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8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ove the snow and I like</a:t>
            </a:r>
            <a:br>
              <a:rPr sz="4800"/>
            </a:b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     the fog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Box 4"/>
          <p:cNvSpPr/>
          <p:nvPr/>
        </p:nvSpPr>
        <p:spPr>
          <a:xfrm>
            <a:off x="1187280" y="2957400"/>
            <a:ext cx="779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encanta la nieve y me gusta la niebla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7-07T10:52:41Z</dcterms:modified>
  <cp:revision>220</cp:revision>
  <dc:subject/>
  <dc:title>TITLE</dc:title>
</cp:coreProperties>
</file>