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4413-E407-4017-8E32-F5CF7E48A40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9F8C-6B46-4DFC-93EE-7BC7B381051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AEF6-51A4-47B3-A6B1-075FC280676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E448-6B91-43DB-B630-7413425EF0B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8E82-0C45-4412-B400-97185A7BF68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D4D1-E739-44F7-9A68-E1A48B9CE6D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8837-1668-4B12-AD3E-197B00246E8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B7C2-09CA-4245-87F7-5FB42FB81FA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D3463-7B3B-425A-9A91-D55BD28CC9A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191B-88B5-4390-8724-D3289B23A0C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A175-3F0A-4488-A298-22E95778742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A476-C272-4FD5-A76D-141A8A8CA79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E0DC-DDF3-4CF7-89B9-84B6106EF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28FF-BC43-4F92-8D3A-A6D024A9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518C3C-BBA8-42EC-94AA-F66B41A3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C0B95C-E1A4-444E-99E5-5FC67061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381809-3754-4B90-B74B-F9F437D3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70C9B-B4E5-4E68-AF34-DC6D4F71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54C83A-3503-4B4F-A505-00C3A010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150827-BC84-4EFA-8951-20DA0C6F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EDE1A0-AB29-4A36-A433-BFB74F8D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689078-F653-4650-B90A-1121B4DF3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6F5584-18D9-4C76-B914-42A749508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070690-9F2A-4472-8CCC-275B3F05B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752B-1EA9-4C63-93BF-207632EA5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12D0FF-69F9-4104-AA05-2CE24F08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27E957-481E-429B-B5C2-9DD83B8B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2943D4-9551-4F6E-9EDA-B442C95D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26808B-F1D8-49A4-BE09-88BF8591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77A32A-A453-4B87-BBC6-66637BC8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943E62-D25D-409D-BB7E-D821C481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1C904A-A800-4C3C-B007-52E3D36C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F3DCBE-9537-47E8-A59E-2B07EE16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C8C395-A860-46C5-8594-1EE5A872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10FB2A-40D8-4163-B553-C2C6A867E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8364-8994-4BE9-8830-17B2FED29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6DB8BA-529D-420A-9FA9-AB8EF5188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13BF3-A32A-49A9-AA8C-6D8BF56C4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951747-62F8-4E57-B37F-C797E920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D4D82D-3207-4385-938D-BFB53A43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F4977-FE43-4A70-90CF-B17A1604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5EAC7D-4098-46F2-99FD-2A477B45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76820-4D24-4A4A-BDE8-F135183F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BE9C2B-31D8-4AAC-BAE5-4E53E700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AD767-FA4D-4C95-BABE-99F03D11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93DE5D-DA18-416A-8A02-39B8FCE0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6469A-EDE2-4341-8C06-68EF5E30A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F5678F-BC90-4CE1-849E-1DFF059F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20460-46EA-4E52-A240-3028E991E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8FEE4-050A-4372-9C79-F244D4B8F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1170-CC30-43B1-928C-8B893EAA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FCB4-86AF-44BA-938A-F1DCD5BC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9C33-01FB-4DA1-AD9E-F2149F66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C546-F8F7-4A12-A9CB-55B5B004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E8C3-BD3F-4B30-95BE-6F83613F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B9CF-AB8B-4FE2-9436-FDE44829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0423-A61B-4F37-A048-6B9084C6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D355-30B1-489A-924F-55BDB59A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3A9F-0C69-4B19-87A6-8528A08C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69B8-B3FF-49F7-94D3-640F3604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F2C2-43F6-4A90-A5F5-AF83E1549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D518-082C-4555-9B48-92CA56376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77B04-8335-43D3-8CF4-BFDE5DE28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284A5-CB4C-4039-BDD7-CDD9A6E4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37DBB-9A0F-4529-9E86-F80D74D9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1EB43-C71F-4DF2-92EA-8738EF04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CA28A-097A-40D9-91F6-7D1D12C1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D0B9-A5BA-4318-98DE-0D4ED40B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373F5-939E-48BA-99E3-152231B1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910BD-E3EE-4C1E-ADBA-906BC618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FF75D-704D-4CDB-A804-2BD21A5D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8DCD0-4A1C-4F1E-AA6D-2D362BFB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6A9CB-C2C2-482F-888E-466CBA51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79BC7-11AC-4AB5-B06E-EDE264EE4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C23F6-EB9E-40F9-B153-2E6774329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1E5F8-8989-4D1E-A056-5A5831283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95AE9-0A24-400B-BE53-7E6739FE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3E387-E013-42E8-91A0-BB7417F7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9E44-E34C-4E67-ABBB-3EADEDB9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B2D06-DEF5-48AC-B32D-3F9B43A6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9C853-604B-4FDE-AF6B-45FA81B5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DE03F-1237-4501-BBE7-FDE71A6A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22BC9-4F19-453B-92D8-C3AF51CC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295E0-B97B-425F-BE3D-717655A6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7B9CB-EC9E-48E7-8E65-3CC088C4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E5D85-6596-421B-A5D8-DE425280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455CD-FA94-4528-9BEC-945BB84B0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83FB8-44BA-4503-9E2C-BD673AADD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2A372-9018-4BAE-81B2-170425659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8474-CEA5-4DF9-8E4C-AD7E48DA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34AF3-F246-4AF3-B374-30697A4C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0ECAE-7FBE-44D4-85D1-6C2C9442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7FB4F-64EE-47B7-93F7-D88FC7DA7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E0B25-6966-4CCB-ADE4-F6A67F6B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45E73-4166-4CE5-AD7C-B3BF598F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9A314-3A92-44E7-BB42-71F28E89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C9317-B22E-41DC-A373-CE674BFC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BB4E1-506A-46EE-8FD0-962030F1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652E5-3B1A-47B4-A42C-5F85C1F0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7C01F-9A48-435C-A55E-16ED64D48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9BF8-DDAB-4B66-BB56-D2B5B4C4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61C7B-CFD9-48B6-93F4-1A9B1EF14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82E69-4062-486C-9131-8AAD84F52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B8DB7-ECC2-4261-993C-1DA9A75C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89E4C-21B3-4219-92B4-89B7B0F4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BB300-938F-409F-B7EB-DA73E5B0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5A853-BB06-4775-88A7-37B53954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93F5A-3990-417A-9B81-C04C3323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A8375-6030-40E0-BA7A-8B6BDE37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51A77-9933-4B14-9715-DB142091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F42EA-0772-4890-BB5E-D4E167AC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5207-E487-4154-855A-5E3528CA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D1ACF-8BE7-4371-AB29-5B753266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753A4-9CFE-42E8-A580-D3D7C96BF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17DB4-1A14-4753-B067-FFFAEE4A6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D455E-36DF-4A87-AA80-4A9EDF6B4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AA053-669F-4EDD-A2B7-4E99034F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65B1F-E0FA-45C7-AD99-FE483B7D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52D54-D015-4AD3-B206-6E95E787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593E9-1B7D-4C86-9480-697C0F67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F9EB0-A914-4F34-9040-572D8122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EE51C-E3EB-4269-8EA8-E3FFE430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A630-9611-4371-96B4-B4BEA525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538EE-435E-4018-9EBB-8F161CCB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F14C9-60C0-4172-8CE9-B2EA5C7B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491D1-64E9-4F7E-ABE5-397A95A6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E214A-A206-46D9-8611-3502D98CE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25278-BCD7-4D6B-A451-AB671BBC9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67DDE-6680-49EB-A95C-F78BB2949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062D6-5828-4529-9544-7F5A3A86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6E90F-5C60-4633-9B1B-7C1EC3B2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5F957-82E8-47BE-90F2-9C7B8A0C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2920A-832F-420F-AF0E-96D77CAC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33CB-28E5-4598-A83B-3EC8982D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89F38-611C-4140-98D9-E14149A5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FD4C6-F3AE-4ED1-973B-946F151F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5F2FF-DB6C-4F7F-AF42-0844E081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F7A5A-1C0C-4FE2-BACF-1E29FFD9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66B2A-1EFF-47D8-B2EF-2AACCC44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52CE4-B5DD-4F3C-B04C-522DFCD02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DE9DD-9665-4187-B90C-4FCF1E3B8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47B3C-451D-456B-8E78-6EA1341E6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6361F7-03CF-4057-989B-BA8AA5AC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A06B1A-AFDF-4D23-831A-0ACBF483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395A-F064-464E-AA80-BC36B06B916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2763-AAE2-4B96-A65C-9B1325062AE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A0F8-0174-4F28-ACDD-0A80877AEB1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EFA8-DE59-4B09-9BE4-94E457A24B4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25DA-C5EB-466D-835C-7CA206245AC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0898-6E6A-49EB-BEFA-1C14C4280B3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A798-0A93-432D-BC6B-4ABD97CF3D9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072A-1F4D-4E71-85E9-3001FBA3D48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35C2-DE81-43FE-8BA5-F279A87CA0B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3431-3A4D-4942-9346-D1737FE8B79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2A32-52C4-4EE0-B766-9E8E2E25FBE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Text Box 3"/>
          <p:cNvSpPr/>
          <p:nvPr/>
        </p:nvSpPr>
        <p:spPr>
          <a:xfrm>
            <a:off x="108000" y="44280"/>
            <a:ext cx="8856720" cy="67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75000"/>
              </a:lnSpc>
              <a:spcBef>
                <a:spcPts val="2251"/>
              </a:spcBef>
              <a:buClr>
                <a:srgbClr val="ffffd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d9"/>
                </a:solidFill>
                <a:latin typeface="Comic Sans MS"/>
              </a:rPr>
              <a:t>I like the rai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75000"/>
              </a:lnSpc>
              <a:spcBef>
                <a:spcPts val="2251"/>
              </a:spcBef>
              <a:buClr>
                <a:srgbClr val="ffffd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d9"/>
                </a:solidFill>
                <a:latin typeface="Comic Sans MS"/>
              </a:rPr>
              <a:t>I like rai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75000"/>
              </a:lnSpc>
              <a:spcBef>
                <a:spcPts val="2251"/>
              </a:spcBef>
              <a:buClr>
                <a:srgbClr val="ffffd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d9"/>
                </a:solidFill>
                <a:latin typeface="Comic Sans MS"/>
              </a:rPr>
              <a:t>I like the storm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75000"/>
              </a:lnSpc>
              <a:spcBef>
                <a:spcPts val="2251"/>
              </a:spcBef>
              <a:buClr>
                <a:srgbClr val="ffffd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d9"/>
                </a:solidFill>
                <a:latin typeface="Comic Sans MS"/>
              </a:rPr>
              <a:t>I like storm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75000"/>
              </a:lnSpc>
              <a:spcBef>
                <a:spcPts val="2251"/>
              </a:spcBef>
              <a:buClr>
                <a:srgbClr val="ffffd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d9"/>
                </a:solidFill>
                <a:latin typeface="Comic Sans MS"/>
              </a:rPr>
              <a:t>I hate the sun and the cold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75000"/>
              </a:lnSpc>
              <a:spcBef>
                <a:spcPts val="2251"/>
              </a:spcBef>
              <a:buClr>
                <a:srgbClr val="ffffd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d9"/>
                </a:solidFill>
                <a:latin typeface="Comic Sans MS"/>
              </a:rPr>
              <a:t>I love the sun and the cold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75000"/>
              </a:lnSpc>
              <a:spcBef>
                <a:spcPts val="2251"/>
              </a:spcBef>
              <a:buClr>
                <a:srgbClr val="ffffd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d9"/>
                </a:solidFill>
                <a:latin typeface="Comic Sans MS"/>
              </a:rPr>
              <a:t>I love the snow and the fog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75000"/>
              </a:lnSpc>
              <a:spcBef>
                <a:spcPts val="2251"/>
              </a:spcBef>
              <a:buClr>
                <a:srgbClr val="ffffd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d9"/>
                </a:solidFill>
                <a:latin typeface="Comic Sans MS"/>
              </a:rPr>
              <a:t>I love the snow and I like the fog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75000"/>
              </a:lnSpc>
              <a:spcBef>
                <a:spcPts val="2251"/>
              </a:spcBef>
              <a:buClr>
                <a:srgbClr val="ffffd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d9"/>
                </a:solidFill>
                <a:latin typeface="Comic Sans MS"/>
              </a:rPr>
              <a:t>I like the wind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75000"/>
              </a:lnSpc>
              <a:spcBef>
                <a:spcPts val="2251"/>
              </a:spcBef>
              <a:buClr>
                <a:srgbClr val="ffffd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d9"/>
                </a:solidFill>
                <a:latin typeface="Comic Sans MS"/>
              </a:rPr>
              <a:t>I like the wind and the rai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TextBox 1"/>
          <p:cNvSpPr/>
          <p:nvPr/>
        </p:nvSpPr>
        <p:spPr>
          <a:xfrm>
            <a:off x="250920" y="1197000"/>
            <a:ext cx="871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9.</a:t>
            </a: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I like the wind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TextBox 4"/>
          <p:cNvSpPr/>
          <p:nvPr/>
        </p:nvSpPr>
        <p:spPr>
          <a:xfrm>
            <a:off x="1187280" y="2060640"/>
            <a:ext cx="779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Me gusta el viento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25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TextBox 1"/>
          <p:cNvSpPr/>
          <p:nvPr/>
        </p:nvSpPr>
        <p:spPr>
          <a:xfrm>
            <a:off x="250920" y="1197000"/>
            <a:ext cx="87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10.</a:t>
            </a: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I like the wind and the</a:t>
            </a:r>
            <a:br>
              <a:rPr sz="4800"/>
            </a:b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     rain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TextBox 4"/>
          <p:cNvSpPr/>
          <p:nvPr/>
        </p:nvSpPr>
        <p:spPr>
          <a:xfrm>
            <a:off x="1187280" y="2957400"/>
            <a:ext cx="7797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Me gusta</a:t>
            </a:r>
            <a:r>
              <a:rPr b="0" lang="en-US" sz="4800" spc="-1" strike="noStrike" u="sng">
                <a:solidFill>
                  <a:srgbClr val="ffff00"/>
                </a:solidFill>
                <a:uFillTx/>
                <a:latin typeface="Comic Sans MS"/>
              </a:rPr>
              <a:t>n</a:t>
            </a: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 el viento y la lluvia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25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TextBox 1"/>
          <p:cNvSpPr/>
          <p:nvPr/>
        </p:nvSpPr>
        <p:spPr>
          <a:xfrm>
            <a:off x="250920" y="1197000"/>
            <a:ext cx="871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1.</a:t>
            </a: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I like the rain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TextBox 4"/>
          <p:cNvSpPr/>
          <p:nvPr/>
        </p:nvSpPr>
        <p:spPr>
          <a:xfrm>
            <a:off x="1187280" y="2165400"/>
            <a:ext cx="779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Me gusta la lluvia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2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TextBox 1"/>
          <p:cNvSpPr/>
          <p:nvPr/>
        </p:nvSpPr>
        <p:spPr>
          <a:xfrm>
            <a:off x="250920" y="1197000"/>
            <a:ext cx="871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2.</a:t>
            </a: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I like rain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TextBox 4"/>
          <p:cNvSpPr/>
          <p:nvPr/>
        </p:nvSpPr>
        <p:spPr>
          <a:xfrm>
            <a:off x="1187280" y="2165400"/>
            <a:ext cx="779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Me gusta la lluvia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25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TextBox 1"/>
          <p:cNvSpPr/>
          <p:nvPr/>
        </p:nvSpPr>
        <p:spPr>
          <a:xfrm>
            <a:off x="250920" y="1197000"/>
            <a:ext cx="871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3.</a:t>
            </a: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I like the storms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TextBox 4"/>
          <p:cNvSpPr/>
          <p:nvPr/>
        </p:nvSpPr>
        <p:spPr>
          <a:xfrm>
            <a:off x="1187280" y="2165400"/>
            <a:ext cx="779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Me gusta</a:t>
            </a:r>
            <a:r>
              <a:rPr b="0" lang="en-US" sz="4800" spc="-1" strike="noStrike" u="sng">
                <a:solidFill>
                  <a:srgbClr val="ffff00"/>
                </a:solidFill>
                <a:uFillTx/>
                <a:latin typeface="Comic Sans MS"/>
              </a:rPr>
              <a:t>n</a:t>
            </a: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 las tormentas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25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TextBox 1"/>
          <p:cNvSpPr/>
          <p:nvPr/>
        </p:nvSpPr>
        <p:spPr>
          <a:xfrm>
            <a:off x="250920" y="1197000"/>
            <a:ext cx="871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4.</a:t>
            </a: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I like storms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TextBox 4"/>
          <p:cNvSpPr/>
          <p:nvPr/>
        </p:nvSpPr>
        <p:spPr>
          <a:xfrm>
            <a:off x="1187280" y="2165400"/>
            <a:ext cx="779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Me gusta</a:t>
            </a:r>
            <a:r>
              <a:rPr b="0" lang="en-US" sz="4800" spc="-1" strike="noStrike" u="sng">
                <a:solidFill>
                  <a:srgbClr val="ffff00"/>
                </a:solidFill>
                <a:uFillTx/>
                <a:latin typeface="Comic Sans MS"/>
              </a:rPr>
              <a:t>n</a:t>
            </a: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 las tormentas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25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TextBox 1"/>
          <p:cNvSpPr/>
          <p:nvPr/>
        </p:nvSpPr>
        <p:spPr>
          <a:xfrm>
            <a:off x="250920" y="1197000"/>
            <a:ext cx="87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5.</a:t>
            </a: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I hate the sun and the</a:t>
            </a:r>
            <a:br>
              <a:rPr sz="4800"/>
            </a:b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     cold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TextBox 4"/>
          <p:cNvSpPr/>
          <p:nvPr/>
        </p:nvSpPr>
        <p:spPr>
          <a:xfrm>
            <a:off x="1187280" y="2957400"/>
            <a:ext cx="779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Odio el sol y el frío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25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TextBox 1"/>
          <p:cNvSpPr/>
          <p:nvPr/>
        </p:nvSpPr>
        <p:spPr>
          <a:xfrm>
            <a:off x="250920" y="1197000"/>
            <a:ext cx="87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6.</a:t>
            </a: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I love the sun and the</a:t>
            </a:r>
            <a:br>
              <a:rPr sz="4800"/>
            </a:b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     cold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TextBox 4"/>
          <p:cNvSpPr/>
          <p:nvPr/>
        </p:nvSpPr>
        <p:spPr>
          <a:xfrm>
            <a:off x="1187280" y="2957400"/>
            <a:ext cx="7797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Me encanta</a:t>
            </a:r>
            <a:r>
              <a:rPr b="0" lang="en-US" sz="4800" spc="-1" strike="noStrike" u="sng">
                <a:solidFill>
                  <a:srgbClr val="ffff00"/>
                </a:solidFill>
                <a:uFillTx/>
                <a:latin typeface="Comic Sans MS"/>
              </a:rPr>
              <a:t>n</a:t>
            </a: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 el sol y el frío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25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TextBox 1"/>
          <p:cNvSpPr/>
          <p:nvPr/>
        </p:nvSpPr>
        <p:spPr>
          <a:xfrm>
            <a:off x="250920" y="1197000"/>
            <a:ext cx="87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7.</a:t>
            </a: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I love the snow and the</a:t>
            </a:r>
            <a:br>
              <a:rPr sz="4800"/>
            </a:b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    fog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TextBox 4"/>
          <p:cNvSpPr/>
          <p:nvPr/>
        </p:nvSpPr>
        <p:spPr>
          <a:xfrm>
            <a:off x="1187280" y="2957400"/>
            <a:ext cx="7797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Me encanta</a:t>
            </a:r>
            <a:r>
              <a:rPr b="0" lang="en-US" sz="4800" spc="-1" strike="noStrike" u="sng">
                <a:solidFill>
                  <a:srgbClr val="ffff00"/>
                </a:solidFill>
                <a:uFillTx/>
                <a:latin typeface="Comic Sans MS"/>
              </a:rPr>
              <a:t>n</a:t>
            </a: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 la nieve y la niebla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25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TextBox 1"/>
          <p:cNvSpPr/>
          <p:nvPr/>
        </p:nvSpPr>
        <p:spPr>
          <a:xfrm>
            <a:off x="250920" y="1197000"/>
            <a:ext cx="87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8.</a:t>
            </a: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I love the snow and I like</a:t>
            </a:r>
            <a:br>
              <a:rPr sz="4800"/>
            </a:br>
            <a:r>
              <a:rPr b="0" lang="en-US" sz="4800" spc="-1" strike="noStrike">
                <a:solidFill>
                  <a:srgbClr val="ffffd9"/>
                </a:solidFill>
                <a:latin typeface="Comic Sans MS"/>
              </a:rPr>
              <a:t>     the fog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TextBox 4"/>
          <p:cNvSpPr/>
          <p:nvPr/>
        </p:nvSpPr>
        <p:spPr>
          <a:xfrm>
            <a:off x="1187280" y="2957400"/>
            <a:ext cx="7797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Me encanta la nieve y me gusta la niebla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25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7-07T10:52:41Z</dcterms:modified>
  <cp:revision>220</cp:revision>
  <dc:subject/>
  <dc:title>TITLE</dc:title>
</cp:coreProperties>
</file>