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FF5-006A-4A2D-9247-3413F3B0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778-DB00-4983-BAB5-F0854EA0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E74-FD9E-421F-9D67-77760783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E6C-0D18-4DF2-AD5B-7F3DF0D7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71E-4117-40A0-9430-C05AB9EF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6DD-D24D-445B-88AE-D077B254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731-F4CE-4388-8011-01943942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6EC-8B72-4304-99F3-95513E4B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47C-4761-489E-8CAB-E1EE5FD3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547-A387-467F-9BD7-35BF76F7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4FE-2DF9-4381-99D9-03AE965C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EA6-3706-43CD-AD8E-9EDDA5CA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E2D0-7B82-43CD-B524-D1766CAD22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981000"/>
            <a:ext cx="266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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197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enc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2939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gu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339264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da ig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4491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no me gu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5897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10:35:15Z</dcterms:modified>
  <cp:revision>153</cp:revision>
  <dc:subject/>
  <dc:title>TITLE</dc:title>
</cp:coreProperties>
</file>