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4FB-D01A-4B55-8918-B7895399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BF3-F3CD-4874-91EC-E41F1C86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3E3-DBAE-4A91-83AF-856773BD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53C-7697-4AA9-B393-F2691590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ADB-3B45-4D66-98F5-6565A2FD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119-4747-4FCE-A913-96B0597E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0BA-7D79-4C10-B48F-D59EA608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9BA-3B66-4202-8393-0F2C6D10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71D-724A-44DD-A242-5849B94F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6F1-0267-4DF9-9182-9FB3DE90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24B-3493-44D8-93DC-A566682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B3B-42FE-4B39-8E3D-C95B500B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8F55-AB46-4161-BAE0-ABE6BE7B03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981000"/>
            <a:ext cx="266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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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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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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19700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enc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2939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gu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339264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da ig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449100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no me gu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5897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3T10:35:15Z</dcterms:modified>
  <cp:revision>153</cp:revision>
  <dc:subject/>
  <dc:title>TITLE</dc:title>
</cp:coreProperties>
</file>