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631-B139-4983-B398-1A9A1165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54B-9176-45D3-94B2-6AD86190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538-F211-46F8-A893-C09944A0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4FE-CF58-4657-96E5-1C1BF33C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BB1-A7FF-490E-A94E-3CB10C2C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04B-3DC0-44FD-BD20-DA25AE6C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B8D-8818-4675-8E73-42D75BE3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211-0FC4-417E-A448-4D6823CA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F13-77BA-4182-A2EF-EF4543B3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E33-C845-4839-89E7-06677C8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116-4232-4AF8-B01D-DEB72F6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850-F416-49C5-99BD-94B54FD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DE61-019A-4039-B42D-D9ABE32F52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11280" y="333360"/>
            <a:ext cx="34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Januar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ene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2" descr="Image result for wikimedia janus"/>
          <p:cNvPicPr/>
          <p:nvPr/>
        </p:nvPicPr>
        <p:blipFill>
          <a:blip r:embed="rId1"/>
          <a:stretch/>
        </p:blipFill>
        <p:spPr>
          <a:xfrm>
            <a:off x="395280" y="3068640"/>
            <a:ext cx="3108240" cy="3135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Janus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the god of new beginn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1280" y="333360"/>
            <a:ext cx="46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Octo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octu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octo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611280" y="333360"/>
            <a:ext cx="46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Novem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noviem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novem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11280" y="333360"/>
            <a:ext cx="46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Decem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diciem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decem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Februar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febre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Februa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festiv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Mar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marz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Mars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god of w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Image result for wikimedia god mars"/>
          <p:cNvPicPr/>
          <p:nvPr/>
        </p:nvPicPr>
        <p:blipFill>
          <a:blip r:embed="rId1"/>
          <a:stretch/>
        </p:blipFill>
        <p:spPr>
          <a:xfrm>
            <a:off x="179280" y="3573360"/>
            <a:ext cx="3376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Apri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abri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708360" y="4005360"/>
            <a:ext cx="532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aperire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“to open” in Lat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M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may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3708360" y="4005360"/>
            <a:ext cx="54356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Maia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goddess of the ea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Image result for wikimedia goddess maia"/>
          <p:cNvPicPr/>
          <p:nvPr/>
        </p:nvPicPr>
        <p:blipFill>
          <a:blip r:embed="rId1"/>
          <a:stretch/>
        </p:blipFill>
        <p:spPr>
          <a:xfrm>
            <a:off x="611280" y="3141720"/>
            <a:ext cx="24843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Jun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juni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3708360" y="4005360"/>
            <a:ext cx="54356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Juno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Queen of the Roman gods,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wife of Jupi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Image result for wikimedia goddess juno"/>
          <p:cNvPicPr/>
          <p:nvPr/>
        </p:nvPicPr>
        <p:blipFill>
          <a:blip r:embed="rId1"/>
          <a:stretch/>
        </p:blipFill>
        <p:spPr>
          <a:xfrm>
            <a:off x="1371600" y="2852640"/>
            <a:ext cx="15541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Jul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juli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708360" y="4005360"/>
            <a:ext cx="54356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Julius Caesar </a:t>
            </a: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100 BC – 44 BC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Roman emper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Image result for wikimedia julius caesar"/>
          <p:cNvPicPr/>
          <p:nvPr/>
        </p:nvPicPr>
        <p:blipFill>
          <a:blip r:embed="rId1"/>
          <a:stretch/>
        </p:blipFill>
        <p:spPr>
          <a:xfrm>
            <a:off x="971640" y="2998800"/>
            <a:ext cx="1949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611280" y="333360"/>
            <a:ext cx="396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Augus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agos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3708360" y="4005360"/>
            <a:ext cx="54356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00ccff"/>
                </a:solidFill>
                <a:latin typeface="Comic Sans MS"/>
              </a:rPr>
              <a:t>Augustus Caesar </a:t>
            </a: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27 BC – 14 AD</a:t>
            </a:r>
            <a:br>
              <a:rPr sz="3000"/>
            </a:b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Roman emperor</a:t>
            </a:r>
            <a:br>
              <a:rPr sz="3000"/>
            </a:b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also known as Octavian</a:t>
            </a:r>
            <a:br>
              <a:rPr sz="3000"/>
            </a:br>
            <a:r>
              <a:rPr b="0" lang="en-GB" sz="3000" spc="-1" strike="noStrike">
                <a:solidFill>
                  <a:srgbClr val="00ccff"/>
                </a:solidFill>
                <a:latin typeface="Comic Sans MS"/>
              </a:rPr>
              <a:t>Julius Caesar’s great-nephew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" descr="Image result for wikimedia augustus caesar"/>
          <p:cNvPicPr/>
          <p:nvPr/>
        </p:nvPicPr>
        <p:blipFill>
          <a:blip r:embed="rId1"/>
          <a:stretch/>
        </p:blipFill>
        <p:spPr>
          <a:xfrm>
            <a:off x="611280" y="2997360"/>
            <a:ext cx="2400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611280" y="333360"/>
            <a:ext cx="4608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Septemb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cec00"/>
                </a:solidFill>
                <a:latin typeface="Comic Sans MS"/>
              </a:rPr>
              <a:t>septiembr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3708360" y="4005360"/>
            <a:ext cx="5435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ff"/>
                </a:solidFill>
                <a:latin typeface="Comic Sans MS"/>
              </a:rPr>
              <a:t>septem</a:t>
            </a:r>
            <a:br>
              <a:rPr sz="6600"/>
            </a:br>
            <a:r>
              <a:rPr b="0" lang="en-GB" sz="3200" spc="-1" strike="noStrike">
                <a:solidFill>
                  <a:srgbClr val="00ccff"/>
                </a:solidFill>
                <a:latin typeface="Comic Sans MS"/>
              </a:rPr>
              <a:t>Latin word for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3:11Z</dcterms:modified>
  <cp:revision>138</cp:revision>
  <dc:subject/>
  <dc:title>TITLE</dc:title>
</cp:coreProperties>
</file>