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51F-54DC-4BB5-8D8B-F52B24F96A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C45-58B7-409A-8745-6461F428AA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4F5-AED0-453C-AB9B-0E01ACA1E7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FB68-83E8-42C9-B54A-F8DC5C36DFC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E49-8673-476A-8B86-8765EF54D4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BF12-59FF-485C-A76A-3599089B07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B495-AB2D-400C-93BB-C681EAA61A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C885-8056-4B37-A227-7646262AC4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534-65D9-4CF3-81ED-D14FA303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247-A50C-45AE-91EF-D95BB266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F93-B882-451F-865E-769BFB2D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C82-E393-4136-9B1B-3993D066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020-4342-43DB-974B-92112C9B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BD2-0D5A-4278-A74D-47771278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35B-DAF1-4638-92B9-AD4445B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36E-72C4-43F8-BCDA-A20F3114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187-8F86-4A06-A0E7-408C9A48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DA5-E25C-4F07-AA2E-5689A1B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795-902B-4D43-B5AA-DF624D9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952-879B-4BFC-A4C0-9A7D4EF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E7E4-F609-4C37-B158-60AD5AE1EB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24000" y="2565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to use this resour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actise the sentences using the sentence builder fir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en you click to advance to the first fading slide, the sentence will begin to fade.  Over 8 seconds it will fade t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le it is fading, the children need to memorise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s soon as the sentence has faded, the children write it on their whiteboard and hold it up for you to s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peat with the other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112680"/>
            <a:ext cx="91965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un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oso pardo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dieciocho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cebras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8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cuatro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bisontes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8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una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jirafa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79280" y="155736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En mi parque de animales hay </a:t>
            </a:r>
            <a:r>
              <a:rPr b="0" lang="en-GB" sz="5400" spc="-1" strike="noStrike">
                <a:solidFill>
                  <a:srgbClr val="ccffcc"/>
                </a:solidFill>
                <a:latin typeface="Comic Sans MS"/>
              </a:rPr>
              <a:t>quince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caballos</a:t>
            </a: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8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3:59Z</dcterms:modified>
  <cp:revision>125</cp:revision>
  <dc:subject/>
  <dc:title>TITLE</dc:title>
</cp:coreProperties>
</file>