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60409-F0E5-4454-94D0-F58205284CE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7D8F9-2384-4B97-9971-DD052C950FC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4C7B7-83AD-4EC5-BE73-2CC6C4B8C4F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D5883-DA56-43A1-B615-5C9A0D4BD42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68398-8E47-4262-85FD-FF984EB06D6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5A0C3-812F-4469-8DA6-B813DFB1C7E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6241C-959A-4E0F-A723-7AF6CE46323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05FD2-D343-4523-A58A-372D750A4C6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E6A4-198A-412E-840B-7BD906232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813F-531A-4DFC-8DAE-0ABBE3F78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1393-8CB7-4A23-8B6C-E8F2483A3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773A-F091-435C-869E-09B355974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FF84-DADB-4257-8A01-35E4A8C07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1DAD-6FB2-4A83-8DCF-726661099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2587-D793-4D22-BB9C-606E467B3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2775-F55A-44A4-86F4-487072859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E2AC-CEE4-4EEF-940D-808D4AC7F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D69B-ED2C-4B90-BBD3-A2A713EC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2599-07B6-47AA-8DDC-69782DE3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F61A-8EAC-40C6-BEB5-D4A855BF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15298-1DFF-49BB-9D1D-F05EE2D2647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324000" y="2565360"/>
            <a:ext cx="856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How to use this resourc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ractise the sentences using the sentence builder fir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hen you click to advance to the first fading slide, the sentence will begin to fade.  Over 8 seconds it will fade to nothi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hile it is fading, the children need to memorise i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s soon as the sentence has faded, the children write it on their whiteboard and hold it up for you to se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Repeat with the other sentenc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0" y="112680"/>
            <a:ext cx="9196560" cy="62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179280" y="1557360"/>
            <a:ext cx="8785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En mi parque de animales hay </a:t>
            </a:r>
            <a:r>
              <a:rPr b="0" lang="en-GB" sz="5400" spc="-1" strike="noStrike">
                <a:solidFill>
                  <a:srgbClr val="ccffcc"/>
                </a:solidFill>
                <a:latin typeface="Comic Sans MS"/>
              </a:rPr>
              <a:t>un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5400" spc="-1" strike="noStrike">
                <a:solidFill>
                  <a:srgbClr val="ccecff"/>
                </a:solidFill>
                <a:latin typeface="Comic Sans MS"/>
              </a:rPr>
              <a:t>oso pardo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8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79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Box 1"/>
          <p:cNvSpPr/>
          <p:nvPr/>
        </p:nvSpPr>
        <p:spPr>
          <a:xfrm>
            <a:off x="179280" y="1557360"/>
            <a:ext cx="8785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En mi parque de animales hay </a:t>
            </a:r>
            <a:r>
              <a:rPr b="0" lang="en-GB" sz="5400" spc="-1" strike="noStrike">
                <a:solidFill>
                  <a:srgbClr val="ccffcc"/>
                </a:solidFill>
                <a:latin typeface="Comic Sans MS"/>
              </a:rPr>
              <a:t>dieciocho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5400" spc="-1" strike="noStrike">
                <a:solidFill>
                  <a:srgbClr val="ccecff"/>
                </a:solidFill>
                <a:latin typeface="Comic Sans MS"/>
              </a:rPr>
              <a:t>cebras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8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79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Box 1"/>
          <p:cNvSpPr/>
          <p:nvPr/>
        </p:nvSpPr>
        <p:spPr>
          <a:xfrm>
            <a:off x="179280" y="1557360"/>
            <a:ext cx="8785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En mi parque de animales hay </a:t>
            </a:r>
            <a:r>
              <a:rPr b="0" lang="en-GB" sz="5400" spc="-1" strike="noStrike">
                <a:solidFill>
                  <a:srgbClr val="ccffcc"/>
                </a:solidFill>
                <a:latin typeface="Comic Sans MS"/>
              </a:rPr>
              <a:t>cuatro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5400" spc="-1" strike="noStrike">
                <a:solidFill>
                  <a:srgbClr val="ccecff"/>
                </a:solidFill>
                <a:latin typeface="Comic Sans MS"/>
              </a:rPr>
              <a:t>bisontes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8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79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Box 1"/>
          <p:cNvSpPr/>
          <p:nvPr/>
        </p:nvSpPr>
        <p:spPr>
          <a:xfrm>
            <a:off x="179280" y="1557360"/>
            <a:ext cx="8785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En mi parque de animales hay </a:t>
            </a:r>
            <a:r>
              <a:rPr b="0" lang="en-GB" sz="5400" spc="-1" strike="noStrike">
                <a:solidFill>
                  <a:srgbClr val="ccffcc"/>
                </a:solidFill>
                <a:latin typeface="Comic Sans MS"/>
              </a:rPr>
              <a:t>una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5400" spc="-1" strike="noStrike">
                <a:solidFill>
                  <a:srgbClr val="ccecff"/>
                </a:solidFill>
                <a:latin typeface="Comic Sans MS"/>
              </a:rPr>
              <a:t>jirafa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8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9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Box 1"/>
          <p:cNvSpPr/>
          <p:nvPr/>
        </p:nvSpPr>
        <p:spPr>
          <a:xfrm>
            <a:off x="179280" y="1557360"/>
            <a:ext cx="8785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En mi parque de animales hay </a:t>
            </a:r>
            <a:r>
              <a:rPr b="0" lang="en-GB" sz="5400" spc="-1" strike="noStrike">
                <a:solidFill>
                  <a:srgbClr val="ccffcc"/>
                </a:solidFill>
                <a:latin typeface="Comic Sans MS"/>
              </a:rPr>
              <a:t>quince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5400" spc="-1" strike="noStrike">
                <a:solidFill>
                  <a:srgbClr val="ccecff"/>
                </a:solidFill>
                <a:latin typeface="Comic Sans MS"/>
              </a:rPr>
              <a:t>caballos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8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79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0-10-19T07:33:59Z</dcterms:modified>
  <cp:revision>125</cp:revision>
  <dc:subject/>
  <dc:title>TITLE</dc:title>
</cp:coreProperties>
</file>