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EC1C-AB1B-47FA-8386-5A05FB585B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2A7F-66CA-4478-97CB-8F9FB91274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DF0-9CC1-4EAA-99CD-916E0182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406-D50C-4C71-8DAA-02790B3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70D-B05E-4EE7-B30D-35C0848A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D28-F479-469F-880E-E6A24515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D8C-4388-405C-9D5C-ABA5D85F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044-1005-4E43-883D-BDC1243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922-32CD-49B6-9D8A-8462B30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1E7-6A2E-4962-8CC3-99E08D3D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603-CB30-4453-A4D9-D83E2DA6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6F8-4FFC-43EE-AFE0-1013C0A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623-1DCF-491A-AC4A-B76B8F23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69A-880E-42DC-8BE4-99F98D1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5AD-DCDE-45AD-955C-0C1B42DAA6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27000" y="0"/>
            <a:ext cx="9180360" cy="6885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907920"/>
          <a:ext cx="8928000" cy="49690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248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4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5" descr=""/>
          <p:cNvPicPr/>
          <p:nvPr/>
        </p:nvPicPr>
        <p:blipFill>
          <a:blip r:embed="rId1"/>
          <a:srcRect l="0" t="18985" r="0" b="16218"/>
          <a:stretch/>
        </p:blipFill>
        <p:spPr>
          <a:xfrm>
            <a:off x="684360" y="1430280"/>
            <a:ext cx="188280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0" t="14422" r="0" b="9405"/>
          <a:stretch/>
        </p:blipFill>
        <p:spPr>
          <a:xfrm>
            <a:off x="3814920" y="162864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rcRect l="0" t="40282" r="0" b="45264"/>
          <a:stretch/>
        </p:blipFill>
        <p:spPr>
          <a:xfrm rot="18997800">
            <a:off x="2909880" y="4308120"/>
            <a:ext cx="324648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4"/>
          <a:srcRect l="0" t="43651" r="0" b="43640"/>
          <a:stretch/>
        </p:blipFill>
        <p:spPr>
          <a:xfrm rot="2268000">
            <a:off x="182520" y="4327200"/>
            <a:ext cx="3232080" cy="41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rcRect l="0" t="17604" r="0" b="22793"/>
          <a:stretch/>
        </p:blipFill>
        <p:spPr>
          <a:xfrm>
            <a:off x="6156360" y="3860640"/>
            <a:ext cx="2809800" cy="167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6"/>
          <a:srcRect l="0" t="33972" r="0" b="43306"/>
          <a:stretch/>
        </p:blipFill>
        <p:spPr>
          <a:xfrm rot="19756200">
            <a:off x="5896080" y="1741320"/>
            <a:ext cx="326232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6:59Z</dcterms:modified>
  <cp:revision>138</cp:revision>
  <dc:subject/>
  <dc:title>TITLE</dc:title>
</cp:coreProperties>
</file>