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0226-C497-4449-9EAD-076BD694F4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EE82-F951-47B4-BEDF-5B9D987BB3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3F1-C174-4FB0-9F0E-D7F7E12E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295-E7B5-4A62-A744-7437C3FA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25F-D8B3-418A-BF1E-25098E39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B0B-D351-4D1E-90F6-0446EBE7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DD5-6C89-4E08-A111-9658A3DF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D8E-8048-4CA1-AC9C-F78DD48D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800-E053-493D-A4D9-3372E3DD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E2E-BAB9-4552-8D52-97B17B10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46C-93C5-494D-9352-B1CB1200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C6A-11EF-42D8-9C1A-718BFDA8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183-5A6C-4D51-A543-D566CDB3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D67-E3CF-498D-8C52-CD83489F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DA13-5F92-4467-99BB-EECF062920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907920"/>
          <a:ext cx="8928000" cy="496908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248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4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5" descr=""/>
          <p:cNvPicPr/>
          <p:nvPr/>
        </p:nvPicPr>
        <p:blipFill>
          <a:blip r:embed="rId1"/>
          <a:srcRect l="0" t="18985" r="0" b="16218"/>
          <a:stretch/>
        </p:blipFill>
        <p:spPr>
          <a:xfrm>
            <a:off x="684360" y="1430280"/>
            <a:ext cx="1882800" cy="122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0" t="14422" r="0" b="9405"/>
          <a:stretch/>
        </p:blipFill>
        <p:spPr>
          <a:xfrm>
            <a:off x="3814920" y="162864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rcRect l="0" t="40282" r="0" b="45264"/>
          <a:stretch/>
        </p:blipFill>
        <p:spPr>
          <a:xfrm rot="18997800">
            <a:off x="2909880" y="4308120"/>
            <a:ext cx="3246480" cy="46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4"/>
          <a:srcRect l="0" t="43651" r="0" b="43640"/>
          <a:stretch/>
        </p:blipFill>
        <p:spPr>
          <a:xfrm rot="2268000">
            <a:off x="182520" y="4327200"/>
            <a:ext cx="3232080" cy="41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rcRect l="0" t="17604" r="0" b="22793"/>
          <a:stretch/>
        </p:blipFill>
        <p:spPr>
          <a:xfrm>
            <a:off x="6156360" y="3860640"/>
            <a:ext cx="2809800" cy="167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6"/>
          <a:srcRect l="0" t="33972" r="0" b="43306"/>
          <a:stretch/>
        </p:blipFill>
        <p:spPr>
          <a:xfrm rot="19756200">
            <a:off x="5896080" y="1741320"/>
            <a:ext cx="326232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06:59Z</dcterms:modified>
  <cp:revision>138</cp:revision>
  <dc:subject/>
  <dc:title>TITLE</dc:title>
</cp:coreProperties>
</file>