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EA540-AB0F-4176-8853-CD583CE346B1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171A8-2C78-463A-A6B2-B78BBD4A6F75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FCBDA-2A5C-4A80-A30C-96000212CBFD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9A9C6-37E3-4D59-A406-81EFB0FAE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0CA43-682D-4A9C-9BB7-7573CD110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8D9E2-3B80-44E9-83F1-0155A0D86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340E4-43A7-4DEF-B5F9-0FCEF39D3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87DA9-3B01-4638-9040-D447E251A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EED73-02B3-4074-83D1-24CA3F987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BE8AD-4DA8-44BF-B39D-507B70883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A7247-C0C9-4FEB-92FE-47C466DE8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4CBD6-8D84-4280-A952-BD9E5171F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CFC6E-CBB0-40F4-AFC7-409969AE7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93DDE-CB7A-41F9-832D-7FA16771C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AA559-10A3-4D91-A00B-DC631B129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88AF7-EF3E-437F-803E-F24E44697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5FFC0-396F-4D4A-8A78-EFC31E9A6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B312D-B702-4771-ACCD-0A9921F1B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8B6C9-CE91-4729-9456-93B4BD598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9E208-1D07-4653-9E6B-1DF9AD7A8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8C385E-AA0C-4A98-BA93-C1D817AE5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25A685-E0ED-4DAB-836C-087E391BA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693D45-CEA3-4CE1-92C9-411D4F5DB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165243-8EFD-437B-80B7-8EAAEAE42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836336-D1CE-400B-98DB-30B9354CC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62062-6764-4DB4-B62A-E87990D7B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E31CEA-36D8-4319-98B8-1924FC209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8FAB24-36CB-4578-88DE-279769140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5CFC94-0709-4917-98EF-73D0D20D3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1D75FE-D2C8-4ED1-989C-D6EECABA0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B8512B-F5F9-4F2E-9598-86B2D3E1F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C8F1E0-42E0-44F9-AB6F-957A90090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0D9DC1-94CA-48C6-A67D-8725848B3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624F0-F32D-4A7C-8C4E-0302DD173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77943-E706-44ED-AAC1-BCC88DEE7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86622-D7A6-4AEA-B551-BEE1AF7E9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331C1-B3D8-4D54-BBDF-13C43F5CF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AD0AE-A214-4AA3-A4DD-9EE94AD65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EDB6E-6CF4-4B94-B00A-60793A3BE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45E8B-B3F6-423C-AE55-E5CB3C0A24C4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5A821-B7C0-4E5B-8E52-B74245BD7BD9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38BAF-DFAD-49B1-9024-919650A4B6B7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10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10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324000" y="0"/>
            <a:ext cx="2016000" cy="1341360"/>
          </a:xfrm>
          <a:prstGeom prst="rect">
            <a:avLst/>
          </a:prstGeom>
          <a:solidFill>
            <a:srgbClr val="fffff7"/>
          </a:solidFill>
          <a:ln w="9360">
            <a:solidFill>
              <a:srgbClr val="ffff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2"/>
          <p:cNvSpPr/>
          <p:nvPr/>
        </p:nvSpPr>
        <p:spPr>
          <a:xfrm>
            <a:off x="7093080" y="6165720"/>
            <a:ext cx="2050920" cy="692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395280" y="0"/>
            <a:ext cx="739800" cy="13683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4427640" y="4076640"/>
            <a:ext cx="2376360" cy="16747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4"/>
          <a:stretch/>
        </p:blipFill>
        <p:spPr>
          <a:xfrm>
            <a:off x="4427640" y="620640"/>
            <a:ext cx="2376360" cy="147024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5"/>
          <a:stretch/>
        </p:blipFill>
        <p:spPr>
          <a:xfrm>
            <a:off x="4427640" y="2205000"/>
            <a:ext cx="2376360" cy="173664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324000" y="5022720"/>
            <a:ext cx="1944360" cy="183528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7"/>
          <a:stretch/>
        </p:blipFill>
        <p:spPr>
          <a:xfrm>
            <a:off x="324000" y="3036960"/>
            <a:ext cx="1944360" cy="18763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8"/>
          <a:stretch/>
        </p:blipFill>
        <p:spPr>
          <a:xfrm>
            <a:off x="324000" y="1476360"/>
            <a:ext cx="1946160" cy="14526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2340000" y="260280"/>
            <a:ext cx="172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7"/>
                </a:solidFill>
                <a:latin typeface="Comic Sans MS"/>
              </a:rPr>
              <a:t>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340000" y="1700280"/>
            <a:ext cx="172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7"/>
                </a:solidFill>
                <a:latin typeface="Comic Sans MS"/>
              </a:rPr>
              <a:t>you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340000" y="3429000"/>
            <a:ext cx="172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7"/>
                </a:solidFill>
                <a:latin typeface="Comic Sans MS"/>
              </a:rPr>
              <a:t>h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340000" y="5373720"/>
            <a:ext cx="172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7"/>
                </a:solidFill>
                <a:latin typeface="Comic Sans MS"/>
              </a:rPr>
              <a:t>sh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877080" y="765000"/>
            <a:ext cx="172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7"/>
                </a:solidFill>
                <a:latin typeface="Comic Sans MS"/>
              </a:rPr>
              <a:t>w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877080" y="2492280"/>
            <a:ext cx="172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7"/>
                </a:solidFill>
                <a:latin typeface="Comic Sans MS"/>
              </a:rPr>
              <a:t>you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877080" y="4365720"/>
            <a:ext cx="2016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7"/>
                </a:solidFill>
                <a:latin typeface="Comic Sans MS"/>
              </a:rPr>
              <a:t>the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324000" y="0"/>
            <a:ext cx="2016000" cy="1341360"/>
          </a:xfrm>
          <a:prstGeom prst="rect">
            <a:avLst/>
          </a:prstGeom>
          <a:solidFill>
            <a:srgbClr val="fffff7"/>
          </a:solidFill>
          <a:ln w="9360">
            <a:solidFill>
              <a:srgbClr val="ffff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2"/>
          <p:cNvSpPr/>
          <p:nvPr/>
        </p:nvSpPr>
        <p:spPr>
          <a:xfrm>
            <a:off x="7093080" y="6165720"/>
            <a:ext cx="2050920" cy="692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395280" y="0"/>
            <a:ext cx="739800" cy="136836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4427640" y="4076640"/>
            <a:ext cx="2376360" cy="16747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4"/>
          <a:stretch/>
        </p:blipFill>
        <p:spPr>
          <a:xfrm>
            <a:off x="4427640" y="620640"/>
            <a:ext cx="2376360" cy="147024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5"/>
          <a:stretch/>
        </p:blipFill>
        <p:spPr>
          <a:xfrm>
            <a:off x="4427640" y="2205000"/>
            <a:ext cx="2376360" cy="173664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6"/>
          <a:stretch/>
        </p:blipFill>
        <p:spPr>
          <a:xfrm>
            <a:off x="324000" y="5022720"/>
            <a:ext cx="1944360" cy="183528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7"/>
          <a:stretch/>
        </p:blipFill>
        <p:spPr>
          <a:xfrm>
            <a:off x="324000" y="3036960"/>
            <a:ext cx="1944360" cy="187632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8"/>
          <a:stretch/>
        </p:blipFill>
        <p:spPr>
          <a:xfrm>
            <a:off x="324000" y="1476360"/>
            <a:ext cx="1946160" cy="145260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2340000" y="260280"/>
            <a:ext cx="172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00"/>
                </a:solidFill>
                <a:latin typeface="Comic Sans MS"/>
              </a:rPr>
              <a:t>vo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340000" y="1700280"/>
            <a:ext cx="172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00"/>
                </a:solidFill>
                <a:latin typeface="Comic Sans MS"/>
              </a:rPr>
              <a:t>va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132000" y="4365720"/>
            <a:ext cx="100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00"/>
                </a:solidFill>
                <a:latin typeface="Comic Sans MS"/>
              </a:rPr>
              <a:t>v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877080" y="765000"/>
            <a:ext cx="2448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00"/>
                </a:solidFill>
                <a:latin typeface="Comic Sans MS"/>
              </a:rPr>
              <a:t>vamo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877080" y="2492280"/>
            <a:ext cx="172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00"/>
                </a:solidFill>
                <a:latin typeface="Comic Sans MS"/>
              </a:rPr>
              <a:t>vai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877080" y="4365720"/>
            <a:ext cx="2016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00"/>
                </a:solidFill>
                <a:latin typeface="Comic Sans MS"/>
              </a:rPr>
              <a:t>va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411280" y="3213000"/>
            <a:ext cx="576360" cy="3311640"/>
          </a:xfrm>
          <a:custGeom>
            <a:avLst/>
            <a:gdLst>
              <a:gd name="textAreaLeft" fmla="*/ 0 w 576360"/>
              <a:gd name="textAreaRight" fmla="*/ 208080 w 576360"/>
              <a:gd name="textAreaTop" fmla="*/ 86040 h 3311640"/>
              <a:gd name="textAreaBottom" fmla="*/ 3225600 h 331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13-02-15T09:14:01Z</dcterms:modified>
  <cp:revision>284</cp:revision>
  <dc:subject/>
  <dc:title>TITLE</dc:title>
</cp:coreProperties>
</file>