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906C-6893-47C0-8DC0-F3A368A3078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08B5-7095-4EFC-B6C1-CB1F39A0DE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C8BB-DEC0-4B81-8271-F17FDC2B621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F20B-CB06-45D9-9F88-05B3656F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C90-B637-427C-A0DE-172ACFA6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4B4-405C-41C0-94CA-1F97F5D7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0C1-19EC-466A-A8DB-4B2FC880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1720-57D1-4CD5-B3EC-CC87F23A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9A14-6325-49FF-A963-88BD0C80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AFBD-3E49-4813-9A1B-B112DDD6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B48D-33FC-4907-B04A-5D2954EF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0BCF-1867-48D2-8EE9-972F57F8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A315-2985-4861-B8FD-13639ADF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11D0-CDEA-4C32-99DE-601595CD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D553-53EF-4838-B8FF-C23CD442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0047-18FF-4F9A-AB8A-567A471C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7916-2D62-4AEA-9C50-A0211140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C138-665F-431B-8118-9CE5209B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AD1F-8148-4B6B-B0D3-71EE793E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A5F3-D001-4258-A3B1-6CC2C54F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5CF95-E77F-40C8-97CD-1BEBA423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3D884-D1B3-4B72-8FDB-A63CB33E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7CB2D-02C4-465D-B019-30C8BFE0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1E234-E83F-4D1C-ADBA-A1E94778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9798A-60A0-4D9C-A5A4-8481D5CE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A58-5799-4D3D-B4D7-561A4A9C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23CCF-7B5D-455B-ADE8-1597642D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A46D3-9801-4F94-9F62-69228007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367C2-ABD2-486F-A361-8E234622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C6AAD-BE06-4A3E-BB0D-9A1AABC6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83D43-ABCA-4422-BA44-2C154621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D3A43-A00B-4BE5-AC14-FB1508F6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3C042-C292-4491-9A47-01C38CB8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B47-F8D7-46AF-A54F-6DB4E709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753-188A-45FA-8DCE-5D223928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D23-9DAB-4183-AF2E-4C3F2AA0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F9B-EF8F-441D-A99C-815533CE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E14-F2D5-4081-BCCD-7CC6CBFA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492-144A-4C89-8304-B16AC780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D36F-AD57-40A0-8DC7-0D673ECDDE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9E8E-EBD8-4B50-8FB9-B7BD19AFD9D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ADBB-2B64-44D5-93EC-EC98D7783FF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0"/>
            <a:ext cx="2016000" cy="1341360"/>
          </a:xfrm>
          <a:prstGeom prst="rect">
            <a:avLst/>
          </a:prstGeom>
          <a:solidFill>
            <a:srgbClr val="fffff7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739800" cy="136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427640" y="4076640"/>
            <a:ext cx="2376360" cy="1674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427640" y="620640"/>
            <a:ext cx="2376360" cy="1470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427640" y="2205000"/>
            <a:ext cx="2376360" cy="1736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24000" y="5022720"/>
            <a:ext cx="1944360" cy="183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24000" y="3036960"/>
            <a:ext cx="1944360" cy="1876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324000" y="1476360"/>
            <a:ext cx="1946160" cy="1452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340000" y="2602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17002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342900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h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537372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sh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76500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w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24922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436572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th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0"/>
            <a:ext cx="2016000" cy="1341360"/>
          </a:xfrm>
          <a:prstGeom prst="rect">
            <a:avLst/>
          </a:prstGeom>
          <a:solidFill>
            <a:srgbClr val="fffff7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739800" cy="136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427640" y="4076640"/>
            <a:ext cx="2376360" cy="167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427640" y="620640"/>
            <a:ext cx="2376360" cy="1470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4427640" y="2205000"/>
            <a:ext cx="2376360" cy="1736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324000" y="5022720"/>
            <a:ext cx="1944360" cy="1835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324000" y="3036960"/>
            <a:ext cx="1944360" cy="1876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24000" y="1476360"/>
            <a:ext cx="1946160" cy="1452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40000" y="2602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v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00" y="17002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v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4365720"/>
            <a:ext cx="10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v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77080" y="76500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v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7080" y="24922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va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77080" y="436572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v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11280" y="3213000"/>
            <a:ext cx="576360" cy="3311640"/>
          </a:xfrm>
          <a:custGeom>
            <a:avLst/>
            <a:gdLst>
              <a:gd name="textAreaLeft" fmla="*/ 0 w 576360"/>
              <a:gd name="textAreaRight" fmla="*/ 208080 w 576360"/>
              <a:gd name="textAreaTop" fmla="*/ 86040 h 3311640"/>
              <a:gd name="textAreaBottom" fmla="*/ 3225600 h 33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2-15T09:14:01Z</dcterms:modified>
  <cp:revision>284</cp:revision>
  <dc:subject/>
  <dc:title>TITLE</dc:title>
</cp:coreProperties>
</file>