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F56-DE1E-4557-B232-BFF315E0EF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E1B-9EF1-4B49-B6EB-F47732C2DB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D3B-CCDF-428D-93A3-0267BF1C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C19-79C6-481A-9633-C3E2DAF8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A23-4DED-4544-AE71-11645BE2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7F3-66A7-4513-9D30-C082554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8E45-84CE-4A97-A1B0-F5FD4923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4EB8-058A-4565-AEAE-F906EFE9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A4A4-7499-4CF4-BF36-EDACDB8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A8F-7990-4775-8E62-4B950475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11F-C7AD-4892-90AE-DF8BC2C4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6E3D-042C-454E-B67C-13147159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E1D0-3586-45B9-911E-405EA26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C0C-027A-4084-A3EC-4FE1D32B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B6BB-55E3-47FC-825A-15375627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4A0-890F-4EC8-B361-6F06D24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3E62-B657-4C88-BDB5-1809283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ABA-75F5-4441-BFEF-84952929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A52-61F4-4A7E-867A-86F5D74D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1D2B9-97E6-4043-938A-B95A1A88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E4FF-2807-4DC6-8ADF-7FFAED19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4433-BB0C-4910-9E7C-397430E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ED20-37C3-40D6-8D29-670B934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B1D0-3DD8-405D-B4A6-55BC8F4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28C-7A0E-49FE-9A8A-4299F73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B77B-28C0-467A-A780-2CA3FF6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2F62-59AB-452E-ACE5-47C2333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EC27-EC10-4129-BB3A-D3DDF84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63A1-E057-41B6-BA6D-6E1D46B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8344-BE19-46C6-877C-E740546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C3A9-D4B5-43B3-9A47-091137D6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FFBC-6EDB-427B-8F39-6D434AE4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0EF-B716-4D16-B6A8-D7CFADE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204-A056-468A-A0DD-A1F4E2E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EC6-F357-49B6-A9CC-6936953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173-E06E-46D6-BCB1-77008A0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591-D724-4387-899B-E6BFF1F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CBF-B43A-4C31-A8BF-4940CB4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9738-73AB-41A8-95AA-1598D134C6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BE99-0935-45E8-B734-D684C8B740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B28-0EE6-4AAD-9C94-425FBCF9F7C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9400" y="125280"/>
          <a:ext cx="6367320" cy="6567480"/>
        </p:xfrm>
        <a:graphic>
          <a:graphicData uri="http://schemas.openxmlformats.org/drawingml/2006/table">
            <a:tbl>
              <a:tblPr/>
              <a:tblGrid>
                <a:gridCol w="1538280"/>
                <a:gridCol w="1035000"/>
                <a:gridCol w="2039760"/>
                <a:gridCol w="1754280"/>
              </a:tblGrid>
              <a:tr h="328464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ort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ert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8284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pá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m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3" descr=""/>
          <p:cNvPicPr/>
          <p:nvPr/>
        </p:nvPicPr>
        <p:blipFill>
          <a:blip r:embed="rId1"/>
          <a:srcRect l="18350" t="0" r="18034" b="0"/>
          <a:stretch/>
        </p:blipFill>
        <p:spPr>
          <a:xfrm>
            <a:off x="600120" y="115920"/>
            <a:ext cx="1811160" cy="28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218040" y="620640"/>
            <a:ext cx="151272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1363680" cy="178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4730760" y="189000"/>
            <a:ext cx="126036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5"/>
          <a:stretch/>
        </p:blipFill>
        <p:spPr>
          <a:xfrm>
            <a:off x="1881360" y="3441600"/>
            <a:ext cx="2469960" cy="258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6"/>
          <a:srcRect l="34253" t="13417" r="34146" b="13198"/>
          <a:stretch/>
        </p:blipFill>
        <p:spPr>
          <a:xfrm>
            <a:off x="108000" y="3645000"/>
            <a:ext cx="1512720" cy="237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179280" y="616572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lig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6516720" y="115920"/>
            <a:ext cx="26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un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ind/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o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981000"/>
            <a:ext cx="915984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1187280" y="981000"/>
            <a:ext cx="797256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2987640" y="981000"/>
            <a:ext cx="6172200" cy="54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2987640" y="3500280"/>
            <a:ext cx="617220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01720" y="115920"/>
            <a:ext cx="7605720" cy="2544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277920" y="4076640"/>
            <a:ext cx="8653320" cy="2665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2592360" y="2924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pdoo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624040" y="29242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apdoo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4320" y="189000"/>
            <a:ext cx="7040520" cy="239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78404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995640" y="4221000"/>
            <a:ext cx="5148360" cy="2608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59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4:33Z</dcterms:modified>
  <cp:revision>427</cp:revision>
  <dc:subject/>
  <dc:title>TITLE</dc:title>
</cp:coreProperties>
</file>