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DC5-DE11-4D0F-A1AB-AC589716D7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5DB-F48E-4236-AAE1-75789E881A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69F-9CBA-498F-AFC0-02D55404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18B-B22F-44CE-9B1A-6C20A794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DC4-2B02-47E3-937F-2C533916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D5E-5315-4382-B74F-6C4C3E24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8381-FBA4-4795-B4C3-C78E7EB5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4E0C-FA59-46C5-A471-49DBE26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66F5-0E0C-4BCB-86AA-16FE3C7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54FE-24EB-4978-BBBC-7E798023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C68-D65B-4214-9CD8-37FF4D99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A49-B213-4227-AFED-85354521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91A-3CE2-4173-8F6C-88445AEE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36A-7951-4C8F-8E9D-A1098C04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9C07-D716-47DC-B159-B4294D2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83D4-94F1-4D4D-AB7A-3D8E655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7E4-5A86-44AA-8E0D-1E45D10B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1F59-FBE9-4845-B0D2-9EB8ED88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3299-B59A-47E7-B755-957B67FC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C546-F230-4E05-9D6A-77E6054D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5634-3600-4FD7-BA44-C10E129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921A-D4F7-4DAA-A04E-6184E82D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E278-9F83-4ACC-9A8F-6678C037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D96C-F73C-4024-9E9C-0F38849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44D-44F4-4FE1-8358-92E1303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4470-BF84-44AD-BD41-5D7FA838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DFA5-5F5B-4035-B196-8F3CE0E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DA96-6DD7-438D-90EB-A701C35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C0C8-EE55-4DEA-9396-04E36B1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C976-339B-42F5-B595-B3481B08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3359-E2AC-4775-8EA2-3A46245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A393-895A-4B1B-839B-2D3C7390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C6C-4F70-4FAC-A5D4-72A2737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DE0-32DF-4284-B070-794539A9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3A6-64AA-470D-89AA-6251EE5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931-C21F-4B2A-BE64-AF19FFD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A47-55D4-4482-918D-2B56E28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928-34BF-404A-995A-775AE5F6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1D33-2328-4964-9D1F-CE66DF2A1C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C5D7-49AB-4D0B-AE0A-671DB32795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1A5C-80D5-4668-A854-1ABD5B6594F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9400" y="125280"/>
          <a:ext cx="6367320" cy="6567480"/>
        </p:xfrm>
        <a:graphic>
          <a:graphicData uri="http://schemas.openxmlformats.org/drawingml/2006/table">
            <a:tbl>
              <a:tblPr/>
              <a:tblGrid>
                <a:gridCol w="1538280"/>
                <a:gridCol w="1035000"/>
                <a:gridCol w="2039760"/>
                <a:gridCol w="1754280"/>
              </a:tblGrid>
              <a:tr h="328464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ort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ert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8284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á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m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3" descr=""/>
          <p:cNvPicPr/>
          <p:nvPr/>
        </p:nvPicPr>
        <p:blipFill>
          <a:blip r:embed="rId1"/>
          <a:srcRect l="18350" t="0" r="18034" b="0"/>
          <a:stretch/>
        </p:blipFill>
        <p:spPr>
          <a:xfrm>
            <a:off x="600120" y="115920"/>
            <a:ext cx="1811160" cy="28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218040" y="620640"/>
            <a:ext cx="151272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1363680" cy="178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4730760" y="189000"/>
            <a:ext cx="126036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5"/>
          <a:stretch/>
        </p:blipFill>
        <p:spPr>
          <a:xfrm>
            <a:off x="1881360" y="3441600"/>
            <a:ext cx="2469960" cy="2581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6"/>
          <a:srcRect l="34253" t="13417" r="34146" b="13198"/>
          <a:stretch/>
        </p:blipFill>
        <p:spPr>
          <a:xfrm>
            <a:off x="108000" y="3645000"/>
            <a:ext cx="1512720" cy="237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179280" y="616572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lig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6516720" y="115920"/>
            <a:ext cx="26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un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ind/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po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0" y="981000"/>
            <a:ext cx="9159840" cy="54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1187280" y="981000"/>
            <a:ext cx="7972560" cy="54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2987640" y="981000"/>
            <a:ext cx="6172200" cy="54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2987640" y="3500280"/>
            <a:ext cx="617220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01720" y="115920"/>
            <a:ext cx="7605720" cy="2544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277920" y="4076640"/>
            <a:ext cx="8653320" cy="2665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2592360" y="29242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pdoo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2624040" y="292428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pdoo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4320" y="189000"/>
            <a:ext cx="7040520" cy="239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78404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4:33Z</dcterms:modified>
  <cp:revision>427</cp:revision>
  <dc:subject/>
  <dc:title>TITLE</dc:title>
</cp:coreProperties>
</file>