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7EB-C217-472D-8637-799CA18C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8C6-D82E-4EE0-BC37-9AF7483C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1D5-FA86-434D-9F1B-00ABC5FD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3DE-B70A-4E5A-A6EB-8DF365BA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6737-EB68-4FEE-9671-5E0884E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FD16-0299-401D-A4DE-144DFAE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1ED-49DD-4D9B-BF39-59718065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2620-ADBF-40AD-924E-233AC1A1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6025-2821-4B29-B12E-0DDC9CF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0F7C-AD50-44C7-A92A-D80513F2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E691-E59D-48E6-9579-928181B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3B0-A52C-4C0F-95C3-AD51EBC5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55D2-A695-460F-8197-80736DA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AE53-01C1-4F7D-89DC-DC34AD6D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75D4-2DBC-42E7-885F-1AE1384B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3F63-A602-4A3A-B382-566DEE04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9898-A067-4B7F-AC8F-80DC0619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531A-6E10-4C93-9870-6F401D29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CC50-0E93-46ED-A7CC-42496D5A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4BD4-9ED6-4ED4-9D97-9CC08FBF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134A-215C-4CB1-83E9-5A921CBC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B611-48CA-46DB-857C-3A947D80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F43-A2CA-4C22-9C02-8834B42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174E-6C27-4A39-B1F2-5B0501A9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01A9-03F7-42E7-B832-EB7BE111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11C3-A5CA-4E62-9D4E-1DFE61F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8AED-41E8-4CD5-8419-51BD8623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F703-4C27-4BD0-8A50-68B10C1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DCD4-3974-45D9-93F6-67741298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40D4-7103-4133-AD59-CDDB6868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449-7075-4EA8-ADB1-305A3310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400-BB08-4C56-B93B-8BA5C7B2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53F-B141-474B-8683-6BD17C8E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0F6-DA0F-4808-B9B1-CED00A2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853-0183-4B6C-9BB9-07E91650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01E-28E7-4E59-B333-3F467D15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FCC9-36D7-4439-BFDE-9E0EE4A679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5A73-F016-4827-858F-564999B2AB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9C5-8257-46A2-BF76-47E5F550E54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6480" y="-27000"/>
            <a:ext cx="9144000" cy="6829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95280" y="10191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19440" y="260280"/>
          <a:ext cx="3039840" cy="2286000"/>
        </p:xfrm>
        <a:graphic>
          <a:graphicData uri="http://schemas.openxmlformats.org/drawingml/2006/table">
            <a:tbl>
              <a:tblPr/>
              <a:tblGrid>
                <a:gridCol w="303984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mu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bastan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un po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19800" y="260280"/>
          <a:ext cx="3039840" cy="2286000"/>
        </p:xfrm>
        <a:graphic>
          <a:graphicData uri="http://schemas.openxmlformats.org/drawingml/2006/table">
            <a:tbl>
              <a:tblPr/>
              <a:tblGrid>
                <a:gridCol w="303984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anim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honest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seri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Box 7"/>
          <p:cNvSpPr/>
          <p:nvPr/>
        </p:nvSpPr>
        <p:spPr>
          <a:xfrm>
            <a:off x="-36360" y="43308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So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58920" y="3573360"/>
          <a:ext cx="4753080" cy="2286000"/>
        </p:xfrm>
        <a:graphic>
          <a:graphicData uri="http://schemas.openxmlformats.org/drawingml/2006/table">
            <a:tbl>
              <a:tblPr/>
              <a:tblGrid>
                <a:gridCol w="475308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extremadamen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realmen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demasiad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516720" y="3573360"/>
          <a:ext cx="2303280" cy="228600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lin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maj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63"/>
                          </a:solidFill>
                          <a:latin typeface="Comic Sans MS"/>
                        </a:rPr>
                        <a:t>fiel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6:59Z</dcterms:modified>
  <cp:revision>439</cp:revision>
  <dc:subject/>
  <dc:title>TITLE</dc:title>
</cp:coreProperties>
</file>