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0EA-0494-47D9-9F42-2C0F0CA2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620-EEC9-419E-B497-DAE2E1E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58A-40CA-44C9-8EA7-45BB62E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DBD-99AE-4EE8-BE20-167E31E1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3B1-604B-453A-BAB0-8721B2B6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519-217F-44B7-BF7C-AB1160C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8E2E-099B-4D36-8B32-9BD9C489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B2F5-39DE-45D0-A871-7E36500A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C535-CA25-4278-BB99-190661C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7D99-6C9A-49C4-A45D-D2BF01B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18C-CA3E-4A13-B62B-0E47BDA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0D1-0C11-409C-8A3B-1AFF538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4DB-EDEF-4F87-A87F-9921A99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09E6-4CDC-4952-8D3F-1A67572F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707-90E7-4EDD-920E-99E321EA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5CFB-A78B-4489-8780-58C11DAD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AFC-D288-4160-B65A-1EBA4DD0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E27F-E6DF-4AFD-B59A-FD64F818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AF8E-70C2-4FA4-BAB2-C3EC4495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2187-8794-4FB8-B8CF-0CC7394F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E56B-6DFA-4D93-BE7A-CC6FB83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DB5B-D617-4991-8EB8-B5002C99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FC5-D679-4908-8720-11AD6B7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5AD3-4019-441C-847B-0ABBB0C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A726-0B1B-47D4-8640-F357096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F2ED-5D77-4D41-8D65-5D568FD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BD09-1F6C-4EC1-8B99-12CBBE7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4BEF-D232-4E61-960B-2F79A368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3240-5186-45B5-B6D8-C7CD4A1E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582C-479F-4CB5-BAE8-AC68F139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7B3-C6A6-4173-97DC-681A69F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2E5-7D3C-4D0D-A9CE-CBDDBE9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7C9-1058-468A-B203-0727A7B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591-56B8-4281-A1CF-EBDB1CA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650-D67C-423C-8366-AD7574B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F7F-40DC-4B47-9104-C11AEBA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6B5-7D7E-49DA-84C0-667CED1556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E756-7657-4DE2-B31A-415CAD3DE7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6A8-2F1E-408B-9218-FE2322B33F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6480" y="-2700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95280" y="10191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19440" y="260280"/>
          <a:ext cx="3039840" cy="2286000"/>
        </p:xfrm>
        <a:graphic>
          <a:graphicData uri="http://schemas.openxmlformats.org/drawingml/2006/table">
            <a:tbl>
              <a:tblPr/>
              <a:tblGrid>
                <a:gridCol w="303984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mu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basta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un po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19800" y="260280"/>
          <a:ext cx="3039840" cy="2286000"/>
        </p:xfrm>
        <a:graphic>
          <a:graphicData uri="http://schemas.openxmlformats.org/drawingml/2006/table">
            <a:tbl>
              <a:tblPr/>
              <a:tblGrid>
                <a:gridCol w="303984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anim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honest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seri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7"/>
          <p:cNvSpPr/>
          <p:nvPr/>
        </p:nvSpPr>
        <p:spPr>
          <a:xfrm>
            <a:off x="-36360" y="43308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S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58920" y="3573360"/>
          <a:ext cx="4753080" cy="228600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extremadame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realme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demasia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516720" y="3573360"/>
          <a:ext cx="2303280" cy="228600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lin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maj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fiel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6:59Z</dcterms:modified>
  <cp:revision>439</cp:revision>
  <dc:subject/>
  <dc:title>TITLE</dc:title>
</cp:coreProperties>
</file>