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489-F82E-4284-A529-E13B1B8F3B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3F1E-8465-47D4-A9C1-498A3D2842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FCFE-2FAF-4E2A-9F50-5AFBC94716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1A8-90E9-45D8-B634-F258E05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20E-A1A0-458D-8F77-309E61A5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F8A-9431-40C5-8FA8-C60FC08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A2C-4186-4246-8A91-7BD3AB53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FBA-A7A8-49BF-B0B6-15A50DA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0D9-5F33-497D-B29C-024E964B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6BC-D9FE-459D-A401-E2210FA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263-6B9E-4724-9F37-A2EC35F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7CC-0F8E-4A5F-9C01-6BB621F6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566-8881-48F6-B95C-A4DA475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BDD-F21D-4208-B2EC-8948CCC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E35-FC63-4671-800E-EAD61FE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911-29EB-4B23-966D-F5DAD0DBC4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24000" y="260280"/>
            <a:ext cx="8496000" cy="5579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ngo un perro, dos gatos y tres conej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ngo cinco peces pero no tengo una cobay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perro se llama Róver y tiene ocho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s gatos se llaman Milú y Botita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enen siete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s peces tienen tres añ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24000" y="333360"/>
            <a:ext cx="87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¿Verdad o menti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Pedro has 2 ca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 a do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n’t got a rabb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óver is a tortoi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Róver is 8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The cats are 6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He has birds who are 3 years ol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4:07Z</dcterms:modified>
  <cp:revision>220</cp:revision>
  <dc:subject/>
  <dc:title>TITLE</dc:title>
</cp:coreProperties>
</file>