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5389-D160-4B84-9975-83104D9C92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BDF2-F777-4394-9D25-FB9DDB901D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3495-B9C0-4BF2-8C9D-FF2DD99980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1A2-B1BB-406E-8B56-ACE5B1ED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69D-09AA-43F4-A5C1-28BAAD7A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52B-16F7-4918-B34E-BE02645B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355-EC5A-4D60-AB5F-67881055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790-D62C-4A10-A57E-DFB3754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61A-FC65-4B03-BBC7-F76AB40A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B31-A733-4E90-836B-54C34E5B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E6C-183F-4E53-BA27-BF8DFE80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040-9CB7-4518-8D5B-68BD5A32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9FA-69FD-4190-A017-8C4D531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F29-C18A-4B77-9433-78CE18D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9C4-3DD1-469F-9D28-907DB83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9718-4655-4F8A-824D-4642D6A492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24000" y="260280"/>
            <a:ext cx="8496000" cy="5579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engo un perro, dos gatos y tres conej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engo cinco peces pero no tengo una cobay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perro se llama Róver y tiene ocho añ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s gatos se llaman Milú y Botita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enen siete añ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s peces tienen tres añ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24000" y="333360"/>
            <a:ext cx="8785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¿Verdad o mentir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Pedro has 2 ca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has a dog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hasn’t got a rabb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óver is a tortois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óver is 8 years ol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The cats are 6 years ol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has birds who are 3 years ol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4:07Z</dcterms:modified>
  <cp:revision>220</cp:revision>
  <dc:subject/>
  <dc:title>TITLE</dc:title>
</cp:coreProperties>
</file>