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CD56-1852-4214-B9C9-C41D34BCE15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BA76-7C60-4035-A894-B316249B90E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8D08-DB2F-4EC9-BA04-1421E2897A7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2685-A0F3-418E-AB9B-75906D2A26E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E0D0-6BF9-4481-B141-D6DE907EFAD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BBF-8B93-49BB-AAEB-8143BB2F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CA3-E079-4F48-9559-0007783F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5C3-124A-40D5-AEC9-24EC0230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0A2-C6C7-490C-B964-DA95063F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8B4-B01A-4591-AC1D-C2CF4414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9CB-D1D6-4180-A55E-21AC06A6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D29-26EB-40DA-9812-A403F6CB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F23-CBC2-4173-AA5A-F298CE04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A35-9628-4DF9-8B19-9ED81CCF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D5C-778D-4EB5-9EF4-1B22666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D26-61A8-4218-AFF3-299BB5EC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CD3-728A-4E60-8C59-D61594DE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F6A7-6C17-4D31-9FE2-B2C1EF8A09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4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4625" t="0" r="9786" b="0"/>
          <a:stretch/>
        </p:blipFill>
        <p:spPr>
          <a:xfrm>
            <a:off x="324000" y="3357720"/>
            <a:ext cx="1223640" cy="1176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7816" t="6577" r="0" b="3289"/>
          <a:stretch/>
        </p:blipFill>
        <p:spPr>
          <a:xfrm>
            <a:off x="324000" y="1197000"/>
            <a:ext cx="8874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28738" t="12691" r="26382" b="10030"/>
          <a:stretch/>
        </p:blipFill>
        <p:spPr>
          <a:xfrm>
            <a:off x="324000" y="5229360"/>
            <a:ext cx="1195200" cy="1368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rcRect l="17816" t="6577" r="0" b="3289"/>
          <a:stretch/>
        </p:blipFill>
        <p:spPr>
          <a:xfrm>
            <a:off x="1187280" y="1197000"/>
            <a:ext cx="88776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rcRect l="17816" t="6577" r="0" b="3289"/>
          <a:stretch/>
        </p:blipFill>
        <p:spPr>
          <a:xfrm>
            <a:off x="2050920" y="1197000"/>
            <a:ext cx="88740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rcRect l="17816" t="6577" r="0" b="3289"/>
          <a:stretch/>
        </p:blipFill>
        <p:spPr>
          <a:xfrm>
            <a:off x="2916360" y="1197000"/>
            <a:ext cx="88740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rcRect l="14625" t="0" r="9786" b="0"/>
          <a:stretch/>
        </p:blipFill>
        <p:spPr>
          <a:xfrm>
            <a:off x="1547640" y="3357720"/>
            <a:ext cx="1224000" cy="117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14625" t="0" r="9786" b="0"/>
          <a:stretch/>
        </p:blipFill>
        <p:spPr>
          <a:xfrm>
            <a:off x="2771640" y="3357720"/>
            <a:ext cx="122400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rcRect l="28738" t="12691" r="26382" b="10030"/>
          <a:stretch/>
        </p:blipFill>
        <p:spPr>
          <a:xfrm>
            <a:off x="1476360" y="5229360"/>
            <a:ext cx="119556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rcRect l="28738" t="12691" r="26382" b="10030"/>
          <a:stretch/>
        </p:blipFill>
        <p:spPr>
          <a:xfrm>
            <a:off x="3780000" y="5229360"/>
            <a:ext cx="119520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rcRect l="28738" t="12691" r="26382" b="10030"/>
          <a:stretch/>
        </p:blipFill>
        <p:spPr>
          <a:xfrm>
            <a:off x="4932360" y="5229360"/>
            <a:ext cx="1195560" cy="1368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rcRect l="28738" t="12691" r="26382" b="10030"/>
          <a:stretch/>
        </p:blipFill>
        <p:spPr>
          <a:xfrm>
            <a:off x="2627280" y="5229360"/>
            <a:ext cx="11955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9947" t="7927" r="30370" b="6497"/>
          <a:stretch/>
        </p:blipFill>
        <p:spPr>
          <a:xfrm>
            <a:off x="395280" y="2781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0719" t="18730" r="11837" b="9127"/>
          <a:stretch/>
        </p:blipFill>
        <p:spPr>
          <a:xfrm>
            <a:off x="395280" y="5084640"/>
            <a:ext cx="129528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2736" t="6828" r="2736" b="6828"/>
          <a:stretch/>
        </p:blipFill>
        <p:spPr>
          <a:xfrm>
            <a:off x="395280" y="1125360"/>
            <a:ext cx="1800360" cy="824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rcRect l="2736" t="6828" r="2736" b="6828"/>
          <a:stretch/>
        </p:blipFill>
        <p:spPr>
          <a:xfrm>
            <a:off x="2195640" y="1125360"/>
            <a:ext cx="1800000" cy="824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rcRect l="9947" t="7927" r="30370" b="6497"/>
          <a:stretch/>
        </p:blipFill>
        <p:spPr>
          <a:xfrm>
            <a:off x="6443640" y="2781360"/>
            <a:ext cx="1055880" cy="151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rcRect l="9947" t="7927" r="30370" b="6497"/>
          <a:stretch/>
        </p:blipFill>
        <p:spPr>
          <a:xfrm>
            <a:off x="5435640" y="2781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rcRect l="9947" t="7927" r="30370" b="6497"/>
          <a:stretch/>
        </p:blipFill>
        <p:spPr>
          <a:xfrm>
            <a:off x="1403280" y="2781360"/>
            <a:ext cx="1055880" cy="151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9947" t="7927" r="30370" b="6497"/>
          <a:stretch/>
        </p:blipFill>
        <p:spPr>
          <a:xfrm>
            <a:off x="2411280" y="2781360"/>
            <a:ext cx="1055880" cy="151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9947" t="7927" r="30370" b="6497"/>
          <a:stretch/>
        </p:blipFill>
        <p:spPr>
          <a:xfrm>
            <a:off x="3419640" y="2781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rcRect l="9947" t="7927" r="30370" b="6497"/>
          <a:stretch/>
        </p:blipFill>
        <p:spPr>
          <a:xfrm>
            <a:off x="4427640" y="2781360"/>
            <a:ext cx="1055520" cy="151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10719" t="18730" r="11837" b="9127"/>
          <a:stretch/>
        </p:blipFill>
        <p:spPr>
          <a:xfrm>
            <a:off x="1692360" y="5084640"/>
            <a:ext cx="1295280" cy="120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10719" t="18730" r="11837" b="9127"/>
          <a:stretch/>
        </p:blipFill>
        <p:spPr>
          <a:xfrm>
            <a:off x="2987640" y="5084640"/>
            <a:ext cx="129528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4734" t="0" r="0" b="3544"/>
          <a:stretch/>
        </p:blipFill>
        <p:spPr>
          <a:xfrm>
            <a:off x="539640" y="119700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513080" cy="1184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rcRect l="4601" t="1164" r="7081" b="8740"/>
          <a:stretch/>
        </p:blipFill>
        <p:spPr>
          <a:xfrm>
            <a:off x="539640" y="2997360"/>
            <a:ext cx="1368360" cy="1244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rcRect l="4734" t="0" r="0" b="3544"/>
          <a:stretch/>
        </p:blipFill>
        <p:spPr>
          <a:xfrm>
            <a:off x="2340000" y="119700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rcRect l="4734" t="0" r="0" b="3544"/>
          <a:stretch/>
        </p:blipFill>
        <p:spPr>
          <a:xfrm>
            <a:off x="4140360" y="1197000"/>
            <a:ext cx="1800000" cy="851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rcRect l="4734" t="0" r="0" b="3544"/>
          <a:stretch/>
        </p:blipFill>
        <p:spPr>
          <a:xfrm>
            <a:off x="5940360" y="119700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rcRect l="4601" t="1164" r="7081" b="8740"/>
          <a:stretch/>
        </p:blipFill>
        <p:spPr>
          <a:xfrm>
            <a:off x="1835280" y="299736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rcRect l="4601" t="1164" r="7081" b="8740"/>
          <a:stretch/>
        </p:blipFill>
        <p:spPr>
          <a:xfrm>
            <a:off x="3132000" y="299736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rcRect l="4601" t="1164" r="7081" b="8740"/>
          <a:stretch/>
        </p:blipFill>
        <p:spPr>
          <a:xfrm>
            <a:off x="4427640" y="299736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rcRect l="4601" t="1164" r="7081" b="8740"/>
          <a:stretch/>
        </p:blipFill>
        <p:spPr>
          <a:xfrm>
            <a:off x="5796000" y="299736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rcRect l="4601" t="1164" r="7081" b="8740"/>
          <a:stretch/>
        </p:blipFill>
        <p:spPr>
          <a:xfrm>
            <a:off x="7093080" y="299736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1979640" y="5229360"/>
            <a:ext cx="151272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4734" t="0" r="0" b="3544"/>
          <a:stretch/>
        </p:blipFill>
        <p:spPr>
          <a:xfrm>
            <a:off x="6804000" y="3068640"/>
            <a:ext cx="1800360" cy="851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708360" y="2852640"/>
            <a:ext cx="1513080" cy="118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4601" t="1164" r="7081" b="8740"/>
          <a:stretch/>
        </p:blipFill>
        <p:spPr>
          <a:xfrm>
            <a:off x="539640" y="1125360"/>
            <a:ext cx="1368360" cy="124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7"/>
                </a:solidFill>
                <a:latin typeface="Comic Sans MS"/>
              </a:rPr>
              <a:t>¿Tienes masco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rcRect l="10719" t="18730" r="11837" b="9127"/>
          <a:stretch/>
        </p:blipFill>
        <p:spPr>
          <a:xfrm>
            <a:off x="7020000" y="1197000"/>
            <a:ext cx="1295280" cy="120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rcRect l="9947" t="7927" r="30370" b="6497"/>
          <a:stretch/>
        </p:blipFill>
        <p:spPr>
          <a:xfrm>
            <a:off x="3995640" y="4724280"/>
            <a:ext cx="1055880" cy="151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rcRect l="2736" t="6828" r="2736" b="6828"/>
          <a:stretch/>
        </p:blipFill>
        <p:spPr>
          <a:xfrm>
            <a:off x="611280" y="5084640"/>
            <a:ext cx="1800000" cy="824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rcRect l="28738" t="12691" r="26382" b="10030"/>
          <a:stretch/>
        </p:blipFill>
        <p:spPr>
          <a:xfrm>
            <a:off x="7020000" y="4724280"/>
            <a:ext cx="1195200" cy="136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rcRect l="14625" t="0" r="9786" b="0"/>
          <a:stretch/>
        </p:blipFill>
        <p:spPr>
          <a:xfrm>
            <a:off x="3780000" y="1125360"/>
            <a:ext cx="1223640" cy="1176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rcRect l="17816" t="6577" r="0" b="3289"/>
          <a:stretch/>
        </p:blipFill>
        <p:spPr>
          <a:xfrm>
            <a:off x="754200" y="2781360"/>
            <a:ext cx="887400" cy="1511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4360" y="9810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85264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98100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98100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26370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6370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6530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472428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7080" y="4653000"/>
            <a:ext cx="11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01-19T22:07:01Z</dcterms:modified>
  <cp:revision>115</cp:revision>
  <dc:subject/>
  <dc:title>TITLE</dc:title>
</cp:coreProperties>
</file>