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1C4B-1D29-4328-8420-3E0B90A259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EE69-E052-4461-8932-46F9F22EB5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A4BA-E8F4-461D-8164-88F2F0C3AA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F0C5-F741-42BC-AE8A-6D6F97C7EC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81D0-4140-4491-B8E9-775EB829CA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DB8-DFC8-4C5D-AC80-CE4E9F0E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AE0-B4D7-4DCB-A82E-B765EE73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BBC-0D4B-4DBF-B77A-CB8E3A10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056-BD7A-4F41-971A-3B16245E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264-370B-4810-B584-9C66B990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287-C52A-432B-8FA0-41C3B16F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2B8-C0C7-4EA0-B4FC-CDB13B70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BDD-418F-43B1-9FA0-39E80910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3F0-2122-4DA1-BF7A-AA297B9A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632-0750-4EB5-96C6-953F133A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17E-6399-4344-B5B0-3421A8C6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1D3-CCB5-4DC3-A9E7-21D65EC9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0A1B-3F90-4575-AE49-1B00A6705B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4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2.xml"/><Relationship Id="rId1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4625" t="0" r="9786" b="0"/>
          <a:stretch/>
        </p:blipFill>
        <p:spPr>
          <a:xfrm>
            <a:off x="324000" y="3357720"/>
            <a:ext cx="1223640" cy="1176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17816" t="6577" r="0" b="3289"/>
          <a:stretch/>
        </p:blipFill>
        <p:spPr>
          <a:xfrm>
            <a:off x="324000" y="1197000"/>
            <a:ext cx="88740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rcRect l="28738" t="12691" r="26382" b="10030"/>
          <a:stretch/>
        </p:blipFill>
        <p:spPr>
          <a:xfrm>
            <a:off x="324000" y="5229360"/>
            <a:ext cx="1195200" cy="1368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¿Tienes mascot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rcRect l="17816" t="6577" r="0" b="3289"/>
          <a:stretch/>
        </p:blipFill>
        <p:spPr>
          <a:xfrm>
            <a:off x="1187280" y="1197000"/>
            <a:ext cx="88776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rcRect l="17816" t="6577" r="0" b="3289"/>
          <a:stretch/>
        </p:blipFill>
        <p:spPr>
          <a:xfrm>
            <a:off x="2050920" y="1197000"/>
            <a:ext cx="88740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rcRect l="17816" t="6577" r="0" b="3289"/>
          <a:stretch/>
        </p:blipFill>
        <p:spPr>
          <a:xfrm>
            <a:off x="2916360" y="1197000"/>
            <a:ext cx="887400" cy="1511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rcRect l="14625" t="0" r="9786" b="0"/>
          <a:stretch/>
        </p:blipFill>
        <p:spPr>
          <a:xfrm>
            <a:off x="1547640" y="3357720"/>
            <a:ext cx="1224000" cy="1176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rcRect l="14625" t="0" r="9786" b="0"/>
          <a:stretch/>
        </p:blipFill>
        <p:spPr>
          <a:xfrm>
            <a:off x="2771640" y="3357720"/>
            <a:ext cx="1224000" cy="117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rcRect l="28738" t="12691" r="26382" b="10030"/>
          <a:stretch/>
        </p:blipFill>
        <p:spPr>
          <a:xfrm>
            <a:off x="1476360" y="5229360"/>
            <a:ext cx="119556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rcRect l="28738" t="12691" r="26382" b="10030"/>
          <a:stretch/>
        </p:blipFill>
        <p:spPr>
          <a:xfrm>
            <a:off x="3780000" y="5229360"/>
            <a:ext cx="1195200" cy="1368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rcRect l="28738" t="12691" r="26382" b="10030"/>
          <a:stretch/>
        </p:blipFill>
        <p:spPr>
          <a:xfrm>
            <a:off x="4932360" y="5229360"/>
            <a:ext cx="1195560" cy="1368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rcRect l="28738" t="12691" r="26382" b="10030"/>
          <a:stretch/>
        </p:blipFill>
        <p:spPr>
          <a:xfrm>
            <a:off x="2627280" y="5229360"/>
            <a:ext cx="11955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9947" t="7927" r="30370" b="6497"/>
          <a:stretch/>
        </p:blipFill>
        <p:spPr>
          <a:xfrm>
            <a:off x="395280" y="2781360"/>
            <a:ext cx="1055520" cy="151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10719" t="18730" r="11837" b="9127"/>
          <a:stretch/>
        </p:blipFill>
        <p:spPr>
          <a:xfrm>
            <a:off x="395280" y="5084640"/>
            <a:ext cx="129528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rcRect l="2736" t="6828" r="2736" b="6828"/>
          <a:stretch/>
        </p:blipFill>
        <p:spPr>
          <a:xfrm>
            <a:off x="395280" y="1125360"/>
            <a:ext cx="1800360" cy="824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¿Tienes mascot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rcRect l="2736" t="6828" r="2736" b="6828"/>
          <a:stretch/>
        </p:blipFill>
        <p:spPr>
          <a:xfrm>
            <a:off x="2195640" y="1125360"/>
            <a:ext cx="1800000" cy="824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rcRect l="9947" t="7927" r="30370" b="6497"/>
          <a:stretch/>
        </p:blipFill>
        <p:spPr>
          <a:xfrm>
            <a:off x="6443640" y="2781360"/>
            <a:ext cx="1055880" cy="151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rcRect l="9947" t="7927" r="30370" b="6497"/>
          <a:stretch/>
        </p:blipFill>
        <p:spPr>
          <a:xfrm>
            <a:off x="5435640" y="2781360"/>
            <a:ext cx="1055520" cy="151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rcRect l="9947" t="7927" r="30370" b="6497"/>
          <a:stretch/>
        </p:blipFill>
        <p:spPr>
          <a:xfrm>
            <a:off x="1403280" y="2781360"/>
            <a:ext cx="1055880" cy="151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rcRect l="9947" t="7927" r="30370" b="6497"/>
          <a:stretch/>
        </p:blipFill>
        <p:spPr>
          <a:xfrm>
            <a:off x="2411280" y="2781360"/>
            <a:ext cx="1055880" cy="151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rcRect l="9947" t="7927" r="30370" b="6497"/>
          <a:stretch/>
        </p:blipFill>
        <p:spPr>
          <a:xfrm>
            <a:off x="3419640" y="2781360"/>
            <a:ext cx="1055520" cy="1512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rcRect l="9947" t="7927" r="30370" b="6497"/>
          <a:stretch/>
        </p:blipFill>
        <p:spPr>
          <a:xfrm>
            <a:off x="4427640" y="2781360"/>
            <a:ext cx="1055520" cy="1512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rcRect l="10719" t="18730" r="11837" b="9127"/>
          <a:stretch/>
        </p:blipFill>
        <p:spPr>
          <a:xfrm>
            <a:off x="1692360" y="5084640"/>
            <a:ext cx="1295280" cy="120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rcRect l="10719" t="18730" r="11837" b="9127"/>
          <a:stretch/>
        </p:blipFill>
        <p:spPr>
          <a:xfrm>
            <a:off x="2987640" y="5084640"/>
            <a:ext cx="129528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4734" t="0" r="0" b="3544"/>
          <a:stretch/>
        </p:blipFill>
        <p:spPr>
          <a:xfrm>
            <a:off x="539640" y="1197000"/>
            <a:ext cx="1800360" cy="851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9640" y="5229360"/>
            <a:ext cx="1513080" cy="1184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rcRect l="4601" t="1164" r="7081" b="8740"/>
          <a:stretch/>
        </p:blipFill>
        <p:spPr>
          <a:xfrm>
            <a:off x="539640" y="2997360"/>
            <a:ext cx="1368360" cy="1244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¿Tienes mascot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rcRect l="4734" t="0" r="0" b="3544"/>
          <a:stretch/>
        </p:blipFill>
        <p:spPr>
          <a:xfrm>
            <a:off x="2340000" y="1197000"/>
            <a:ext cx="1800360" cy="851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rcRect l="4734" t="0" r="0" b="3544"/>
          <a:stretch/>
        </p:blipFill>
        <p:spPr>
          <a:xfrm>
            <a:off x="4140360" y="1197000"/>
            <a:ext cx="1800000" cy="851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rcRect l="4734" t="0" r="0" b="3544"/>
          <a:stretch/>
        </p:blipFill>
        <p:spPr>
          <a:xfrm>
            <a:off x="5940360" y="1197000"/>
            <a:ext cx="1800360" cy="851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rcRect l="4601" t="1164" r="7081" b="8740"/>
          <a:stretch/>
        </p:blipFill>
        <p:spPr>
          <a:xfrm>
            <a:off x="1835280" y="2997360"/>
            <a:ext cx="1368360" cy="1244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rcRect l="4601" t="1164" r="7081" b="8740"/>
          <a:stretch/>
        </p:blipFill>
        <p:spPr>
          <a:xfrm>
            <a:off x="3132000" y="299736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rcRect l="4601" t="1164" r="7081" b="8740"/>
          <a:stretch/>
        </p:blipFill>
        <p:spPr>
          <a:xfrm>
            <a:off x="4427640" y="2997360"/>
            <a:ext cx="1368360" cy="1244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rcRect l="4601" t="1164" r="7081" b="8740"/>
          <a:stretch/>
        </p:blipFill>
        <p:spPr>
          <a:xfrm>
            <a:off x="5796000" y="2997360"/>
            <a:ext cx="1368360" cy="1244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rcRect l="4601" t="1164" r="7081" b="8740"/>
          <a:stretch/>
        </p:blipFill>
        <p:spPr>
          <a:xfrm>
            <a:off x="7093080" y="2997360"/>
            <a:ext cx="1368360" cy="1244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1979640" y="5229360"/>
            <a:ext cx="1512720" cy="11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4734" t="0" r="0" b="3544"/>
          <a:stretch/>
        </p:blipFill>
        <p:spPr>
          <a:xfrm>
            <a:off x="6804000" y="3068640"/>
            <a:ext cx="1800360" cy="851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708360" y="2852640"/>
            <a:ext cx="1513080" cy="118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rcRect l="4601" t="1164" r="7081" b="8740"/>
          <a:stretch/>
        </p:blipFill>
        <p:spPr>
          <a:xfrm>
            <a:off x="539640" y="1125360"/>
            <a:ext cx="1368360" cy="124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¿Tienes mascot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rcRect l="10719" t="18730" r="11837" b="9127"/>
          <a:stretch/>
        </p:blipFill>
        <p:spPr>
          <a:xfrm>
            <a:off x="7020000" y="1197000"/>
            <a:ext cx="1295280" cy="120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rcRect l="9947" t="7927" r="30370" b="6497"/>
          <a:stretch/>
        </p:blipFill>
        <p:spPr>
          <a:xfrm>
            <a:off x="3995640" y="4724280"/>
            <a:ext cx="1055880" cy="1513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rcRect l="2736" t="6828" r="2736" b="6828"/>
          <a:stretch/>
        </p:blipFill>
        <p:spPr>
          <a:xfrm>
            <a:off x="611280" y="5084640"/>
            <a:ext cx="1800000" cy="824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rcRect l="28738" t="12691" r="26382" b="10030"/>
          <a:stretch/>
        </p:blipFill>
        <p:spPr>
          <a:xfrm>
            <a:off x="7020000" y="4724280"/>
            <a:ext cx="1195200" cy="1368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rcRect l="14625" t="0" r="9786" b="0"/>
          <a:stretch/>
        </p:blipFill>
        <p:spPr>
          <a:xfrm>
            <a:off x="3780000" y="1125360"/>
            <a:ext cx="1223640" cy="1176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rcRect l="17816" t="6577" r="0" b="3289"/>
          <a:stretch/>
        </p:blipFill>
        <p:spPr>
          <a:xfrm>
            <a:off x="754200" y="2781360"/>
            <a:ext cx="887400" cy="1511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4360" y="9810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2852640"/>
            <a:ext cx="107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77080" y="98100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98100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26370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26370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6530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4724280"/>
            <a:ext cx="107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7080" y="4653000"/>
            <a:ext cx="11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07:01Z</dcterms:modified>
  <cp:revision>115</cp:revision>
  <dc:subject/>
  <dc:title>TITLE</dc:title>
</cp:coreProperties>
</file>