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ACED-0715-4A72-9963-B09FE4CD8E3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7CCE-04E4-48CE-8573-B95C675CF61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9B12-DC77-446A-9090-AAADA0C4B32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3388-6D5A-41C6-A250-619ED19DD51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66D3-4191-4B2A-8999-C66E2A4EF80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C892-AB5F-41B0-AEAD-B5AD455D3F0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AC9A-352D-4A12-AC81-9D28A1EC6E0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3AD5-2575-40E7-B138-6F5A0BFD2CB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E4BC-67FA-4B5A-909E-2D82697E60A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8A51-D08F-4DDC-B555-FF34BD3A366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8CF0-A11B-4983-A79F-9F972E6D899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A37A-C1E8-497C-AA37-9DE0737E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95D3-DFDF-4A25-A079-EC4AB11D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BEBC-0FA7-47CB-97AD-6984F07F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C29A-87A4-4F47-A1C7-CA4CB278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1D6D-08CF-47EA-A109-099049FC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8373-14B1-4764-87E5-295E2405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AAE7-CC3A-4A19-8CE8-477589C1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17C7-9091-4C77-92EB-277DA426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BED2-0154-4BD3-866A-BAE54753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4A9C-054B-459C-9379-ACC0AED5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321A-4830-4DAD-8922-372335CE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2EF6-9A67-4B13-AA70-F75CF24E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BBBA-8831-4925-B9E8-A2C3616D8AB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Tengo </a:t>
            </a:r>
            <a:r>
              <a:rPr b="0" lang="en-GB" sz="6000" spc="-1" strike="noStrike">
                <a:solidFill>
                  <a:srgbClr val="ffccff"/>
                </a:solidFill>
                <a:latin typeface="Comic Sans MS"/>
              </a:rPr>
              <a:t>ocho tortugas</a:t>
            </a: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8388360" y="115920"/>
            <a:ext cx="576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8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0" y="2492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Mi tortuga se llama Mimi.  Tiene dos años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8010360" y="133200"/>
            <a:ext cx="9255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8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Tengo </a:t>
            </a:r>
            <a:r>
              <a:rPr b="0" lang="en-GB" sz="6000" spc="-1" strike="noStrike">
                <a:solidFill>
                  <a:srgbClr val="ccffff"/>
                </a:solidFill>
                <a:latin typeface="Comic Sans MS"/>
              </a:rPr>
              <a:t>dos perros</a:t>
            </a: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8388360" y="115920"/>
            <a:ext cx="576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8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No tengo </a:t>
            </a:r>
            <a:r>
              <a:rPr b="0" lang="en-GB" sz="6000" spc="-1" strike="noStrike">
                <a:solidFill>
                  <a:srgbClr val="ccffff"/>
                </a:solidFill>
                <a:latin typeface="Comic Sans MS"/>
              </a:rPr>
              <a:t>un ratón</a:t>
            </a: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8388360" y="115920"/>
            <a:ext cx="576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8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Tengo </a:t>
            </a:r>
            <a:r>
              <a:rPr b="0" lang="en-GB" sz="6000" spc="-1" strike="noStrike">
                <a:solidFill>
                  <a:srgbClr val="ffccff"/>
                </a:solidFill>
                <a:latin typeface="Comic Sans MS"/>
              </a:rPr>
              <a:t>una cobaya</a:t>
            </a: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8388360" y="115920"/>
            <a:ext cx="576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8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Tengo </a:t>
            </a:r>
            <a:r>
              <a:rPr b="0" lang="en-GB" sz="6000" spc="-1" strike="noStrike">
                <a:solidFill>
                  <a:srgbClr val="ccffff"/>
                </a:solidFill>
                <a:latin typeface="Comic Sans MS"/>
              </a:rPr>
              <a:t>cinco peces</a:t>
            </a: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8388360" y="115920"/>
            <a:ext cx="576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8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Mi gato se llama Milú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8388360" y="115920"/>
            <a:ext cx="576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8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Mi perro tiene diez años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8388360" y="115920"/>
            <a:ext cx="576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8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0" y="2492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Mi hámster se llama Rico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8361360" y="133200"/>
            <a:ext cx="5745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8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Mi ratón tiene dos años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8361360" y="133200"/>
            <a:ext cx="5745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8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2:37:40Z</dcterms:modified>
  <cp:revision>192</cp:revision>
  <dc:subject/>
  <dc:title>TITLE</dc:title>
</cp:coreProperties>
</file>