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145E-8589-461B-AE4E-D3A907A7037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0D47-E67A-473D-99F5-1415B530FA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E152-16D9-4130-86ED-1DCEFA7DF4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FAF0-EEFA-4BD8-A983-97F01CFF00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334A-8260-4DA5-AB24-C36A1FE897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BAD4-744B-4C89-913D-1438186550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D914-B4CE-41E0-A43A-CBF83098E3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9480-9ED4-40F7-910D-DAD9924380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2E78-1843-4E9F-A487-CB16230DDC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3B78-1F9D-4315-A1FC-266C4B846BA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F118-16B0-4DEA-AFF9-4C3B7C9A9B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468-A57F-4664-97D4-D39364AF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DD1-BFEE-45A3-B40E-D423BF28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D60-1813-4833-9F6C-C8ABE0B8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CB4-4FE3-4380-860B-A303DB9F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F20-7B64-4BD6-BFB0-BA061933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0DD-A619-40CF-A4AD-4CA8F291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70D-311A-46A6-AADA-AD816D49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B42-6C96-448A-9766-2EEA73DE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7F4-C711-4389-BB84-C773FA9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FEC-99F8-4D80-9D75-A0ACECEF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60A-B500-4ED7-9A5B-29447DA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567-898B-44E7-B922-41297CDB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F237-658B-46D6-A9CE-CE840AD413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ffccff"/>
                </a:solidFill>
                <a:latin typeface="Comic Sans MS"/>
              </a:rPr>
              <a:t>ocho tortugas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8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0" y="2492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tortuga se llama Mimi.  Tiene dos año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8010360" y="133200"/>
            <a:ext cx="925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8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ccffff"/>
                </a:solidFill>
                <a:latin typeface="Comic Sans MS"/>
              </a:rPr>
              <a:t>dos perros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8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No tengo </a:t>
            </a:r>
            <a:r>
              <a:rPr b="0" lang="en-GB" sz="6000" spc="-1" strike="noStrike">
                <a:solidFill>
                  <a:srgbClr val="ccffff"/>
                </a:solidFill>
                <a:latin typeface="Comic Sans MS"/>
              </a:rPr>
              <a:t>un ratón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8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ffccff"/>
                </a:solidFill>
                <a:latin typeface="Comic Sans MS"/>
              </a:rPr>
              <a:t>una cobaya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8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Tengo </a:t>
            </a:r>
            <a:r>
              <a:rPr b="0" lang="en-GB" sz="6000" spc="-1" strike="noStrike">
                <a:solidFill>
                  <a:srgbClr val="ccffff"/>
                </a:solidFill>
                <a:latin typeface="Comic Sans MS"/>
              </a:rPr>
              <a:t>cinco peces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8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gato se llama Milú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8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perro tiene diez año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8388360" y="115920"/>
            <a:ext cx="576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8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0" y="2492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hámster se llama Rico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8361360" y="133200"/>
            <a:ext cx="574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8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0" y="249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i ratón tiene dos año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8361360" y="133200"/>
            <a:ext cx="574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8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37:40Z</dcterms:modified>
  <cp:revision>192</cp:revision>
  <dc:subject/>
  <dc:title>TITLE</dc:title>
</cp:coreProperties>
</file>