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8B1F-FC20-4F71-8063-9E0939514E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9359-0510-4816-9C48-7A5C4A2EDC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160-7D38-46D1-86C5-77FA4545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CEA-22F4-45DF-BB96-B5D33691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102-95FD-4AD9-8362-D266BFA7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759-FFFB-4F27-A652-D1FD35EA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DCF-9F65-4597-B7C4-DC04AB37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E6A-9E3E-4CE4-B20E-8384E5D8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E80-9396-4824-A315-29C80B31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42B-3B77-4B04-AC15-307619AE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3CF-8FED-4198-B6CE-DD16D2BD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E40-13E9-4E06-83A2-F2BDD120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F20-1E5D-403B-BB89-E09C5939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E1E-B81E-4A4C-9290-9EFD05CD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27FE-17BD-40E4-AB89-5750C7E069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840720" cy="6867720"/>
          </a:xfrm>
          <a:prstGeom prst="rect">
            <a:avLst/>
          </a:prstGeom>
          <a:ln w="0">
            <a:noFill/>
          </a:ln>
        </p:spPr>
      </p:pic>
      <p:sp>
        <p:nvSpPr>
          <p:cNvPr id="50" name="Rounded Rectangle 1"/>
          <p:cNvSpPr/>
          <p:nvPr/>
        </p:nvSpPr>
        <p:spPr>
          <a:xfrm>
            <a:off x="1547640" y="476280"/>
            <a:ext cx="100836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ounded Rectangle 5"/>
          <p:cNvSpPr/>
          <p:nvPr/>
        </p:nvSpPr>
        <p:spPr>
          <a:xfrm>
            <a:off x="1547640" y="2492280"/>
            <a:ext cx="100836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ounded Rectangle 6"/>
          <p:cNvSpPr/>
          <p:nvPr/>
        </p:nvSpPr>
        <p:spPr>
          <a:xfrm>
            <a:off x="1547640" y="4581360"/>
            <a:ext cx="144000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ounded Rectangle 7"/>
          <p:cNvSpPr/>
          <p:nvPr/>
        </p:nvSpPr>
        <p:spPr>
          <a:xfrm>
            <a:off x="2968560" y="1125360"/>
            <a:ext cx="131616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ounded Rectangle 8"/>
          <p:cNvSpPr/>
          <p:nvPr/>
        </p:nvSpPr>
        <p:spPr>
          <a:xfrm>
            <a:off x="3121200" y="3141720"/>
            <a:ext cx="152208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ounded Rectangle 9"/>
          <p:cNvSpPr/>
          <p:nvPr/>
        </p:nvSpPr>
        <p:spPr>
          <a:xfrm>
            <a:off x="1519200" y="1773360"/>
            <a:ext cx="96516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ounded Rectangle 10"/>
          <p:cNvSpPr/>
          <p:nvPr/>
        </p:nvSpPr>
        <p:spPr>
          <a:xfrm>
            <a:off x="3317760" y="1773360"/>
            <a:ext cx="96696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ounded Rectangle 11"/>
          <p:cNvSpPr/>
          <p:nvPr/>
        </p:nvSpPr>
        <p:spPr>
          <a:xfrm>
            <a:off x="1519200" y="3789360"/>
            <a:ext cx="110808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ounded Rectangle 12"/>
          <p:cNvSpPr/>
          <p:nvPr/>
        </p:nvSpPr>
        <p:spPr>
          <a:xfrm>
            <a:off x="3317760" y="3789360"/>
            <a:ext cx="96696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1:47Z</dcterms:modified>
  <cp:revision>203</cp:revision>
  <dc:subject/>
  <dc:title>TITLE</dc:title>
</cp:coreProperties>
</file>