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0684-D4F4-4FDA-92C9-6C6CCC680D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58C0-71BE-4F6D-AEEB-8F3F80693A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A7C-800B-40B3-BEEC-709B08B3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58F-2FEC-4CBE-8300-31D24A5C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62F-518E-42A4-B1E6-FD7E3E98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224-81CA-4DD4-92D2-C8ADEFF4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4C4-B4A9-4420-AECF-E74A1A10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FD2-C6E7-4A0E-A1CB-11E8D58E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8F58-DE19-4B05-9300-93E75366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7F5-75D0-4DDF-9B13-0BB8A349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019-1A44-47AF-86B6-BD6DCB4B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117-16C1-4B51-8563-D41CEC2C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1DD-D16E-470E-9B37-5BADA91E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F0E-861C-4099-8B7A-E35BB403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9947-C147-42B4-A99E-C31BB7FA82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116000" y="4680"/>
            <a:ext cx="6840720" cy="6867720"/>
          </a:xfrm>
          <a:prstGeom prst="rect">
            <a:avLst/>
          </a:prstGeom>
          <a:ln w="0">
            <a:noFill/>
          </a:ln>
        </p:spPr>
      </p:pic>
      <p:sp>
        <p:nvSpPr>
          <p:cNvPr id="50" name="Rounded Rectangle 1"/>
          <p:cNvSpPr/>
          <p:nvPr/>
        </p:nvSpPr>
        <p:spPr>
          <a:xfrm>
            <a:off x="1547640" y="476280"/>
            <a:ext cx="100836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ounded Rectangle 5"/>
          <p:cNvSpPr/>
          <p:nvPr/>
        </p:nvSpPr>
        <p:spPr>
          <a:xfrm>
            <a:off x="1547640" y="2492280"/>
            <a:ext cx="100836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ounded Rectangle 6"/>
          <p:cNvSpPr/>
          <p:nvPr/>
        </p:nvSpPr>
        <p:spPr>
          <a:xfrm>
            <a:off x="1547640" y="4581360"/>
            <a:ext cx="144000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ounded Rectangle 7"/>
          <p:cNvSpPr/>
          <p:nvPr/>
        </p:nvSpPr>
        <p:spPr>
          <a:xfrm>
            <a:off x="2968560" y="1125360"/>
            <a:ext cx="131616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ounded Rectangle 8"/>
          <p:cNvSpPr/>
          <p:nvPr/>
        </p:nvSpPr>
        <p:spPr>
          <a:xfrm>
            <a:off x="3121200" y="3141720"/>
            <a:ext cx="152208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ounded Rectangle 9"/>
          <p:cNvSpPr/>
          <p:nvPr/>
        </p:nvSpPr>
        <p:spPr>
          <a:xfrm>
            <a:off x="1519200" y="1773360"/>
            <a:ext cx="96516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ounded Rectangle 10"/>
          <p:cNvSpPr/>
          <p:nvPr/>
        </p:nvSpPr>
        <p:spPr>
          <a:xfrm>
            <a:off x="3317760" y="1773360"/>
            <a:ext cx="96696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ounded Rectangle 11"/>
          <p:cNvSpPr/>
          <p:nvPr/>
        </p:nvSpPr>
        <p:spPr>
          <a:xfrm>
            <a:off x="1519200" y="3789360"/>
            <a:ext cx="110808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ounded Rectangle 12"/>
          <p:cNvSpPr/>
          <p:nvPr/>
        </p:nvSpPr>
        <p:spPr>
          <a:xfrm>
            <a:off x="3317760" y="3789360"/>
            <a:ext cx="96696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41:47Z</dcterms:modified>
  <cp:revision>203</cp:revision>
  <dc:subject/>
  <dc:title>TITLE</dc:title>
</cp:coreProperties>
</file>