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51619-B624-4384-9624-750443FB2859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5861E-74B2-46D3-9899-918E067A42CA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55537-F4EE-4362-BA8C-2C94E31358CA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C6DE4-6E56-4CA1-B52A-D7366BD49CC5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7D503-5056-435E-99AD-CD7958FE8DEA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7F194-D907-4686-A43F-2888172F5E92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594CF-8BCD-4B98-8B71-6A45021C1BEB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294CC-7EBA-4EA4-9494-83BBC702DDFF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2EF8E-83DB-4435-A56D-8E9CAFD43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2C00D-10C8-4D68-9390-C56A5FA8C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C3799-7A0A-43C9-B64C-61343DFF0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35A0A-3C1D-4EBC-BCC9-039F8CC3B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39B75-A203-4F1F-85EE-AF91CA435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B0425-3234-44E6-981A-60167A51C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45322-D143-4AD0-BD7B-2499ECDE5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32780-4FD4-434D-86E8-32FF6EBDA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7956A-0ED7-452B-9EE3-6C2C918D7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B21D4-85FA-4D9A-A499-245A8C32B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30216-6CE8-4419-B7EE-8504BD4FA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B55D4-2545-4296-B574-129E6915F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FE4D9-002D-466C-BEE9-D4C76F94C73F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9" name="Group 1"/>
          <p:cNvGrpSpPr/>
          <p:nvPr/>
        </p:nvGrpSpPr>
        <p:grpSpPr>
          <a:xfrm>
            <a:off x="6480" y="0"/>
            <a:ext cx="9137520" cy="6453360"/>
            <a:chOff x="6480" y="0"/>
            <a:chExt cx="9137520" cy="6453360"/>
          </a:xfrm>
        </p:grpSpPr>
        <p:pic>
          <p:nvPicPr>
            <p:cNvPr id="50" name="Picture 2" descr=""/>
            <p:cNvPicPr/>
            <p:nvPr/>
          </p:nvPicPr>
          <p:blipFill>
            <a:blip r:embed="rId1"/>
            <a:stretch/>
          </p:blipFill>
          <p:spPr>
            <a:xfrm>
              <a:off x="6480" y="23040"/>
              <a:ext cx="4572720" cy="6430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Picture 3" descr=""/>
            <p:cNvPicPr/>
            <p:nvPr/>
          </p:nvPicPr>
          <p:blipFill>
            <a:blip r:embed="rId2"/>
            <a:stretch/>
          </p:blipFill>
          <p:spPr>
            <a:xfrm>
              <a:off x="4579200" y="0"/>
              <a:ext cx="4564800" cy="6453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0" y="333360"/>
            <a:ext cx="9178920" cy="5040360"/>
          </a:xfrm>
          <a:prstGeom prst="rect">
            <a:avLst/>
          </a:prstGeom>
          <a:ln w="0">
            <a:noFill/>
          </a:ln>
        </p:spPr>
      </p:pic>
      <p:sp>
        <p:nvSpPr>
          <p:cNvPr id="54" name="TextBox 2"/>
          <p:cNvSpPr/>
          <p:nvPr/>
        </p:nvSpPr>
        <p:spPr>
          <a:xfrm>
            <a:off x="1763640" y="692280"/>
            <a:ext cx="275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00"/>
                </a:solidFill>
                <a:latin typeface="Comic Sans MS"/>
              </a:rPr>
              <a:t>mi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TextBox 7"/>
          <p:cNvSpPr/>
          <p:nvPr/>
        </p:nvSpPr>
        <p:spPr>
          <a:xfrm>
            <a:off x="1763640" y="1155600"/>
            <a:ext cx="275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00"/>
                </a:solidFill>
                <a:latin typeface="Comic Sans MS"/>
              </a:rPr>
              <a:t>mi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TextBox 8"/>
          <p:cNvSpPr/>
          <p:nvPr/>
        </p:nvSpPr>
        <p:spPr>
          <a:xfrm>
            <a:off x="1763640" y="1619280"/>
            <a:ext cx="275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00"/>
                </a:solidFill>
                <a:latin typeface="Comic Sans MS"/>
              </a:rPr>
              <a:t>perr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TextBox 9"/>
          <p:cNvSpPr/>
          <p:nvPr/>
        </p:nvSpPr>
        <p:spPr>
          <a:xfrm>
            <a:off x="1763640" y="2081160"/>
            <a:ext cx="275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00"/>
                </a:solidFill>
                <a:latin typeface="Comic Sans MS"/>
              </a:rPr>
              <a:t>gato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TextBox 10"/>
          <p:cNvSpPr/>
          <p:nvPr/>
        </p:nvSpPr>
        <p:spPr>
          <a:xfrm>
            <a:off x="1763640" y="2544840"/>
            <a:ext cx="275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00"/>
                </a:solidFill>
                <a:latin typeface="Comic Sans MS"/>
              </a:rPr>
              <a:t>rató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TextBox 11"/>
          <p:cNvSpPr/>
          <p:nvPr/>
        </p:nvSpPr>
        <p:spPr>
          <a:xfrm>
            <a:off x="1763640" y="3006720"/>
            <a:ext cx="275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00"/>
                </a:solidFill>
                <a:latin typeface="Comic Sans MS"/>
              </a:rPr>
              <a:t>pec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TextBox 12"/>
          <p:cNvSpPr/>
          <p:nvPr/>
        </p:nvSpPr>
        <p:spPr>
          <a:xfrm>
            <a:off x="1763640" y="3470400"/>
            <a:ext cx="275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00"/>
                </a:solidFill>
                <a:latin typeface="Comic Sans MS"/>
              </a:rPr>
              <a:t>se llam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TextBox 13"/>
          <p:cNvSpPr/>
          <p:nvPr/>
        </p:nvSpPr>
        <p:spPr>
          <a:xfrm>
            <a:off x="1763640" y="3933720"/>
            <a:ext cx="275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00"/>
                </a:solidFill>
                <a:latin typeface="Comic Sans MS"/>
              </a:rPr>
              <a:t>se llama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TextBox 14"/>
          <p:cNvSpPr/>
          <p:nvPr/>
        </p:nvSpPr>
        <p:spPr>
          <a:xfrm>
            <a:off x="6156360" y="692280"/>
            <a:ext cx="275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00"/>
                </a:solidFill>
                <a:latin typeface="Comic Sans MS"/>
              </a:rPr>
              <a:t>tien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TextBox 15"/>
          <p:cNvSpPr/>
          <p:nvPr/>
        </p:nvSpPr>
        <p:spPr>
          <a:xfrm>
            <a:off x="6156360" y="1155600"/>
            <a:ext cx="275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00"/>
                </a:solidFill>
                <a:latin typeface="Comic Sans MS"/>
              </a:rPr>
              <a:t>tiene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TextBox 16"/>
          <p:cNvSpPr/>
          <p:nvPr/>
        </p:nvSpPr>
        <p:spPr>
          <a:xfrm>
            <a:off x="6156360" y="1619280"/>
            <a:ext cx="275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00"/>
                </a:solidFill>
                <a:latin typeface="Comic Sans MS"/>
              </a:rPr>
              <a:t>u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TextBox 17"/>
          <p:cNvSpPr/>
          <p:nvPr/>
        </p:nvSpPr>
        <p:spPr>
          <a:xfrm>
            <a:off x="6156360" y="2081160"/>
            <a:ext cx="275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00"/>
                </a:solidFill>
                <a:latin typeface="Comic Sans MS"/>
              </a:rPr>
              <a:t>do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TextBox 18"/>
          <p:cNvSpPr/>
          <p:nvPr/>
        </p:nvSpPr>
        <p:spPr>
          <a:xfrm>
            <a:off x="6156360" y="2544840"/>
            <a:ext cx="275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00"/>
                </a:solidFill>
                <a:latin typeface="Comic Sans MS"/>
              </a:rPr>
              <a:t>tr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TextBox 19"/>
          <p:cNvSpPr/>
          <p:nvPr/>
        </p:nvSpPr>
        <p:spPr>
          <a:xfrm>
            <a:off x="6156360" y="3006720"/>
            <a:ext cx="275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00"/>
                </a:solidFill>
                <a:latin typeface="Comic Sans MS"/>
              </a:rPr>
              <a:t>cuatr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TextBox 20"/>
          <p:cNvSpPr/>
          <p:nvPr/>
        </p:nvSpPr>
        <p:spPr>
          <a:xfrm>
            <a:off x="6156360" y="3470400"/>
            <a:ext cx="275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00"/>
                </a:solidFill>
                <a:latin typeface="Comic Sans MS"/>
              </a:rPr>
              <a:t>añ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TextBox 21"/>
          <p:cNvSpPr/>
          <p:nvPr/>
        </p:nvSpPr>
        <p:spPr>
          <a:xfrm>
            <a:off x="6156360" y="3933720"/>
            <a:ext cx="275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00"/>
                </a:solidFill>
                <a:latin typeface="Comic Sans MS"/>
              </a:rPr>
              <a:t>año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14400" y="1467000"/>
            <a:ext cx="9273960" cy="2249280"/>
          </a:xfrm>
          <a:prstGeom prst="rect">
            <a:avLst/>
          </a:prstGeom>
          <a:ln w="0">
            <a:noFill/>
          </a:ln>
        </p:spPr>
      </p:pic>
      <p:sp>
        <p:nvSpPr>
          <p:cNvPr id="72" name="Freeform 1"/>
          <p:cNvSpPr/>
          <p:nvPr/>
        </p:nvSpPr>
        <p:spPr>
          <a:xfrm>
            <a:off x="647640" y="2598840"/>
            <a:ext cx="1090800" cy="741240"/>
          </a:xfrm>
          <a:custGeom>
            <a:avLst/>
            <a:gdLst/>
            <a:ahLst/>
            <a:rect l="l" t="t" r="r" b="b"/>
            <a:pathLst>
              <a:path w="1090755" h="742384">
                <a:moveTo>
                  <a:pt x="139433" y="0"/>
                </a:moveTo>
                <a:cubicBezTo>
                  <a:pt x="121326" y="0"/>
                  <a:pt x="85565" y="8827"/>
                  <a:pt x="67006" y="18106"/>
                </a:cubicBezTo>
                <a:cubicBezTo>
                  <a:pt x="57274" y="22972"/>
                  <a:pt x="48899" y="30177"/>
                  <a:pt x="39845" y="36213"/>
                </a:cubicBezTo>
                <a:cubicBezTo>
                  <a:pt x="-13787" y="116663"/>
                  <a:pt x="-2748" y="75707"/>
                  <a:pt x="12685" y="199176"/>
                </a:cubicBezTo>
                <a:cubicBezTo>
                  <a:pt x="14228" y="211523"/>
                  <a:pt x="15565" y="224587"/>
                  <a:pt x="21738" y="235390"/>
                </a:cubicBezTo>
                <a:cubicBezTo>
                  <a:pt x="28090" y="246507"/>
                  <a:pt x="40702" y="252714"/>
                  <a:pt x="48899" y="262550"/>
                </a:cubicBezTo>
                <a:cubicBezTo>
                  <a:pt x="55865" y="270909"/>
                  <a:pt x="60970" y="280657"/>
                  <a:pt x="67006" y="289710"/>
                </a:cubicBezTo>
                <a:cubicBezTo>
                  <a:pt x="83640" y="339616"/>
                  <a:pt x="65406" y="298407"/>
                  <a:pt x="112273" y="353085"/>
                </a:cubicBezTo>
                <a:cubicBezTo>
                  <a:pt x="119354" y="361346"/>
                  <a:pt x="123151" y="372113"/>
                  <a:pt x="130380" y="380245"/>
                </a:cubicBezTo>
                <a:cubicBezTo>
                  <a:pt x="181079" y="437281"/>
                  <a:pt x="179550" y="431132"/>
                  <a:pt x="239022" y="470780"/>
                </a:cubicBezTo>
                <a:lnTo>
                  <a:pt x="266182" y="488887"/>
                </a:lnTo>
                <a:cubicBezTo>
                  <a:pt x="275235" y="494923"/>
                  <a:pt x="283610" y="502128"/>
                  <a:pt x="293342" y="506994"/>
                </a:cubicBezTo>
                <a:lnTo>
                  <a:pt x="365770" y="543207"/>
                </a:lnTo>
                <a:cubicBezTo>
                  <a:pt x="377841" y="549243"/>
                  <a:pt x="389181" y="557046"/>
                  <a:pt x="401984" y="561314"/>
                </a:cubicBezTo>
                <a:cubicBezTo>
                  <a:pt x="411037" y="564332"/>
                  <a:pt x="419968" y="567746"/>
                  <a:pt x="429144" y="570368"/>
                </a:cubicBezTo>
                <a:cubicBezTo>
                  <a:pt x="469109" y="581787"/>
                  <a:pt x="457778" y="575447"/>
                  <a:pt x="492519" y="588475"/>
                </a:cubicBezTo>
                <a:cubicBezTo>
                  <a:pt x="507736" y="594181"/>
                  <a:pt x="522935" y="599982"/>
                  <a:pt x="537786" y="606582"/>
                </a:cubicBezTo>
                <a:cubicBezTo>
                  <a:pt x="571102" y="621389"/>
                  <a:pt x="569281" y="625772"/>
                  <a:pt x="601160" y="633742"/>
                </a:cubicBezTo>
                <a:cubicBezTo>
                  <a:pt x="642641" y="644112"/>
                  <a:pt x="674867" y="646351"/>
                  <a:pt x="718855" y="651849"/>
                </a:cubicBezTo>
                <a:lnTo>
                  <a:pt x="773176" y="669956"/>
                </a:lnTo>
                <a:lnTo>
                  <a:pt x="800336" y="679009"/>
                </a:lnTo>
                <a:cubicBezTo>
                  <a:pt x="809390" y="685045"/>
                  <a:pt x="817496" y="692830"/>
                  <a:pt x="827497" y="697116"/>
                </a:cubicBezTo>
                <a:cubicBezTo>
                  <a:pt x="838934" y="702018"/>
                  <a:pt x="851793" y="702595"/>
                  <a:pt x="863711" y="706170"/>
                </a:cubicBezTo>
                <a:cubicBezTo>
                  <a:pt x="881992" y="711655"/>
                  <a:pt x="899925" y="718241"/>
                  <a:pt x="918032" y="724277"/>
                </a:cubicBezTo>
                <a:lnTo>
                  <a:pt x="945192" y="733330"/>
                </a:lnTo>
                <a:lnTo>
                  <a:pt x="972352" y="742384"/>
                </a:lnTo>
                <a:lnTo>
                  <a:pt x="1071940" y="733330"/>
                </a:lnTo>
                <a:cubicBezTo>
                  <a:pt x="1088745" y="724281"/>
                  <a:pt x="1090047" y="679009"/>
                  <a:pt x="1090047" y="679009"/>
                </a:cubicBezTo>
                <a:cubicBezTo>
                  <a:pt x="1087029" y="618653"/>
                  <a:pt x="1097915" y="555954"/>
                  <a:pt x="1080994" y="497940"/>
                </a:cubicBezTo>
                <a:cubicBezTo>
                  <a:pt x="1074901" y="477049"/>
                  <a:pt x="1026673" y="461726"/>
                  <a:pt x="1026673" y="461726"/>
                </a:cubicBezTo>
                <a:cubicBezTo>
                  <a:pt x="1020637" y="452673"/>
                  <a:pt x="1017062" y="441363"/>
                  <a:pt x="1008566" y="434566"/>
                </a:cubicBezTo>
                <a:cubicBezTo>
                  <a:pt x="1001114" y="428604"/>
                  <a:pt x="989942" y="429780"/>
                  <a:pt x="981406" y="425512"/>
                </a:cubicBezTo>
                <a:cubicBezTo>
                  <a:pt x="911212" y="390415"/>
                  <a:pt x="995345" y="421104"/>
                  <a:pt x="927085" y="398352"/>
                </a:cubicBezTo>
                <a:lnTo>
                  <a:pt x="818443" y="325924"/>
                </a:lnTo>
                <a:lnTo>
                  <a:pt x="791283" y="307817"/>
                </a:lnTo>
                <a:cubicBezTo>
                  <a:pt x="782230" y="301781"/>
                  <a:pt x="773855" y="294576"/>
                  <a:pt x="764123" y="289710"/>
                </a:cubicBezTo>
                <a:cubicBezTo>
                  <a:pt x="752052" y="283675"/>
                  <a:pt x="740314" y="276920"/>
                  <a:pt x="727909" y="271604"/>
                </a:cubicBezTo>
                <a:cubicBezTo>
                  <a:pt x="719137" y="267845"/>
                  <a:pt x="709090" y="267185"/>
                  <a:pt x="700748" y="262550"/>
                </a:cubicBezTo>
                <a:cubicBezTo>
                  <a:pt x="607361" y="210668"/>
                  <a:pt x="680723" y="237767"/>
                  <a:pt x="619267" y="217283"/>
                </a:cubicBezTo>
                <a:cubicBezTo>
                  <a:pt x="610214" y="211247"/>
                  <a:pt x="602050" y="203595"/>
                  <a:pt x="592107" y="199176"/>
                </a:cubicBezTo>
                <a:cubicBezTo>
                  <a:pt x="574666" y="191424"/>
                  <a:pt x="537786" y="181069"/>
                  <a:pt x="537786" y="181069"/>
                </a:cubicBezTo>
                <a:cubicBezTo>
                  <a:pt x="494746" y="152375"/>
                  <a:pt x="520947" y="166402"/>
                  <a:pt x="456305" y="144855"/>
                </a:cubicBezTo>
                <a:cubicBezTo>
                  <a:pt x="456300" y="144853"/>
                  <a:pt x="401989" y="126752"/>
                  <a:pt x="401984" y="126748"/>
                </a:cubicBezTo>
                <a:cubicBezTo>
                  <a:pt x="339723" y="85240"/>
                  <a:pt x="368308" y="97415"/>
                  <a:pt x="320503" y="81481"/>
                </a:cubicBezTo>
                <a:cubicBezTo>
                  <a:pt x="311449" y="72427"/>
                  <a:pt x="304535" y="60538"/>
                  <a:pt x="293342" y="54320"/>
                </a:cubicBezTo>
                <a:cubicBezTo>
                  <a:pt x="276658" y="45051"/>
                  <a:pt x="257129" y="42249"/>
                  <a:pt x="239022" y="36213"/>
                </a:cubicBezTo>
                <a:cubicBezTo>
                  <a:pt x="229968" y="33195"/>
                  <a:pt x="221119" y="29475"/>
                  <a:pt x="211861" y="27160"/>
                </a:cubicBezTo>
                <a:cubicBezTo>
                  <a:pt x="199790" y="24142"/>
                  <a:pt x="187611" y="21524"/>
                  <a:pt x="175647" y="18106"/>
                </a:cubicBezTo>
                <a:cubicBezTo>
                  <a:pt x="166471" y="15484"/>
                  <a:pt x="157540" y="0"/>
                  <a:pt x="139433" y="0"/>
                </a:cubicBezTo>
                <a:close/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Freeform 3"/>
          <p:cNvSpPr/>
          <p:nvPr/>
        </p:nvSpPr>
        <p:spPr>
          <a:xfrm>
            <a:off x="7956720" y="2714760"/>
            <a:ext cx="744480" cy="544320"/>
          </a:xfrm>
          <a:custGeom>
            <a:avLst/>
            <a:gdLst/>
            <a:ahLst/>
            <a:rect l="l" t="t" r="r" b="b"/>
            <a:pathLst>
              <a:path w="743801" h="544091">
                <a:moveTo>
                  <a:pt x="1417" y="281540"/>
                </a:moveTo>
                <a:cubicBezTo>
                  <a:pt x="-3110" y="296629"/>
                  <a:pt x="4103" y="312798"/>
                  <a:pt x="10471" y="326807"/>
                </a:cubicBezTo>
                <a:cubicBezTo>
                  <a:pt x="33433" y="377324"/>
                  <a:pt x="38220" y="375486"/>
                  <a:pt x="73845" y="399235"/>
                </a:cubicBezTo>
                <a:cubicBezTo>
                  <a:pt x="82918" y="426455"/>
                  <a:pt x="81505" y="430156"/>
                  <a:pt x="101005" y="453556"/>
                </a:cubicBezTo>
                <a:cubicBezTo>
                  <a:pt x="109202" y="463392"/>
                  <a:pt x="119969" y="470880"/>
                  <a:pt x="128166" y="480716"/>
                </a:cubicBezTo>
                <a:cubicBezTo>
                  <a:pt x="135132" y="489075"/>
                  <a:pt x="138083" y="500712"/>
                  <a:pt x="146272" y="507877"/>
                </a:cubicBezTo>
                <a:cubicBezTo>
                  <a:pt x="162649" y="522207"/>
                  <a:pt x="200593" y="544091"/>
                  <a:pt x="200593" y="544091"/>
                </a:cubicBezTo>
                <a:cubicBezTo>
                  <a:pt x="273021" y="541073"/>
                  <a:pt x="345584" y="540392"/>
                  <a:pt x="417876" y="535037"/>
                </a:cubicBezTo>
                <a:cubicBezTo>
                  <a:pt x="444593" y="533058"/>
                  <a:pt x="449372" y="519290"/>
                  <a:pt x="472197" y="507877"/>
                </a:cubicBezTo>
                <a:cubicBezTo>
                  <a:pt x="480733" y="503609"/>
                  <a:pt x="490822" y="503091"/>
                  <a:pt x="499358" y="498823"/>
                </a:cubicBezTo>
                <a:cubicBezTo>
                  <a:pt x="533075" y="481964"/>
                  <a:pt x="523644" y="478584"/>
                  <a:pt x="553678" y="453556"/>
                </a:cubicBezTo>
                <a:cubicBezTo>
                  <a:pt x="619789" y="398464"/>
                  <a:pt x="535531" y="481659"/>
                  <a:pt x="617053" y="408289"/>
                </a:cubicBezTo>
                <a:cubicBezTo>
                  <a:pt x="636086" y="391159"/>
                  <a:pt x="653266" y="372075"/>
                  <a:pt x="671373" y="353968"/>
                </a:cubicBezTo>
                <a:lnTo>
                  <a:pt x="698534" y="326807"/>
                </a:lnTo>
                <a:cubicBezTo>
                  <a:pt x="707587" y="317754"/>
                  <a:pt x="718592" y="310300"/>
                  <a:pt x="725694" y="299647"/>
                </a:cubicBezTo>
                <a:lnTo>
                  <a:pt x="743801" y="272487"/>
                </a:lnTo>
                <a:cubicBezTo>
                  <a:pt x="740783" y="248344"/>
                  <a:pt x="742931" y="222972"/>
                  <a:pt x="734748" y="200059"/>
                </a:cubicBezTo>
                <a:cubicBezTo>
                  <a:pt x="727429" y="179565"/>
                  <a:pt x="710605" y="163845"/>
                  <a:pt x="698534" y="145738"/>
                </a:cubicBezTo>
                <a:cubicBezTo>
                  <a:pt x="673326" y="107926"/>
                  <a:pt x="688120" y="126271"/>
                  <a:pt x="653267" y="91417"/>
                </a:cubicBezTo>
                <a:cubicBezTo>
                  <a:pt x="643775" y="62943"/>
                  <a:pt x="646116" y="56471"/>
                  <a:pt x="617053" y="37096"/>
                </a:cubicBezTo>
                <a:cubicBezTo>
                  <a:pt x="609112" y="31802"/>
                  <a:pt x="598946" y="31061"/>
                  <a:pt x="589892" y="28043"/>
                </a:cubicBezTo>
                <a:cubicBezTo>
                  <a:pt x="580839" y="22007"/>
                  <a:pt x="572464" y="14802"/>
                  <a:pt x="562732" y="9936"/>
                </a:cubicBezTo>
                <a:cubicBezTo>
                  <a:pt x="524125" y="-9367"/>
                  <a:pt x="503593" y="4436"/>
                  <a:pt x="454090" y="9936"/>
                </a:cubicBezTo>
                <a:lnTo>
                  <a:pt x="399770" y="46150"/>
                </a:lnTo>
                <a:cubicBezTo>
                  <a:pt x="390716" y="52186"/>
                  <a:pt x="382932" y="60816"/>
                  <a:pt x="372609" y="64257"/>
                </a:cubicBezTo>
                <a:cubicBezTo>
                  <a:pt x="354502" y="70293"/>
                  <a:pt x="334169" y="71777"/>
                  <a:pt x="318288" y="82364"/>
                </a:cubicBezTo>
                <a:lnTo>
                  <a:pt x="236807" y="136685"/>
                </a:lnTo>
                <a:cubicBezTo>
                  <a:pt x="227754" y="142721"/>
                  <a:pt x="220317" y="152658"/>
                  <a:pt x="209647" y="154792"/>
                </a:cubicBezTo>
                <a:lnTo>
                  <a:pt x="164379" y="163845"/>
                </a:lnTo>
                <a:cubicBezTo>
                  <a:pt x="155326" y="169881"/>
                  <a:pt x="147162" y="177533"/>
                  <a:pt x="137219" y="181952"/>
                </a:cubicBezTo>
                <a:cubicBezTo>
                  <a:pt x="119778" y="189704"/>
                  <a:pt x="82898" y="200059"/>
                  <a:pt x="82898" y="200059"/>
                </a:cubicBezTo>
                <a:cubicBezTo>
                  <a:pt x="76862" y="209112"/>
                  <a:pt x="73287" y="220422"/>
                  <a:pt x="64791" y="227219"/>
                </a:cubicBezTo>
                <a:cubicBezTo>
                  <a:pt x="57339" y="233181"/>
                  <a:pt x="45571" y="230979"/>
                  <a:pt x="37631" y="236273"/>
                </a:cubicBezTo>
                <a:cubicBezTo>
                  <a:pt x="13683" y="252239"/>
                  <a:pt x="5944" y="266451"/>
                  <a:pt x="1417" y="281540"/>
                </a:cubicBezTo>
                <a:close/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Freeform 4"/>
          <p:cNvSpPr/>
          <p:nvPr/>
        </p:nvSpPr>
        <p:spPr>
          <a:xfrm>
            <a:off x="3648240" y="2200320"/>
            <a:ext cx="703080" cy="506520"/>
          </a:xfrm>
          <a:custGeom>
            <a:avLst/>
            <a:gdLst/>
            <a:ahLst/>
            <a:rect l="l" t="t" r="r" b="b"/>
            <a:pathLst>
              <a:path w="703125" h="506994">
                <a:moveTo>
                  <a:pt x="36529" y="226337"/>
                </a:moveTo>
                <a:cubicBezTo>
                  <a:pt x="39547" y="241426"/>
                  <a:pt x="39215" y="257595"/>
                  <a:pt x="45583" y="271604"/>
                </a:cubicBezTo>
                <a:cubicBezTo>
                  <a:pt x="54588" y="291415"/>
                  <a:pt x="63690" y="313854"/>
                  <a:pt x="81797" y="325925"/>
                </a:cubicBezTo>
                <a:cubicBezTo>
                  <a:pt x="114453" y="347696"/>
                  <a:pt x="138472" y="361144"/>
                  <a:pt x="163278" y="398353"/>
                </a:cubicBezTo>
                <a:cubicBezTo>
                  <a:pt x="175349" y="416460"/>
                  <a:pt x="181385" y="440602"/>
                  <a:pt x="199492" y="452673"/>
                </a:cubicBezTo>
                <a:lnTo>
                  <a:pt x="253813" y="488887"/>
                </a:lnTo>
                <a:lnTo>
                  <a:pt x="280973" y="506994"/>
                </a:lnTo>
                <a:cubicBezTo>
                  <a:pt x="341329" y="503976"/>
                  <a:pt x="402009" y="504868"/>
                  <a:pt x="462042" y="497941"/>
                </a:cubicBezTo>
                <a:cubicBezTo>
                  <a:pt x="481003" y="495753"/>
                  <a:pt x="516363" y="479834"/>
                  <a:pt x="516363" y="479834"/>
                </a:cubicBezTo>
                <a:cubicBezTo>
                  <a:pt x="525416" y="473798"/>
                  <a:pt x="535164" y="468693"/>
                  <a:pt x="543523" y="461727"/>
                </a:cubicBezTo>
                <a:cubicBezTo>
                  <a:pt x="573554" y="436701"/>
                  <a:pt x="564130" y="433316"/>
                  <a:pt x="597844" y="416459"/>
                </a:cubicBezTo>
                <a:cubicBezTo>
                  <a:pt x="606380" y="412191"/>
                  <a:pt x="615951" y="410424"/>
                  <a:pt x="625005" y="407406"/>
                </a:cubicBezTo>
                <a:cubicBezTo>
                  <a:pt x="669961" y="339973"/>
                  <a:pt x="612182" y="422794"/>
                  <a:pt x="670272" y="353085"/>
                </a:cubicBezTo>
                <a:cubicBezTo>
                  <a:pt x="677238" y="344726"/>
                  <a:pt x="682343" y="334978"/>
                  <a:pt x="688379" y="325925"/>
                </a:cubicBezTo>
                <a:cubicBezTo>
                  <a:pt x="710147" y="260616"/>
                  <a:pt x="705817" y="285032"/>
                  <a:pt x="688379" y="162962"/>
                </a:cubicBezTo>
                <a:cubicBezTo>
                  <a:pt x="685391" y="142045"/>
                  <a:pt x="670278" y="99594"/>
                  <a:pt x="652165" y="81481"/>
                </a:cubicBezTo>
                <a:cubicBezTo>
                  <a:pt x="644471" y="73787"/>
                  <a:pt x="634058" y="69410"/>
                  <a:pt x="625005" y="63374"/>
                </a:cubicBezTo>
                <a:cubicBezTo>
                  <a:pt x="583497" y="1113"/>
                  <a:pt x="609436" y="15936"/>
                  <a:pt x="561630" y="0"/>
                </a:cubicBezTo>
                <a:cubicBezTo>
                  <a:pt x="510327" y="3018"/>
                  <a:pt x="458881" y="4182"/>
                  <a:pt x="407721" y="9054"/>
                </a:cubicBezTo>
                <a:cubicBezTo>
                  <a:pt x="380372" y="11659"/>
                  <a:pt x="369412" y="20894"/>
                  <a:pt x="344347" y="27160"/>
                </a:cubicBezTo>
                <a:cubicBezTo>
                  <a:pt x="329419" y="30892"/>
                  <a:pt x="314169" y="33196"/>
                  <a:pt x="299080" y="36214"/>
                </a:cubicBezTo>
                <a:cubicBezTo>
                  <a:pt x="230890" y="81673"/>
                  <a:pt x="317554" y="28297"/>
                  <a:pt x="235706" y="63374"/>
                </a:cubicBezTo>
                <a:cubicBezTo>
                  <a:pt x="225705" y="67660"/>
                  <a:pt x="218277" y="76615"/>
                  <a:pt x="208545" y="81481"/>
                </a:cubicBezTo>
                <a:cubicBezTo>
                  <a:pt x="200009" y="85749"/>
                  <a:pt x="189727" y="85900"/>
                  <a:pt x="181385" y="90535"/>
                </a:cubicBezTo>
                <a:cubicBezTo>
                  <a:pt x="162362" y="101104"/>
                  <a:pt x="145171" y="114678"/>
                  <a:pt x="127064" y="126749"/>
                </a:cubicBezTo>
                <a:cubicBezTo>
                  <a:pt x="118011" y="132785"/>
                  <a:pt x="109636" y="139990"/>
                  <a:pt x="99904" y="144856"/>
                </a:cubicBezTo>
                <a:cubicBezTo>
                  <a:pt x="53958" y="167828"/>
                  <a:pt x="74919" y="155476"/>
                  <a:pt x="36529" y="181069"/>
                </a:cubicBezTo>
                <a:cubicBezTo>
                  <a:pt x="24458" y="199176"/>
                  <a:pt x="-3261" y="213924"/>
                  <a:pt x="316" y="235390"/>
                </a:cubicBezTo>
                <a:cubicBezTo>
                  <a:pt x="8988" y="287427"/>
                  <a:pt x="-4619" y="287244"/>
                  <a:pt x="36529" y="307818"/>
                </a:cubicBezTo>
                <a:cubicBezTo>
                  <a:pt x="39228" y="309168"/>
                  <a:pt x="42565" y="307818"/>
                  <a:pt x="45583" y="307818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Freeform 5"/>
          <p:cNvSpPr/>
          <p:nvPr/>
        </p:nvSpPr>
        <p:spPr>
          <a:xfrm>
            <a:off x="2554200" y="2779560"/>
            <a:ext cx="885960" cy="588960"/>
          </a:xfrm>
          <a:custGeom>
            <a:avLst/>
            <a:gdLst/>
            <a:ahLst/>
            <a:rect l="l" t="t" r="r" b="b"/>
            <a:pathLst>
              <a:path w="885896" h="588475">
                <a:moveTo>
                  <a:pt x="43924" y="262550"/>
                </a:moveTo>
                <a:cubicBezTo>
                  <a:pt x="36380" y="288201"/>
                  <a:pt x="39935" y="359292"/>
                  <a:pt x="34870" y="407406"/>
                </a:cubicBezTo>
                <a:cubicBezTo>
                  <a:pt x="26982" y="482340"/>
                  <a:pt x="-39485" y="391359"/>
                  <a:pt x="34870" y="561315"/>
                </a:cubicBezTo>
                <a:cubicBezTo>
                  <a:pt x="42520" y="578801"/>
                  <a:pt x="71084" y="573386"/>
                  <a:pt x="89191" y="579422"/>
                </a:cubicBezTo>
                <a:lnTo>
                  <a:pt x="116351" y="588475"/>
                </a:lnTo>
                <a:cubicBezTo>
                  <a:pt x="170672" y="585457"/>
                  <a:pt x="225329" y="586170"/>
                  <a:pt x="279314" y="579422"/>
                </a:cubicBezTo>
                <a:cubicBezTo>
                  <a:pt x="298253" y="577055"/>
                  <a:pt x="333634" y="561315"/>
                  <a:pt x="333634" y="561315"/>
                </a:cubicBezTo>
                <a:cubicBezTo>
                  <a:pt x="399489" y="517412"/>
                  <a:pt x="313511" y="569751"/>
                  <a:pt x="406062" y="534154"/>
                </a:cubicBezTo>
                <a:cubicBezTo>
                  <a:pt x="431255" y="524464"/>
                  <a:pt x="454347" y="510011"/>
                  <a:pt x="478490" y="497940"/>
                </a:cubicBezTo>
                <a:cubicBezTo>
                  <a:pt x="490561" y="491904"/>
                  <a:pt x="503475" y="487320"/>
                  <a:pt x="514704" y="479834"/>
                </a:cubicBezTo>
                <a:lnTo>
                  <a:pt x="569025" y="443620"/>
                </a:lnTo>
                <a:cubicBezTo>
                  <a:pt x="578078" y="437584"/>
                  <a:pt x="585863" y="428954"/>
                  <a:pt x="596185" y="425513"/>
                </a:cubicBezTo>
                <a:cubicBezTo>
                  <a:pt x="624281" y="416147"/>
                  <a:pt x="631592" y="415132"/>
                  <a:pt x="659559" y="398352"/>
                </a:cubicBezTo>
                <a:cubicBezTo>
                  <a:pt x="678220" y="387156"/>
                  <a:pt x="695773" y="374209"/>
                  <a:pt x="713880" y="362138"/>
                </a:cubicBezTo>
                <a:cubicBezTo>
                  <a:pt x="713882" y="362136"/>
                  <a:pt x="768200" y="325926"/>
                  <a:pt x="768201" y="325925"/>
                </a:cubicBezTo>
                <a:cubicBezTo>
                  <a:pt x="777254" y="316871"/>
                  <a:pt x="787029" y="308485"/>
                  <a:pt x="795361" y="298764"/>
                </a:cubicBezTo>
                <a:cubicBezTo>
                  <a:pt x="815474" y="275298"/>
                  <a:pt x="843147" y="231613"/>
                  <a:pt x="858735" y="208230"/>
                </a:cubicBezTo>
                <a:cubicBezTo>
                  <a:pt x="882135" y="173129"/>
                  <a:pt x="873401" y="191391"/>
                  <a:pt x="885896" y="153909"/>
                </a:cubicBezTo>
                <a:cubicBezTo>
                  <a:pt x="882878" y="129766"/>
                  <a:pt x="883244" y="104954"/>
                  <a:pt x="876842" y="81481"/>
                </a:cubicBezTo>
                <a:cubicBezTo>
                  <a:pt x="873979" y="70984"/>
                  <a:pt x="865701" y="62680"/>
                  <a:pt x="858735" y="54321"/>
                </a:cubicBezTo>
                <a:cubicBezTo>
                  <a:pt x="846650" y="39819"/>
                  <a:pt x="822879" y="16966"/>
                  <a:pt x="804415" y="9053"/>
                </a:cubicBezTo>
                <a:cubicBezTo>
                  <a:pt x="792978" y="4152"/>
                  <a:pt x="780272" y="3018"/>
                  <a:pt x="768201" y="0"/>
                </a:cubicBezTo>
                <a:cubicBezTo>
                  <a:pt x="692755" y="6036"/>
                  <a:pt x="617149" y="10319"/>
                  <a:pt x="541864" y="18107"/>
                </a:cubicBezTo>
                <a:cubicBezTo>
                  <a:pt x="529487" y="19387"/>
                  <a:pt x="517087" y="22259"/>
                  <a:pt x="505650" y="27160"/>
                </a:cubicBezTo>
                <a:cubicBezTo>
                  <a:pt x="495649" y="31446"/>
                  <a:pt x="488222" y="40401"/>
                  <a:pt x="478490" y="45267"/>
                </a:cubicBezTo>
                <a:cubicBezTo>
                  <a:pt x="469954" y="49535"/>
                  <a:pt x="459671" y="49686"/>
                  <a:pt x="451329" y="54321"/>
                </a:cubicBezTo>
                <a:cubicBezTo>
                  <a:pt x="432306" y="64890"/>
                  <a:pt x="417654" y="83654"/>
                  <a:pt x="397009" y="90535"/>
                </a:cubicBezTo>
                <a:lnTo>
                  <a:pt x="342688" y="108641"/>
                </a:lnTo>
                <a:cubicBezTo>
                  <a:pt x="333635" y="111659"/>
                  <a:pt x="323468" y="112401"/>
                  <a:pt x="315528" y="117695"/>
                </a:cubicBezTo>
                <a:cubicBezTo>
                  <a:pt x="278014" y="142704"/>
                  <a:pt x="298923" y="133163"/>
                  <a:pt x="252153" y="144855"/>
                </a:cubicBezTo>
                <a:cubicBezTo>
                  <a:pt x="243100" y="150891"/>
                  <a:pt x="234725" y="158096"/>
                  <a:pt x="224993" y="162962"/>
                </a:cubicBezTo>
                <a:cubicBezTo>
                  <a:pt x="216457" y="167230"/>
                  <a:pt x="205284" y="166054"/>
                  <a:pt x="197832" y="172016"/>
                </a:cubicBezTo>
                <a:cubicBezTo>
                  <a:pt x="140993" y="217487"/>
                  <a:pt x="226683" y="187436"/>
                  <a:pt x="143512" y="208230"/>
                </a:cubicBezTo>
                <a:cubicBezTo>
                  <a:pt x="134458" y="217283"/>
                  <a:pt x="126770" y="227948"/>
                  <a:pt x="116351" y="235390"/>
                </a:cubicBezTo>
                <a:cubicBezTo>
                  <a:pt x="105369" y="243234"/>
                  <a:pt x="92542" y="248181"/>
                  <a:pt x="80137" y="253497"/>
                </a:cubicBezTo>
                <a:cubicBezTo>
                  <a:pt x="43727" y="269101"/>
                  <a:pt x="51468" y="236899"/>
                  <a:pt x="43924" y="262550"/>
                </a:cubicBezTo>
                <a:close/>
              </a:path>
            </a:pathLst>
          </a:custGeom>
          <a:noFill/>
          <a:ln w="255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Freeform 6"/>
          <p:cNvSpPr/>
          <p:nvPr/>
        </p:nvSpPr>
        <p:spPr>
          <a:xfrm>
            <a:off x="4770360" y="2151000"/>
            <a:ext cx="959040" cy="465120"/>
          </a:xfrm>
          <a:custGeom>
            <a:avLst/>
            <a:gdLst/>
            <a:ahLst/>
            <a:rect l="l" t="t" r="r" b="b"/>
            <a:pathLst>
              <a:path w="958778" h="465752">
                <a:moveTo>
                  <a:pt x="109687" y="4026"/>
                </a:moveTo>
                <a:cubicBezTo>
                  <a:pt x="58384" y="11571"/>
                  <a:pt x="84192" y="33215"/>
                  <a:pt x="73473" y="49293"/>
                </a:cubicBezTo>
                <a:cubicBezTo>
                  <a:pt x="44788" y="92321"/>
                  <a:pt x="67746" y="82181"/>
                  <a:pt x="28206" y="121721"/>
                </a:cubicBezTo>
                <a:cubicBezTo>
                  <a:pt x="20512" y="129415"/>
                  <a:pt x="10099" y="133792"/>
                  <a:pt x="1045" y="139828"/>
                </a:cubicBezTo>
                <a:cubicBezTo>
                  <a:pt x="4063" y="191131"/>
                  <a:pt x="-7667" y="245514"/>
                  <a:pt x="10099" y="293737"/>
                </a:cubicBezTo>
                <a:cubicBezTo>
                  <a:pt x="16697" y="311646"/>
                  <a:pt x="48538" y="301257"/>
                  <a:pt x="64419" y="311844"/>
                </a:cubicBezTo>
                <a:cubicBezTo>
                  <a:pt x="109608" y="341969"/>
                  <a:pt x="76200" y="325065"/>
                  <a:pt x="145901" y="339004"/>
                </a:cubicBezTo>
                <a:cubicBezTo>
                  <a:pt x="158102" y="341444"/>
                  <a:pt x="169741" y="346754"/>
                  <a:pt x="182115" y="348057"/>
                </a:cubicBezTo>
                <a:cubicBezTo>
                  <a:pt x="227234" y="352806"/>
                  <a:pt x="272720" y="353181"/>
                  <a:pt x="317917" y="357111"/>
                </a:cubicBezTo>
                <a:cubicBezTo>
                  <a:pt x="342156" y="359219"/>
                  <a:pt x="366202" y="363146"/>
                  <a:pt x="390344" y="366164"/>
                </a:cubicBezTo>
                <a:cubicBezTo>
                  <a:pt x="408451" y="372200"/>
                  <a:pt x="426148" y="379642"/>
                  <a:pt x="444665" y="384271"/>
                </a:cubicBezTo>
                <a:lnTo>
                  <a:pt x="517093" y="402378"/>
                </a:lnTo>
                <a:cubicBezTo>
                  <a:pt x="529164" y="405396"/>
                  <a:pt x="541503" y="407497"/>
                  <a:pt x="553307" y="411432"/>
                </a:cubicBezTo>
                <a:cubicBezTo>
                  <a:pt x="562360" y="414450"/>
                  <a:pt x="571209" y="418170"/>
                  <a:pt x="580467" y="420485"/>
                </a:cubicBezTo>
                <a:cubicBezTo>
                  <a:pt x="595395" y="424217"/>
                  <a:pt x="610888" y="425490"/>
                  <a:pt x="625734" y="429539"/>
                </a:cubicBezTo>
                <a:cubicBezTo>
                  <a:pt x="644148" y="434561"/>
                  <a:pt x="661228" y="444508"/>
                  <a:pt x="680055" y="447646"/>
                </a:cubicBezTo>
                <a:cubicBezTo>
                  <a:pt x="749554" y="459229"/>
                  <a:pt x="716376" y="453099"/>
                  <a:pt x="779643" y="465752"/>
                </a:cubicBezTo>
                <a:cubicBezTo>
                  <a:pt x="812839" y="462734"/>
                  <a:pt x="846233" y="461413"/>
                  <a:pt x="879231" y="456699"/>
                </a:cubicBezTo>
                <a:cubicBezTo>
                  <a:pt x="888678" y="455349"/>
                  <a:pt x="898451" y="452940"/>
                  <a:pt x="906392" y="447646"/>
                </a:cubicBezTo>
                <a:cubicBezTo>
                  <a:pt x="917045" y="440544"/>
                  <a:pt x="924499" y="429539"/>
                  <a:pt x="933552" y="420485"/>
                </a:cubicBezTo>
                <a:cubicBezTo>
                  <a:pt x="960408" y="339918"/>
                  <a:pt x="969452" y="335405"/>
                  <a:pt x="942606" y="221309"/>
                </a:cubicBezTo>
                <a:cubicBezTo>
                  <a:pt x="940420" y="212019"/>
                  <a:pt x="923981" y="216523"/>
                  <a:pt x="915445" y="212255"/>
                </a:cubicBezTo>
                <a:cubicBezTo>
                  <a:pt x="905713" y="207389"/>
                  <a:pt x="898017" y="199015"/>
                  <a:pt x="888285" y="194149"/>
                </a:cubicBezTo>
                <a:cubicBezTo>
                  <a:pt x="879749" y="189881"/>
                  <a:pt x="870300" y="187717"/>
                  <a:pt x="861124" y="185095"/>
                </a:cubicBezTo>
                <a:cubicBezTo>
                  <a:pt x="830798" y="176430"/>
                  <a:pt x="799280" y="172280"/>
                  <a:pt x="770590" y="157935"/>
                </a:cubicBezTo>
                <a:cubicBezTo>
                  <a:pt x="717302" y="131291"/>
                  <a:pt x="747183" y="144098"/>
                  <a:pt x="680055" y="121721"/>
                </a:cubicBezTo>
                <a:lnTo>
                  <a:pt x="652895" y="112667"/>
                </a:lnTo>
                <a:lnTo>
                  <a:pt x="625734" y="103614"/>
                </a:lnTo>
                <a:cubicBezTo>
                  <a:pt x="582646" y="74888"/>
                  <a:pt x="615505" y="92396"/>
                  <a:pt x="562360" y="76453"/>
                </a:cubicBezTo>
                <a:cubicBezTo>
                  <a:pt x="544079" y="70969"/>
                  <a:pt x="508039" y="58347"/>
                  <a:pt x="508039" y="58347"/>
                </a:cubicBezTo>
                <a:cubicBezTo>
                  <a:pt x="455847" y="23551"/>
                  <a:pt x="506192" y="53675"/>
                  <a:pt x="453719" y="31186"/>
                </a:cubicBezTo>
                <a:cubicBezTo>
                  <a:pt x="441314" y="25869"/>
                  <a:pt x="430142" y="17818"/>
                  <a:pt x="417505" y="13079"/>
                </a:cubicBezTo>
                <a:cubicBezTo>
                  <a:pt x="405854" y="8710"/>
                  <a:pt x="393728" y="4392"/>
                  <a:pt x="381291" y="4026"/>
                </a:cubicBezTo>
                <a:cubicBezTo>
                  <a:pt x="290795" y="1365"/>
                  <a:pt x="160990" y="-3519"/>
                  <a:pt x="109687" y="4026"/>
                </a:cubicBezTo>
                <a:close/>
              </a:path>
            </a:pathLst>
          </a:custGeom>
          <a:noFill/>
          <a:ln w="255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Freeform 22"/>
          <p:cNvSpPr/>
          <p:nvPr/>
        </p:nvSpPr>
        <p:spPr>
          <a:xfrm>
            <a:off x="5838840" y="2597040"/>
            <a:ext cx="1015920" cy="708120"/>
          </a:xfrm>
          <a:custGeom>
            <a:avLst/>
            <a:gdLst/>
            <a:ahLst/>
            <a:rect l="l" t="t" r="r" b="b"/>
            <a:pathLst>
              <a:path w="1015515" h="707072">
                <a:moveTo>
                  <a:pt x="226337" y="902"/>
                </a:moveTo>
                <a:cubicBezTo>
                  <a:pt x="205212" y="-2116"/>
                  <a:pt x="153329" y="2828"/>
                  <a:pt x="117695" y="9955"/>
                </a:cubicBezTo>
                <a:cubicBezTo>
                  <a:pt x="107025" y="12089"/>
                  <a:pt x="98894" y="21096"/>
                  <a:pt x="90535" y="28062"/>
                </a:cubicBezTo>
                <a:cubicBezTo>
                  <a:pt x="64392" y="49848"/>
                  <a:pt x="63072" y="55675"/>
                  <a:pt x="45267" y="82383"/>
                </a:cubicBezTo>
                <a:lnTo>
                  <a:pt x="27161" y="136704"/>
                </a:lnTo>
                <a:cubicBezTo>
                  <a:pt x="24143" y="145757"/>
                  <a:pt x="20421" y="154606"/>
                  <a:pt x="18107" y="163864"/>
                </a:cubicBezTo>
                <a:cubicBezTo>
                  <a:pt x="6740" y="209336"/>
                  <a:pt x="12989" y="188274"/>
                  <a:pt x="0" y="227238"/>
                </a:cubicBezTo>
                <a:cubicBezTo>
                  <a:pt x="3018" y="257416"/>
                  <a:pt x="2234" y="288221"/>
                  <a:pt x="9054" y="317773"/>
                </a:cubicBezTo>
                <a:cubicBezTo>
                  <a:pt x="17017" y="352276"/>
                  <a:pt x="30379" y="342015"/>
                  <a:pt x="54321" y="353987"/>
                </a:cubicBezTo>
                <a:cubicBezTo>
                  <a:pt x="124512" y="389084"/>
                  <a:pt x="40382" y="358395"/>
                  <a:pt x="108642" y="381147"/>
                </a:cubicBezTo>
                <a:cubicBezTo>
                  <a:pt x="170903" y="422655"/>
                  <a:pt x="142318" y="410480"/>
                  <a:pt x="190123" y="426414"/>
                </a:cubicBezTo>
                <a:lnTo>
                  <a:pt x="244444" y="462628"/>
                </a:lnTo>
                <a:cubicBezTo>
                  <a:pt x="253497" y="468664"/>
                  <a:pt x="261501" y="476694"/>
                  <a:pt x="271604" y="480735"/>
                </a:cubicBezTo>
                <a:cubicBezTo>
                  <a:pt x="298301" y="491414"/>
                  <a:pt x="374805" y="520562"/>
                  <a:pt x="389299" y="535056"/>
                </a:cubicBezTo>
                <a:cubicBezTo>
                  <a:pt x="398353" y="544109"/>
                  <a:pt x="405343" y="555864"/>
                  <a:pt x="416460" y="562216"/>
                </a:cubicBezTo>
                <a:cubicBezTo>
                  <a:pt x="427263" y="568389"/>
                  <a:pt x="440709" y="567852"/>
                  <a:pt x="452673" y="571270"/>
                </a:cubicBezTo>
                <a:cubicBezTo>
                  <a:pt x="461849" y="573892"/>
                  <a:pt x="471062" y="576564"/>
                  <a:pt x="479834" y="580323"/>
                </a:cubicBezTo>
                <a:cubicBezTo>
                  <a:pt x="545433" y="608436"/>
                  <a:pt x="485002" y="592220"/>
                  <a:pt x="561315" y="607484"/>
                </a:cubicBezTo>
                <a:cubicBezTo>
                  <a:pt x="573386" y="613520"/>
                  <a:pt x="584892" y="620852"/>
                  <a:pt x="597529" y="625591"/>
                </a:cubicBezTo>
                <a:cubicBezTo>
                  <a:pt x="609180" y="629960"/>
                  <a:pt x="621779" y="631226"/>
                  <a:pt x="633743" y="634644"/>
                </a:cubicBezTo>
                <a:cubicBezTo>
                  <a:pt x="642919" y="637266"/>
                  <a:pt x="651696" y="641187"/>
                  <a:pt x="660903" y="643698"/>
                </a:cubicBezTo>
                <a:cubicBezTo>
                  <a:pt x="684912" y="650246"/>
                  <a:pt x="709188" y="655769"/>
                  <a:pt x="733331" y="661805"/>
                </a:cubicBezTo>
                <a:cubicBezTo>
                  <a:pt x="745402" y="664823"/>
                  <a:pt x="757741" y="666923"/>
                  <a:pt x="769545" y="670858"/>
                </a:cubicBezTo>
                <a:lnTo>
                  <a:pt x="851026" y="698018"/>
                </a:lnTo>
                <a:lnTo>
                  <a:pt x="878186" y="707072"/>
                </a:lnTo>
                <a:cubicBezTo>
                  <a:pt x="914400" y="704054"/>
                  <a:pt x="952353" y="709509"/>
                  <a:pt x="986828" y="698018"/>
                </a:cubicBezTo>
                <a:cubicBezTo>
                  <a:pt x="1001143" y="693247"/>
                  <a:pt x="1012831" y="676849"/>
                  <a:pt x="1013988" y="661805"/>
                </a:cubicBezTo>
                <a:cubicBezTo>
                  <a:pt x="1019085" y="595540"/>
                  <a:pt x="1010235" y="528877"/>
                  <a:pt x="1004935" y="462628"/>
                </a:cubicBezTo>
                <a:cubicBezTo>
                  <a:pt x="1004174" y="453115"/>
                  <a:pt x="1001175" y="443408"/>
                  <a:pt x="995881" y="435468"/>
                </a:cubicBezTo>
                <a:cubicBezTo>
                  <a:pt x="981937" y="414553"/>
                  <a:pt x="961605" y="403563"/>
                  <a:pt x="941561" y="390201"/>
                </a:cubicBezTo>
                <a:cubicBezTo>
                  <a:pt x="908365" y="340406"/>
                  <a:pt x="941561" y="382656"/>
                  <a:pt x="896293" y="344933"/>
                </a:cubicBezTo>
                <a:cubicBezTo>
                  <a:pt x="886457" y="336737"/>
                  <a:pt x="878969" y="325969"/>
                  <a:pt x="869133" y="317773"/>
                </a:cubicBezTo>
                <a:cubicBezTo>
                  <a:pt x="830217" y="285343"/>
                  <a:pt x="855640" y="311026"/>
                  <a:pt x="814812" y="290612"/>
                </a:cubicBezTo>
                <a:cubicBezTo>
                  <a:pt x="805080" y="285746"/>
                  <a:pt x="797384" y="277372"/>
                  <a:pt x="787652" y="272506"/>
                </a:cubicBezTo>
                <a:cubicBezTo>
                  <a:pt x="774660" y="266010"/>
                  <a:pt x="735886" y="257301"/>
                  <a:pt x="724277" y="254399"/>
                </a:cubicBezTo>
                <a:cubicBezTo>
                  <a:pt x="712206" y="245345"/>
                  <a:pt x="701165" y="234724"/>
                  <a:pt x="688064" y="227238"/>
                </a:cubicBezTo>
                <a:cubicBezTo>
                  <a:pt x="677966" y="221468"/>
                  <a:pt x="632523" y="211090"/>
                  <a:pt x="624689" y="209131"/>
                </a:cubicBezTo>
                <a:cubicBezTo>
                  <a:pt x="606582" y="197060"/>
                  <a:pt x="591013" y="179799"/>
                  <a:pt x="570368" y="172917"/>
                </a:cubicBezTo>
                <a:cubicBezTo>
                  <a:pt x="552261" y="166881"/>
                  <a:pt x="531929" y="165397"/>
                  <a:pt x="516048" y="154810"/>
                </a:cubicBezTo>
                <a:cubicBezTo>
                  <a:pt x="438199" y="102914"/>
                  <a:pt x="536702" y="165138"/>
                  <a:pt x="461727" y="127650"/>
                </a:cubicBezTo>
                <a:cubicBezTo>
                  <a:pt x="391533" y="92553"/>
                  <a:pt x="475666" y="123242"/>
                  <a:pt x="407406" y="100490"/>
                </a:cubicBezTo>
                <a:cubicBezTo>
                  <a:pt x="364364" y="71795"/>
                  <a:pt x="390570" y="85825"/>
                  <a:pt x="325925" y="64276"/>
                </a:cubicBezTo>
                <a:cubicBezTo>
                  <a:pt x="316872" y="61258"/>
                  <a:pt x="306705" y="60516"/>
                  <a:pt x="298765" y="55222"/>
                </a:cubicBezTo>
                <a:cubicBezTo>
                  <a:pt x="263664" y="31822"/>
                  <a:pt x="281927" y="40556"/>
                  <a:pt x="244444" y="28062"/>
                </a:cubicBezTo>
                <a:cubicBezTo>
                  <a:pt x="214772" y="8281"/>
                  <a:pt x="247462" y="3920"/>
                  <a:pt x="226337" y="902"/>
                </a:cubicBezTo>
                <a:close/>
              </a:path>
            </a:pathLst>
          </a:custGeom>
          <a:noFill/>
          <a:ln w="255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Freeform 23"/>
          <p:cNvSpPr/>
          <p:nvPr/>
        </p:nvSpPr>
        <p:spPr>
          <a:xfrm>
            <a:off x="7032600" y="3068640"/>
            <a:ext cx="1069920" cy="471600"/>
          </a:xfrm>
          <a:custGeom>
            <a:avLst/>
            <a:gdLst/>
            <a:ahLst/>
            <a:rect l="l" t="t" r="r" b="b"/>
            <a:pathLst>
              <a:path w="1070265" h="470780">
                <a:moveTo>
                  <a:pt x="65331" y="45267"/>
                </a:moveTo>
                <a:cubicBezTo>
                  <a:pt x="53260" y="66392"/>
                  <a:pt x="38475" y="86182"/>
                  <a:pt x="29117" y="108641"/>
                </a:cubicBezTo>
                <a:cubicBezTo>
                  <a:pt x="23199" y="122845"/>
                  <a:pt x="23402" y="138887"/>
                  <a:pt x="20064" y="153909"/>
                </a:cubicBezTo>
                <a:cubicBezTo>
                  <a:pt x="17365" y="166056"/>
                  <a:pt x="14028" y="178052"/>
                  <a:pt x="11010" y="190123"/>
                </a:cubicBezTo>
                <a:cubicBezTo>
                  <a:pt x="15293" y="301482"/>
                  <a:pt x="-43716" y="422358"/>
                  <a:pt x="74384" y="461726"/>
                </a:cubicBezTo>
                <a:lnTo>
                  <a:pt x="101545" y="470780"/>
                </a:lnTo>
                <a:cubicBezTo>
                  <a:pt x="186044" y="467762"/>
                  <a:pt x="270858" y="469618"/>
                  <a:pt x="355042" y="461726"/>
                </a:cubicBezTo>
                <a:cubicBezTo>
                  <a:pt x="368479" y="460466"/>
                  <a:pt x="378163" y="446893"/>
                  <a:pt x="391256" y="443620"/>
                </a:cubicBezTo>
                <a:cubicBezTo>
                  <a:pt x="414860" y="437719"/>
                  <a:pt x="439684" y="438566"/>
                  <a:pt x="463683" y="434566"/>
                </a:cubicBezTo>
                <a:cubicBezTo>
                  <a:pt x="475957" y="432520"/>
                  <a:pt x="487750" y="428212"/>
                  <a:pt x="499897" y="425513"/>
                </a:cubicBezTo>
                <a:cubicBezTo>
                  <a:pt x="547568" y="414919"/>
                  <a:pt x="555616" y="414966"/>
                  <a:pt x="608539" y="407406"/>
                </a:cubicBezTo>
                <a:cubicBezTo>
                  <a:pt x="634431" y="398775"/>
                  <a:pt x="643485" y="394985"/>
                  <a:pt x="671913" y="389299"/>
                </a:cubicBezTo>
                <a:cubicBezTo>
                  <a:pt x="689913" y="385699"/>
                  <a:pt x="708127" y="383263"/>
                  <a:pt x="726234" y="380245"/>
                </a:cubicBezTo>
                <a:cubicBezTo>
                  <a:pt x="759296" y="358203"/>
                  <a:pt x="784734" y="339622"/>
                  <a:pt x="825822" y="325925"/>
                </a:cubicBezTo>
                <a:cubicBezTo>
                  <a:pt x="917061" y="295510"/>
                  <a:pt x="775566" y="341906"/>
                  <a:pt x="889196" y="307818"/>
                </a:cubicBezTo>
                <a:cubicBezTo>
                  <a:pt x="907478" y="302334"/>
                  <a:pt x="925410" y="295747"/>
                  <a:pt x="943517" y="289711"/>
                </a:cubicBezTo>
                <a:lnTo>
                  <a:pt x="970677" y="280657"/>
                </a:lnTo>
                <a:cubicBezTo>
                  <a:pt x="1057324" y="194013"/>
                  <a:pt x="946384" y="296853"/>
                  <a:pt x="1024998" y="244443"/>
                </a:cubicBezTo>
                <a:cubicBezTo>
                  <a:pt x="1045913" y="230499"/>
                  <a:pt x="1056903" y="210167"/>
                  <a:pt x="1070265" y="190123"/>
                </a:cubicBezTo>
                <a:cubicBezTo>
                  <a:pt x="1067247" y="175034"/>
                  <a:pt x="1068846" y="158216"/>
                  <a:pt x="1061212" y="144855"/>
                </a:cubicBezTo>
                <a:cubicBezTo>
                  <a:pt x="1052953" y="130401"/>
                  <a:pt x="1020833" y="122342"/>
                  <a:pt x="1006891" y="117695"/>
                </a:cubicBezTo>
                <a:cubicBezTo>
                  <a:pt x="988784" y="105624"/>
                  <a:pt x="967958" y="96869"/>
                  <a:pt x="952570" y="81481"/>
                </a:cubicBezTo>
                <a:cubicBezTo>
                  <a:pt x="890556" y="19466"/>
                  <a:pt x="912454" y="48466"/>
                  <a:pt x="880143" y="0"/>
                </a:cubicBezTo>
                <a:cubicBezTo>
                  <a:pt x="743414" y="2909"/>
                  <a:pt x="438823" y="5656"/>
                  <a:pt x="264507" y="18107"/>
                </a:cubicBezTo>
                <a:cubicBezTo>
                  <a:pt x="233814" y="20299"/>
                  <a:pt x="195596" y="27011"/>
                  <a:pt x="164919" y="36214"/>
                </a:cubicBezTo>
                <a:cubicBezTo>
                  <a:pt x="146638" y="41699"/>
                  <a:pt x="129684" y="54321"/>
                  <a:pt x="110598" y="54321"/>
                </a:cubicBezTo>
                <a:lnTo>
                  <a:pt x="65331" y="45267"/>
                </a:lnTo>
                <a:close/>
              </a:path>
            </a:pathLst>
          </a:custGeom>
          <a:noFill/>
          <a:ln w="255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0" name="Picture 2" descr=""/>
          <p:cNvPicPr/>
          <p:nvPr/>
        </p:nvPicPr>
        <p:blipFill>
          <a:blip r:embed="rId1"/>
          <a:stretch/>
        </p:blipFill>
        <p:spPr>
          <a:xfrm>
            <a:off x="0" y="404640"/>
            <a:ext cx="9172440" cy="4969080"/>
          </a:xfrm>
          <a:prstGeom prst="rect">
            <a:avLst/>
          </a:prstGeom>
          <a:ln w="0">
            <a:noFill/>
          </a:ln>
        </p:spPr>
      </p:pic>
      <p:sp>
        <p:nvSpPr>
          <p:cNvPr id="81" name="Rounded Rectangle 2"/>
          <p:cNvSpPr/>
          <p:nvPr/>
        </p:nvSpPr>
        <p:spPr>
          <a:xfrm>
            <a:off x="3348000" y="981000"/>
            <a:ext cx="1079640" cy="4320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Rounded Rectangle 12"/>
          <p:cNvSpPr/>
          <p:nvPr/>
        </p:nvSpPr>
        <p:spPr>
          <a:xfrm>
            <a:off x="4600440" y="1413000"/>
            <a:ext cx="1079640" cy="4316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Rounded Rectangle 13"/>
          <p:cNvSpPr/>
          <p:nvPr/>
        </p:nvSpPr>
        <p:spPr>
          <a:xfrm>
            <a:off x="4932360" y="1844640"/>
            <a:ext cx="1655640" cy="4320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Rounded Rectangle 14"/>
          <p:cNvSpPr/>
          <p:nvPr/>
        </p:nvSpPr>
        <p:spPr>
          <a:xfrm>
            <a:off x="3387600" y="2276640"/>
            <a:ext cx="1544760" cy="4316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Rounded Rectangle 15"/>
          <p:cNvSpPr/>
          <p:nvPr/>
        </p:nvSpPr>
        <p:spPr>
          <a:xfrm>
            <a:off x="5435640" y="2725560"/>
            <a:ext cx="2016000" cy="4320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Rounded Rectangle 16"/>
          <p:cNvSpPr/>
          <p:nvPr/>
        </p:nvSpPr>
        <p:spPr>
          <a:xfrm>
            <a:off x="3348000" y="3157560"/>
            <a:ext cx="1871640" cy="4316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Rounded Rectangle 17"/>
          <p:cNvSpPr/>
          <p:nvPr/>
        </p:nvSpPr>
        <p:spPr>
          <a:xfrm>
            <a:off x="4392720" y="3645000"/>
            <a:ext cx="1079280" cy="4316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Rounded Rectangle 18"/>
          <p:cNvSpPr/>
          <p:nvPr/>
        </p:nvSpPr>
        <p:spPr>
          <a:xfrm>
            <a:off x="3479760" y="4084560"/>
            <a:ext cx="1079640" cy="4320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Rounded Rectangle 19"/>
          <p:cNvSpPr/>
          <p:nvPr/>
        </p:nvSpPr>
        <p:spPr>
          <a:xfrm>
            <a:off x="3429000" y="4516560"/>
            <a:ext cx="3014640" cy="433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Rounded Rectangle 20"/>
          <p:cNvSpPr/>
          <p:nvPr/>
        </p:nvSpPr>
        <p:spPr>
          <a:xfrm>
            <a:off x="4656240" y="4957920"/>
            <a:ext cx="1081080" cy="4316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6480" y="765000"/>
            <a:ext cx="9136080" cy="4392720"/>
          </a:xfrm>
          <a:prstGeom prst="rect">
            <a:avLst/>
          </a:prstGeom>
          <a:ln w="0">
            <a:noFill/>
          </a:ln>
        </p:spPr>
      </p:pic>
      <p:sp>
        <p:nvSpPr>
          <p:cNvPr id="93" name="TextBox 1"/>
          <p:cNvSpPr/>
          <p:nvPr/>
        </p:nvSpPr>
        <p:spPr>
          <a:xfrm>
            <a:off x="1979640" y="126828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00"/>
                </a:solidFill>
                <a:latin typeface="Comic Sans MS"/>
              </a:rPr>
              <a:t>r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TextBox 4"/>
          <p:cNvSpPr/>
          <p:nvPr/>
        </p:nvSpPr>
        <p:spPr>
          <a:xfrm>
            <a:off x="3203640" y="180324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00"/>
                </a:solidFill>
                <a:latin typeface="Comic Sans MS"/>
              </a:rPr>
              <a:t>o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TextBox 5"/>
          <p:cNvSpPr/>
          <p:nvPr/>
        </p:nvSpPr>
        <p:spPr>
          <a:xfrm>
            <a:off x="1547640" y="227664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00"/>
                </a:solidFill>
                <a:latin typeface="Comic Sans MS"/>
              </a:rPr>
              <a:t>i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TextBox 6"/>
          <p:cNvSpPr/>
          <p:nvPr/>
        </p:nvSpPr>
        <p:spPr>
          <a:xfrm>
            <a:off x="1835280" y="276084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00"/>
                </a:solidFill>
                <a:latin typeface="Comic Sans MS"/>
              </a:rPr>
              <a:t>g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TextBox 7"/>
          <p:cNvSpPr/>
          <p:nvPr/>
        </p:nvSpPr>
        <p:spPr>
          <a:xfrm>
            <a:off x="2771640" y="3213000"/>
            <a:ext cx="50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00"/>
                </a:solidFill>
                <a:latin typeface="Comic Sans MS"/>
              </a:rPr>
              <a:t>l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TextBox 8"/>
          <p:cNvSpPr/>
          <p:nvPr/>
        </p:nvSpPr>
        <p:spPr>
          <a:xfrm>
            <a:off x="2484360" y="371628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00"/>
                </a:solidFill>
                <a:latin typeface="Comic Sans MS"/>
              </a:rPr>
              <a:t>e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" name="TextBox 9"/>
          <p:cNvSpPr/>
          <p:nvPr/>
        </p:nvSpPr>
        <p:spPr>
          <a:xfrm>
            <a:off x="1617840" y="4221000"/>
            <a:ext cx="50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00"/>
                </a:solidFill>
                <a:latin typeface="Comic Sans MS"/>
              </a:rPr>
              <a:t>i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TextBox 10"/>
          <p:cNvSpPr/>
          <p:nvPr/>
        </p:nvSpPr>
        <p:spPr>
          <a:xfrm>
            <a:off x="2522520" y="468468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00"/>
                </a:solidFill>
                <a:latin typeface="Comic Sans MS"/>
              </a:rPr>
              <a:t>n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2" name="Picture 2" descr=""/>
          <p:cNvPicPr/>
          <p:nvPr/>
        </p:nvPicPr>
        <p:blipFill>
          <a:blip r:embed="rId1"/>
          <a:stretch/>
        </p:blipFill>
        <p:spPr>
          <a:xfrm>
            <a:off x="17640" y="836640"/>
            <a:ext cx="9097920" cy="3960720"/>
          </a:xfrm>
          <a:prstGeom prst="rect">
            <a:avLst/>
          </a:prstGeom>
          <a:ln w="0">
            <a:noFill/>
          </a:ln>
        </p:spPr>
      </p:pic>
      <p:sp>
        <p:nvSpPr>
          <p:cNvPr id="103" name="TextBox 4"/>
          <p:cNvSpPr/>
          <p:nvPr/>
        </p:nvSpPr>
        <p:spPr>
          <a:xfrm>
            <a:off x="4565520" y="1287360"/>
            <a:ext cx="439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00"/>
                </a:solidFill>
                <a:latin typeface="Comic Sans MS"/>
              </a:rPr>
              <a:t>My dog is 2 years old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TextBox 5"/>
          <p:cNvSpPr/>
          <p:nvPr/>
        </p:nvSpPr>
        <p:spPr>
          <a:xfrm>
            <a:off x="4565520" y="3576600"/>
            <a:ext cx="439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00"/>
                </a:solidFill>
                <a:latin typeface="Comic Sans MS"/>
              </a:rPr>
              <a:t>My dog is called Dafn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TextBox 6"/>
          <p:cNvSpPr/>
          <p:nvPr/>
        </p:nvSpPr>
        <p:spPr>
          <a:xfrm>
            <a:off x="4565520" y="3005280"/>
            <a:ext cx="439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9900"/>
                </a:solidFill>
                <a:latin typeface="Comic Sans MS"/>
              </a:rPr>
              <a:t>My fishes are called Limón and Racu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TextBox 7"/>
          <p:cNvSpPr/>
          <p:nvPr/>
        </p:nvSpPr>
        <p:spPr>
          <a:xfrm>
            <a:off x="4565520" y="1860480"/>
            <a:ext cx="439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00"/>
                </a:solidFill>
                <a:latin typeface="Comic Sans MS"/>
              </a:rPr>
              <a:t>My cats are 3 years old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TextBox 8"/>
          <p:cNvSpPr/>
          <p:nvPr/>
        </p:nvSpPr>
        <p:spPr>
          <a:xfrm>
            <a:off x="4565520" y="2432160"/>
            <a:ext cx="439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00"/>
                </a:solidFill>
                <a:latin typeface="Comic Sans MS"/>
              </a:rPr>
              <a:t>My mouse is called Mimi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TextBox 9"/>
          <p:cNvSpPr/>
          <p:nvPr/>
        </p:nvSpPr>
        <p:spPr>
          <a:xfrm>
            <a:off x="4565520" y="4149720"/>
            <a:ext cx="439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00"/>
                </a:solidFill>
                <a:latin typeface="Comic Sans MS"/>
              </a:rPr>
              <a:t>My mouse is 1 year old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018040"/>
          </a:xfrm>
          <a:prstGeom prst="rect">
            <a:avLst/>
          </a:prstGeom>
          <a:ln w="0">
            <a:noFill/>
          </a:ln>
        </p:spPr>
      </p:pic>
      <p:sp>
        <p:nvSpPr>
          <p:cNvPr id="111" name="TextBox 1"/>
          <p:cNvSpPr/>
          <p:nvPr/>
        </p:nvSpPr>
        <p:spPr>
          <a:xfrm>
            <a:off x="4284720" y="1052640"/>
            <a:ext cx="47512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00"/>
                </a:solidFill>
                <a:latin typeface="Comic Sans MS"/>
              </a:rPr>
              <a:t>Mis gatos se llaman Pichu y Joya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TextBox 4"/>
          <p:cNvSpPr/>
          <p:nvPr/>
        </p:nvSpPr>
        <p:spPr>
          <a:xfrm>
            <a:off x="4284720" y="1844640"/>
            <a:ext cx="47512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00"/>
                </a:solidFill>
                <a:latin typeface="Comic Sans MS"/>
              </a:rPr>
              <a:t>Mi ratón tiene dos año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TextBox 5"/>
          <p:cNvSpPr/>
          <p:nvPr/>
        </p:nvSpPr>
        <p:spPr>
          <a:xfrm>
            <a:off x="4286160" y="2349360"/>
            <a:ext cx="475308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00"/>
                </a:solidFill>
                <a:latin typeface="Comic Sans MS"/>
              </a:rPr>
              <a:t>Mi perro se llama Milú y tiene tres año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TextBox 6"/>
          <p:cNvSpPr/>
          <p:nvPr/>
        </p:nvSpPr>
        <p:spPr>
          <a:xfrm>
            <a:off x="4390920" y="3284640"/>
            <a:ext cx="4753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00"/>
                </a:solidFill>
                <a:latin typeface="Comic Sans MS"/>
              </a:rPr>
              <a:t>Mis peces tienen cuatro año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TextBox 7"/>
          <p:cNvSpPr/>
          <p:nvPr/>
        </p:nvSpPr>
        <p:spPr>
          <a:xfrm>
            <a:off x="4286160" y="4076640"/>
            <a:ext cx="4753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00"/>
                </a:solidFill>
                <a:latin typeface="Comic Sans MS"/>
              </a:rPr>
              <a:t>Mi ratón se llama Joya y tiene un año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TextBox 8"/>
          <p:cNvSpPr/>
          <p:nvPr/>
        </p:nvSpPr>
        <p:spPr>
          <a:xfrm>
            <a:off x="4290840" y="4834080"/>
            <a:ext cx="475308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00"/>
                </a:solidFill>
                <a:latin typeface="Comic Sans MS"/>
              </a:rPr>
              <a:t>Mis peces se llaman Rino y Racu.  Tienen dos año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21-06-07T12:41:11Z</dcterms:modified>
  <cp:revision>199</cp:revision>
  <dc:subject/>
  <dc:title>TITLE</dc:title>
</cp:coreProperties>
</file>