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F2C-F249-4323-91AF-802AA5250D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E42D-D35D-4A53-AAB0-AB9C3A2CBF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888-EB76-4F3F-BD8F-FB2130FD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C3D-95A0-453A-BF34-95A7F52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B38-8AF0-4F5B-93D8-E965572F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2B1-838A-453F-BD8A-A2DFFE8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8BB-62E6-4EC6-A44C-1200BA1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7AC-AC24-4B9E-9400-8C191CCF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581-1D19-4E35-B5AB-3E59A5F4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866-363D-42A9-8274-F42A2B3A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622-4A4B-4123-A077-F54D207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96D-5648-4F9D-BCF0-F4C5014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F92-E606-4B1A-8753-1350EE6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2BB-642E-449E-B699-8C62B37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234-2747-441B-9481-9A9D495905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9000"/>
          <a:ext cx="6119280" cy="6479640"/>
        </p:xfrm>
        <a:graphic>
          <a:graphicData uri="http://schemas.openxmlformats.org/drawingml/2006/table">
            <a:tbl>
              <a:tblPr/>
              <a:tblGrid>
                <a:gridCol w="2039760"/>
                <a:gridCol w="2039760"/>
                <a:gridCol w="203976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muz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qu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ícar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1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zm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dileja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sci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ñ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chupí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pio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516720" y="0"/>
            <a:ext cx="26272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nejillo de In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ám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á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err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ez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ort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4625" t="0" r="9786" b="0"/>
          <a:stretch/>
        </p:blipFill>
        <p:spPr>
          <a:xfrm>
            <a:off x="684360" y="76500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4734" t="0" r="0" b="3544"/>
          <a:stretch/>
        </p:blipFill>
        <p:spPr>
          <a:xfrm>
            <a:off x="2411280" y="112536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17816" t="6577" r="0" b="3289"/>
          <a:stretch/>
        </p:blipFill>
        <p:spPr>
          <a:xfrm>
            <a:off x="4859280" y="69228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1280" y="2924280"/>
            <a:ext cx="1512720" cy="118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28738" t="12691" r="26382" b="10030"/>
          <a:stretch/>
        </p:blipFill>
        <p:spPr>
          <a:xfrm>
            <a:off x="2700360" y="285264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rcRect l="4601" t="1164" r="7081" b="8740"/>
          <a:stretch/>
        </p:blipFill>
        <p:spPr>
          <a:xfrm>
            <a:off x="4716360" y="292428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9947" t="7927" r="30370" b="6497"/>
          <a:stretch/>
        </p:blipFill>
        <p:spPr>
          <a:xfrm>
            <a:off x="755640" y="5013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rcRect l="10719" t="18730" r="11837" b="9127"/>
          <a:stretch/>
        </p:blipFill>
        <p:spPr>
          <a:xfrm>
            <a:off x="2627280" y="5013360"/>
            <a:ext cx="12952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rcRect l="2736" t="6828" r="2736" b="6828"/>
          <a:stretch/>
        </p:blipFill>
        <p:spPr>
          <a:xfrm>
            <a:off x="4500720" y="5084640"/>
            <a:ext cx="1800000" cy="824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r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hám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á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7340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ejillo de In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tort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2708280"/>
            <a:ext cx="6769080" cy="1944720"/>
          </a:xfrm>
          <a:prstGeom prst="wedgeRoundRectCallout">
            <a:avLst>
              <a:gd name="adj1" fmla="val 62171"/>
              <a:gd name="adj2" fmla="val -108287"/>
              <a:gd name="adj3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un gato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 se llama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Gamuz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5:02Z</dcterms:modified>
  <cp:revision>108</cp:revision>
  <dc:subject/>
  <dc:title>TITLE</dc:title>
</cp:coreProperties>
</file>