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31CE-D789-4F2A-A28F-F072BBE7CD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20E3-E767-4D77-B659-35C81564B7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71B-17E2-426A-80B8-2D111314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A91-7F82-443B-B867-C4EC7BC5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081-5EC9-4A5E-A8C1-010993BF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6CC-F38C-4A35-84CA-1D85AD10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121-3997-4521-A078-79AF9DD1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D7C-7216-4F98-9D35-35094EAF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C57-9B26-46E8-ABE9-DB3F677C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55F-87FA-44E1-95DA-F6B20067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C24-2C81-4F6C-86FB-A3742F3C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0F7-B098-4533-BA09-7E45B7F8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47C-B09A-427E-B333-FA43E988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027-5A28-4758-AA92-3999634B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8C3B-2B4A-4AD7-A63C-1F2BC8C773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2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89000"/>
          <a:ext cx="6119280" cy="6479640"/>
        </p:xfrm>
        <a:graphic>
          <a:graphicData uri="http://schemas.openxmlformats.org/drawingml/2006/table">
            <a:tbl>
              <a:tblPr/>
              <a:tblGrid>
                <a:gridCol w="2039760"/>
                <a:gridCol w="2039760"/>
                <a:gridCol w="2039760"/>
              </a:tblGrid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muz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qu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ícar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21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zmí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dileja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sci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ñó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chupí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pioc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516720" y="0"/>
            <a:ext cx="26272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onejillo de Ind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one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hám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áj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err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ez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rat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tort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14625" t="0" r="9786" b="0"/>
          <a:stretch/>
        </p:blipFill>
        <p:spPr>
          <a:xfrm>
            <a:off x="684360" y="765000"/>
            <a:ext cx="1223640" cy="117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4734" t="0" r="0" b="3544"/>
          <a:stretch/>
        </p:blipFill>
        <p:spPr>
          <a:xfrm>
            <a:off x="2411280" y="1125360"/>
            <a:ext cx="1800360" cy="851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17816" t="6577" r="0" b="3289"/>
          <a:stretch/>
        </p:blipFill>
        <p:spPr>
          <a:xfrm>
            <a:off x="4859280" y="692280"/>
            <a:ext cx="88740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11280" y="2924280"/>
            <a:ext cx="1512720" cy="1184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rcRect l="28738" t="12691" r="26382" b="10030"/>
          <a:stretch/>
        </p:blipFill>
        <p:spPr>
          <a:xfrm>
            <a:off x="2700360" y="2852640"/>
            <a:ext cx="1195200" cy="13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rcRect l="4601" t="1164" r="7081" b="8740"/>
          <a:stretch/>
        </p:blipFill>
        <p:spPr>
          <a:xfrm>
            <a:off x="4716360" y="2924280"/>
            <a:ext cx="1368360" cy="1244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rcRect l="9947" t="7927" r="30370" b="6497"/>
          <a:stretch/>
        </p:blipFill>
        <p:spPr>
          <a:xfrm>
            <a:off x="755640" y="5013360"/>
            <a:ext cx="1055520" cy="151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rcRect l="10719" t="18730" r="11837" b="9127"/>
          <a:stretch/>
        </p:blipFill>
        <p:spPr>
          <a:xfrm>
            <a:off x="2627280" y="5013360"/>
            <a:ext cx="129528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rcRect l="2736" t="6828" r="2736" b="6828"/>
          <a:stretch/>
        </p:blipFill>
        <p:spPr>
          <a:xfrm>
            <a:off x="4500720" y="5084640"/>
            <a:ext cx="1800000" cy="824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177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177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rat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177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p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9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hám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39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cone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39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p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609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páj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573408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conejillo de In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609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tort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2708280"/>
            <a:ext cx="6769080" cy="1944720"/>
          </a:xfrm>
          <a:prstGeom prst="wedgeRoundRectCallout">
            <a:avLst>
              <a:gd name="adj1" fmla="val 62171"/>
              <a:gd name="adj2" fmla="val -108287"/>
              <a:gd name="adj3" fmla="val 16667"/>
            </a:avLst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engo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un gato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que se llama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Gamuza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05:02Z</dcterms:modified>
  <cp:revision>108</cp:revision>
  <dc:subject/>
  <dc:title>TITLE</dc:title>
</cp:coreProperties>
</file>