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E329-6DE7-4869-BAEB-F8E5DEE0992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5484-665F-4C04-BBF8-597C0B0C182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A520-CE8F-4092-A633-53760D7CF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9FF3-2FE3-45FE-82AF-EFC609AC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E40C-BA9A-43B3-9AAD-344AA789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2007-93C7-4494-A75F-3F0DCC30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93A3-EC43-4C82-96C0-44896DE1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48E9-A2DA-4985-A3C8-2844D32D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FB0D-EBAF-49CC-A67B-9EB625A7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0A72-0B9F-4D53-92E1-4FC5CE21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C9B5-97B0-4864-9202-0F88734B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5BBF-8367-44E1-ACFF-16F7F05D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4847-262F-4274-B61F-0B3F1AE9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D3F0-EEAB-4C97-A9E4-0546A95B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5493-D4C2-4387-B07A-D12494B18DC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2.xml"/><Relationship Id="rId1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4734" t="0" r="0" b="3544"/>
          <a:stretch/>
        </p:blipFill>
        <p:spPr>
          <a:xfrm>
            <a:off x="6732720" y="5300640"/>
            <a:ext cx="1800000" cy="851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635280" y="5013360"/>
            <a:ext cx="1513080" cy="1184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rcRect l="4601" t="1164" r="7081" b="8740"/>
          <a:stretch/>
        </p:blipFill>
        <p:spPr>
          <a:xfrm>
            <a:off x="684360" y="907920"/>
            <a:ext cx="1368360" cy="1244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¿Tienes mascota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rcRect l="10719" t="18730" r="11837" b="9127"/>
          <a:stretch/>
        </p:blipFill>
        <p:spPr>
          <a:xfrm>
            <a:off x="7020000" y="907920"/>
            <a:ext cx="1295280" cy="1206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rcRect l="9947" t="7927" r="30370" b="6497"/>
          <a:stretch/>
        </p:blipFill>
        <p:spPr>
          <a:xfrm>
            <a:off x="3851280" y="2852640"/>
            <a:ext cx="1055520" cy="1513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rcRect l="2736" t="6828" r="2736" b="6828"/>
          <a:stretch/>
        </p:blipFill>
        <p:spPr>
          <a:xfrm>
            <a:off x="611280" y="5373720"/>
            <a:ext cx="1800000" cy="824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rcRect l="28738" t="12691" r="26382" b="10030"/>
          <a:stretch/>
        </p:blipFill>
        <p:spPr>
          <a:xfrm>
            <a:off x="7093080" y="2924280"/>
            <a:ext cx="1195200" cy="1368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rcRect l="14625" t="0" r="9786" b="0"/>
          <a:stretch/>
        </p:blipFill>
        <p:spPr>
          <a:xfrm>
            <a:off x="3780000" y="907920"/>
            <a:ext cx="1223640" cy="1176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0"/>
          <a:srcRect l="17816" t="6577" r="0" b="3289"/>
          <a:stretch/>
        </p:blipFill>
        <p:spPr>
          <a:xfrm>
            <a:off x="971640" y="2852640"/>
            <a:ext cx="887400" cy="1511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2205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Pe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3640" y="21337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Gan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6720" y="21337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Cris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43657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Pe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3640" y="43657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Pep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16720" y="43657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Qu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62784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Ti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62784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J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43640" y="62784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Ras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1-19T22:08:02Z</dcterms:modified>
  <cp:revision>119</cp:revision>
  <dc:subject/>
  <dc:title>TITLE</dc:title>
</cp:coreProperties>
</file>