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C60-2A6A-4269-A61E-66D55972D9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91E-38C9-4BAA-B427-7D99CAA4F3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9A5-6668-4003-9F95-443EEA69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5E3-9FB1-4B48-81BB-BD33BF7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853-4086-4484-B60C-4A0D4F23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830-9D0F-496E-A528-5A04D830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007-2376-4299-92D4-9072610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B4E-E37F-4073-B437-883A437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DEA-9F9C-4CBC-ABB5-822A1690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E5B-FC49-45A9-B878-DECEDBE8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3AB-A850-4D26-B01B-A468C8A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48D-16A6-476E-AB21-9302A7B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9FB-B915-435F-B14B-133141A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8A6-98F8-41B6-B7C6-0638D68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55F-6EE1-4260-8B72-BD54E7FE78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6732720" y="5300640"/>
            <a:ext cx="1800000" cy="85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35280" y="5013360"/>
            <a:ext cx="1513080" cy="118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684360" y="907920"/>
            <a:ext cx="1368360" cy="124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rcRect l="10719" t="18730" r="11837" b="9127"/>
          <a:stretch/>
        </p:blipFill>
        <p:spPr>
          <a:xfrm>
            <a:off x="7020000" y="90792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3851280" y="2852640"/>
            <a:ext cx="105552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rcRect l="2736" t="6828" r="2736" b="6828"/>
          <a:stretch/>
        </p:blipFill>
        <p:spPr>
          <a:xfrm>
            <a:off x="611280" y="537372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28738" t="12691" r="26382" b="10030"/>
          <a:stretch/>
        </p:blipFill>
        <p:spPr>
          <a:xfrm>
            <a:off x="7093080" y="292428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3780000" y="90792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rcRect l="17816" t="6577" r="0" b="3289"/>
          <a:stretch/>
        </p:blipFill>
        <p:spPr>
          <a:xfrm>
            <a:off x="971640" y="2852640"/>
            <a:ext cx="887400" cy="151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1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G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1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Cri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ep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4365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Qu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Ti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43640" y="62784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Ra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8:02Z</dcterms:modified>
  <cp:revision>119</cp:revision>
  <dc:subject/>
  <dc:title>TITLE</dc:title>
</cp:coreProperties>
</file>