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B523-6DDF-44FE-A7FC-3FDEC4657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6250-9BB5-4DB1-9C2F-8A7C3A90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82FB-10B8-494F-B9C3-57032A102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C371-D484-4D7E-BB82-29F36D97C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1B42-6E6F-4821-91B1-280A0992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6166-E25D-4F04-A1BD-DB7CC5F9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C506-4F14-482E-9403-7734673A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7DEA-24E9-4904-8F79-97E36777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509A-7586-4A72-A201-97B2C2F6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EC31-24BB-4736-8B43-FBAD8168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3C1E-E24A-4751-BD4B-6013BC96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2C78-AB77-4049-92D2-841369F2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523F-2B59-40CF-A5FA-6A68A7EA7AC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1979640" y="198360"/>
            <a:ext cx="820908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d9"/>
                </a:solidFill>
                <a:latin typeface="Comic Sans MS"/>
              </a:rPr>
              <a:t>espa</a:t>
            </a:r>
            <a:r>
              <a:rPr b="0" lang="en-GB" sz="7000" spc="-1" strike="noStrike">
                <a:solidFill>
                  <a:srgbClr val="ffff00"/>
                </a:solidFill>
                <a:latin typeface="Comic Sans MS"/>
              </a:rPr>
              <a:t>ñ</a:t>
            </a:r>
            <a:r>
              <a:rPr b="0" lang="en-GB" sz="7000" spc="-1" strike="noStrike">
                <a:solidFill>
                  <a:srgbClr val="ffffd9"/>
                </a:solidFill>
                <a:latin typeface="Comic Sans MS"/>
              </a:rPr>
              <a:t>ol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0" lang="en-GB" sz="7000" spc="-1" strike="noStrike">
                <a:solidFill>
                  <a:srgbClr val="ffffd9"/>
                </a:solidFill>
                <a:latin typeface="Comic Sans MS"/>
              </a:rPr>
              <a:t>ola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d9"/>
                </a:solidFill>
                <a:latin typeface="Comic Sans MS"/>
              </a:rPr>
              <a:t>me </a:t>
            </a:r>
            <a:r>
              <a:rPr b="0" lang="en-GB" sz="7000" spc="-1" strike="noStrike">
                <a:solidFill>
                  <a:srgbClr val="ffff00"/>
                </a:solidFill>
                <a:latin typeface="Comic Sans MS"/>
              </a:rPr>
              <a:t>ll</a:t>
            </a:r>
            <a:r>
              <a:rPr b="0" lang="en-GB" sz="7000" spc="-1" strike="noStrike">
                <a:solidFill>
                  <a:srgbClr val="ffffd9"/>
                </a:solidFill>
                <a:latin typeface="Comic Sans MS"/>
              </a:rPr>
              <a:t>amo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d9"/>
                </a:solidFill>
                <a:latin typeface="Comic Sans MS"/>
              </a:rPr>
              <a:t>adi</a:t>
            </a:r>
            <a:r>
              <a:rPr b="0" lang="en-GB" sz="7000" spc="-1" strike="noStrike">
                <a:solidFill>
                  <a:srgbClr val="ffff00"/>
                </a:solidFill>
                <a:latin typeface="Comic Sans MS"/>
              </a:rPr>
              <a:t>ó</a:t>
            </a:r>
            <a:r>
              <a:rPr b="0" lang="en-GB" sz="7000" spc="-1" strike="noStrike">
                <a:solidFill>
                  <a:srgbClr val="ffffd9"/>
                </a:solidFill>
                <a:latin typeface="Comic Sans MS"/>
              </a:rPr>
              <a:t>s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1979640" y="198360"/>
            <a:ext cx="820908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d9"/>
                </a:solidFill>
                <a:latin typeface="Comic Sans MS"/>
              </a:rPr>
              <a:t>ni</a:t>
            </a:r>
            <a:r>
              <a:rPr b="0" lang="en-GB" sz="7000" spc="-1" strike="noStrike">
                <a:solidFill>
                  <a:srgbClr val="ffff00"/>
                </a:solidFill>
                <a:latin typeface="Comic Sans MS"/>
              </a:rPr>
              <a:t>ñ</a:t>
            </a:r>
            <a:r>
              <a:rPr b="0" lang="en-GB" sz="7000" spc="-1" strike="noStrike">
                <a:solidFill>
                  <a:srgbClr val="ffffd9"/>
                </a:solidFill>
                <a:latin typeface="Comic Sans MS"/>
              </a:rPr>
              <a:t>o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0" lang="en-GB" sz="7000" spc="-1" strike="noStrike">
                <a:solidFill>
                  <a:srgbClr val="ffffd9"/>
                </a:solidFill>
                <a:latin typeface="Comic Sans MS"/>
              </a:rPr>
              <a:t>ada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00"/>
                </a:solidFill>
                <a:latin typeface="Comic Sans MS"/>
              </a:rPr>
              <a:t>ll</a:t>
            </a:r>
            <a:r>
              <a:rPr b="0" lang="en-GB" sz="7000" spc="-1" strike="noStrike">
                <a:solidFill>
                  <a:srgbClr val="ffffd9"/>
                </a:solidFill>
                <a:latin typeface="Comic Sans MS"/>
              </a:rPr>
              <a:t>eno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d9"/>
                </a:solidFill>
                <a:latin typeface="Comic Sans MS"/>
              </a:rPr>
              <a:t>s</a:t>
            </a:r>
            <a:r>
              <a:rPr b="0" lang="en-GB" sz="7000" spc="-1" strike="noStrike">
                <a:solidFill>
                  <a:srgbClr val="ffff00"/>
                </a:solidFill>
                <a:latin typeface="Comic Sans MS"/>
              </a:rPr>
              <a:t>á</a:t>
            </a:r>
            <a:r>
              <a:rPr b="0" lang="en-GB" sz="7000" spc="-1" strike="noStrike">
                <a:solidFill>
                  <a:srgbClr val="ffffd9"/>
                </a:solidFill>
                <a:latin typeface="Comic Sans MS"/>
              </a:rPr>
              <a:t>bado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" name="Picture 1" descr=""/>
          <p:cNvPicPr/>
          <p:nvPr/>
        </p:nvPicPr>
        <p:blipFill>
          <a:blip r:embed="rId2"/>
          <a:stretch/>
        </p:blipFill>
        <p:spPr>
          <a:xfrm>
            <a:off x="-36360" y="252360"/>
            <a:ext cx="9180360" cy="63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7-09-18T10:24:46Z</dcterms:modified>
  <cp:revision>78</cp:revision>
  <dc:subject/>
  <dc:title>TITLE</dc:title>
</cp:coreProperties>
</file>