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54D-D600-43AC-B161-AF328AEB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4F1-DB84-494F-B32C-C976FDF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49B-ABB9-4F31-9559-DB8FB56D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29D-218D-4107-BF71-721BE7E5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02B-7611-4B19-8435-E22A1154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D17-D931-416C-A973-0AB23EE6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7EA-9064-427A-97A7-6D75F99E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0AA-0545-46D4-86AF-E99A838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E10-ACCA-4187-A1D4-1585C69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9EF-E12D-4194-91A8-4949253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676-BAC4-4108-8A77-A1A60D0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524-3852-4E1E-B314-13828A50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5F88-9D28-4A46-8524-B57123C7A6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979640" y="198360"/>
            <a:ext cx="8209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espa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ñ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ol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ol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me 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ll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am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adi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ó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s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979640" y="198360"/>
            <a:ext cx="8209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ni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ñ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ada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ll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en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s</a:t>
            </a:r>
            <a:r>
              <a:rPr b="0" lang="en-GB" sz="7000" spc="-1" strike="noStrike">
                <a:solidFill>
                  <a:srgbClr val="ffff00"/>
                </a:solidFill>
                <a:latin typeface="Comic Sans MS"/>
              </a:rPr>
              <a:t>á</a:t>
            </a:r>
            <a:r>
              <a:rPr b="0" lang="en-GB" sz="7000" spc="-1" strike="noStrike">
                <a:solidFill>
                  <a:srgbClr val="ffffd9"/>
                </a:solidFill>
                <a:latin typeface="Comic Sans MS"/>
              </a:rPr>
              <a:t>bado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-36360" y="252360"/>
            <a:ext cx="918036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9-18T10:24:46Z</dcterms:modified>
  <cp:revision>78</cp:revision>
  <dc:subject/>
  <dc:title>TITLE</dc:title>
</cp:coreProperties>
</file>