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explode.wav" ContentType="audio/x-wav"/>
  <Override PartName="/ppt/media/image7.png" ContentType="image/png"/>
  <Override PartName="/ppt/media/image8.png" ContentType="image/png"/>
  <Override PartName="/ppt/media/chimes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213E-C285-417D-BE4B-3C199EC56B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00DC-43DD-4B11-AA14-695C997F9F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D97A-12B2-43BB-8478-FBDBD9693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4C50-4DCC-43CE-BE43-9F640D1C0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dio not me o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9415-7AEB-4592-A898-9921A0E880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7812-1FF3-4BE2-B166-8195D26E5A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8386-73D0-4736-8765-DCECFBAD7B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ro not neg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EB13-B984-4620-83E5-EE42B3D6AD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7225-132C-4010-87FE-514B2D6C1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 in pezes should be a c – basic spelling rule when making nouns ending in z pl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96B4-C8F8-4186-8707-1732A5C60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st round. Bet all or nothing on the las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A8F2-3B5E-45A9-9DB1-71E27286CE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orrect adjectival agreement a no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out who has won the most and award a prize from the goodie b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1346-8C1A-4D01-B712-A9C0A6D5E6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7E7C-6F81-4E1D-8178-D47024FAE9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ent missing from veintidó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0336-B93A-4423-8DCC-D32FEC218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lling mistake amari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04E9-DF5B-4C8A-8A61-3AD0037AC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07DE-42AF-4AA9-AE28-ACBF4FA281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lling mistake l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C25-7000-4A21-A96A-3C32913B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8CE-D967-4EEB-A7AA-4259F204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3F9-48C9-4AFA-9466-6F0BD1BD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48A-A289-42AE-BF50-E06F68FA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697-04E2-4406-AB32-345707F3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426-334D-4FA3-899F-4BA4B20F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A8A-50DF-41BA-B1EE-B33A2E13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E04-3844-4EEB-B319-F7781C96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FDA-65AC-47C9-98F4-95B59813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51C-C067-4562-A8BA-53771353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977-8A80-4D80-AA1A-41838D6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025-D090-4807-973F-B58FCC5E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72C6-B767-41E6-B179-0B61C8D588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ightbulblanguages.co.uk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37203-euros-and-notes"/>
          <p:cNvPicPr/>
          <p:nvPr/>
        </p:nvPicPr>
        <p:blipFill>
          <a:blip r:embed="rId1"/>
          <a:stretch/>
        </p:blipFill>
        <p:spPr>
          <a:xfrm>
            <a:off x="1600200" y="2209680"/>
            <a:ext cx="6019920" cy="338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erlin Sans FB"/>
                <a:ea typeface="Arial"/>
              </a:rPr>
              <a:t>¡¡</a:t>
            </a:r>
            <a:r>
              <a:rPr b="1" lang="en-GB" sz="6600" spc="-1" strike="noStrike">
                <a:solidFill>
                  <a:srgbClr val="000000"/>
                </a:solidFill>
                <a:latin typeface="Berlin Sans FB"/>
              </a:rPr>
              <a:t>Haz tus apuestas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304920" y="6618240"/>
            <a:ext cx="8839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/JTidmarsh 2014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Es el veintitrés de ma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Tengo dos pája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Son las ocho menos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Me odio el color blan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red_green_ok_not_ok_icons"/>
          <p:cNvPicPr/>
          <p:nvPr/>
        </p:nvPicPr>
        <p:blipFill>
          <a:blip r:embed="rId1"/>
          <a:stretch/>
        </p:blipFill>
        <p:spPr>
          <a:xfrm>
            <a:off x="2666880" y="18572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dicie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¿Cómo está us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Tengo un gato neg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red_green_ok_not_ok_icons"/>
          <p:cNvPicPr/>
          <p:nvPr/>
        </p:nvPicPr>
        <p:blipFill>
          <a:blip r:embed="rId1"/>
          <a:stretch/>
        </p:blipFill>
        <p:spPr>
          <a:xfrm>
            <a:off x="2666880" y="18572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Tengo una tortuga mar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Tengo tres pe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red_green_ok_not_ok_icons"/>
          <p:cNvPicPr/>
          <p:nvPr/>
        </p:nvPicPr>
        <p:blipFill>
          <a:blip r:embed="rId1"/>
          <a:stretch/>
        </p:blipFill>
        <p:spPr>
          <a:xfrm>
            <a:off x="2666880" y="18572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thumb_COLOURBOX3880681"/>
          <p:cNvPicPr/>
          <p:nvPr/>
        </p:nvPicPr>
        <p:blipFill>
          <a:blip r:embed="rId1"/>
          <a:stretch/>
        </p:blipFill>
        <p:spPr>
          <a:xfrm>
            <a:off x="304920" y="6858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thumb_COLOURBOX3880681"/>
          <p:cNvPicPr/>
          <p:nvPr/>
        </p:nvPicPr>
        <p:blipFill>
          <a:blip r:embed="rId2"/>
          <a:stretch/>
        </p:blipFill>
        <p:spPr>
          <a:xfrm>
            <a:off x="685800" y="35812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thumb_COLOURBOX3880681"/>
          <p:cNvPicPr/>
          <p:nvPr/>
        </p:nvPicPr>
        <p:blipFill>
          <a:blip r:embed="rId3"/>
          <a:stretch/>
        </p:blipFill>
        <p:spPr>
          <a:xfrm>
            <a:off x="3124080" y="35053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thumb_COLOURBOX3880681"/>
          <p:cNvPicPr/>
          <p:nvPr/>
        </p:nvPicPr>
        <p:blipFill>
          <a:blip r:embed="rId4"/>
          <a:stretch/>
        </p:blipFill>
        <p:spPr>
          <a:xfrm>
            <a:off x="5638680" y="3429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thumb_COLOURBOX3880681"/>
          <p:cNvPicPr/>
          <p:nvPr/>
        </p:nvPicPr>
        <p:blipFill>
          <a:blip r:embed="rId5"/>
          <a:stretch/>
        </p:blipFill>
        <p:spPr>
          <a:xfrm>
            <a:off x="5791320" y="3049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thumb_COLOURBOX3880681"/>
          <p:cNvPicPr/>
          <p:nvPr/>
        </p:nvPicPr>
        <p:blipFill>
          <a:blip r:embed="rId6"/>
          <a:stretch/>
        </p:blipFill>
        <p:spPr>
          <a:xfrm>
            <a:off x="3124080" y="380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380880" y="533520"/>
            <a:ext cx="769644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ff0000"/>
                    </a:gs>
                    <a:gs pos="100000">
                      <a:srgbClr val="99cc00"/>
                    </a:gs>
                  </a:gsLst>
                  <a:lin ang="27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ff0000"/>
                    </a:gs>
                    <a:gs pos="100000">
                      <a:srgbClr val="99cc00"/>
                    </a:gs>
                  </a:gsLst>
                  <a:lin ang="2700000"/>
                </a:gradFill>
                <a:latin typeface="Impact"/>
              </a:rPr>
              <a:t>___ _  ___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ff0000"/>
                  </a:gs>
                  <a:gs pos="100000">
                    <a:srgbClr val="99cc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276720" y="480060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Berlin Sans FB"/>
              </a:rPr>
              <a:t>Necesita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pizarra peq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ñ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Un rotul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ien euros (imaginari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c3i6j6thfver1m54abom5zh1u"/>
          <p:cNvPicPr/>
          <p:nvPr/>
        </p:nvPicPr>
        <p:blipFill>
          <a:blip r:embed="rId1"/>
          <a:stretch/>
        </p:blipFill>
        <p:spPr>
          <a:xfrm>
            <a:off x="5791320" y="4267080"/>
            <a:ext cx="3124080" cy="171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mini_whiteboard_image_from_theconsortium"/>
          <p:cNvPicPr/>
          <p:nvPr/>
        </p:nvPicPr>
        <p:blipFill>
          <a:blip r:embed="rId2"/>
          <a:stretch/>
        </p:blipFill>
        <p:spPr>
          <a:xfrm>
            <a:off x="228600" y="3733920"/>
            <a:ext cx="3124080" cy="245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ST-3087192"/>
          <p:cNvPicPr/>
          <p:nvPr/>
        </p:nvPicPr>
        <p:blipFill>
          <a:blip r:embed="rId3"/>
          <a:stretch/>
        </p:blipFill>
        <p:spPr>
          <a:xfrm>
            <a:off x="3124080" y="3429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ngo una regla blan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red_green_ok_not_ok_icons"/>
          <p:cNvPicPr/>
          <p:nvPr/>
        </p:nvPicPr>
        <p:blipFill>
          <a:blip r:embed="rId1"/>
          <a:stretch/>
        </p:blipFill>
        <p:spPr>
          <a:xfrm>
            <a:off x="2666880" y="18572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3D-villain-with-a-question-mark-high-quality-pictures-2-34592"/>
          <p:cNvPicPr/>
          <p:nvPr/>
        </p:nvPicPr>
        <p:blipFill>
          <a:blip r:embed="rId1"/>
          <a:stretch/>
        </p:blipFill>
        <p:spPr>
          <a:xfrm>
            <a:off x="5257800" y="167652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Berlin Sans FB"/>
              </a:rPr>
              <a:t>Instruccion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Lee la frase/la palabra que se ve en la pan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Decide si es correcta / incorre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Decide cuánto quieres apostar (€20 como máxi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Escribe tus decisiones en la pizarra peque</a:t>
            </a:r>
            <a:r>
              <a:rPr b="0" lang="es-ES" sz="2800" spc="-1" strike="noStrike">
                <a:solidFill>
                  <a:srgbClr val="000000"/>
                </a:solidFill>
                <a:latin typeface="Berlin Sans FB"/>
                <a:ea typeface="Arial"/>
              </a:rPr>
              <a:t>ñ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  <a:ea typeface="Arial"/>
              </a:rPr>
              <a:t>¡Muéstramel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heck-and-cross-marks-icon-pic"/>
          <p:cNvPicPr/>
          <p:nvPr/>
        </p:nvPicPr>
        <p:blipFill>
          <a:blip r:embed="rId2"/>
          <a:stretch/>
        </p:blipFill>
        <p:spPr>
          <a:xfrm>
            <a:off x="5791320" y="48769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erlin Sans FB"/>
              </a:rPr>
              <a:t>Si tienes razón ganarás do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umb_COLOURBOX3880681"/>
          <p:cNvPicPr/>
          <p:nvPr/>
        </p:nvPicPr>
        <p:blipFill>
          <a:blip r:embed="rId1"/>
          <a:stretch/>
        </p:blipFill>
        <p:spPr>
          <a:xfrm>
            <a:off x="4572000" y="18288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thumb_COLOURBOX3880681"/>
          <p:cNvPicPr/>
          <p:nvPr/>
        </p:nvPicPr>
        <p:blipFill>
          <a:blip r:embed="rId2"/>
          <a:stretch/>
        </p:blipFill>
        <p:spPr>
          <a:xfrm>
            <a:off x="1219320" y="18288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304920" y="5181480"/>
            <a:ext cx="8839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erlin Sans FB"/>
              </a:rPr>
              <a:t>Si no tienes razón perdrás la apues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Mi cumplea</a:t>
            </a:r>
            <a:r>
              <a:rPr b="0" lang="en-GB" sz="4400" spc="-1" strike="noStrike">
                <a:solidFill>
                  <a:srgbClr val="000000"/>
                </a:solidFill>
                <a:latin typeface="Berlin Sans FB"/>
                <a:ea typeface="Arial"/>
              </a:rPr>
              <a:t>ñ</a:t>
            </a: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os es el diez de e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erlin Sans FB"/>
              </a:rPr>
              <a:t>Mi cumplea</a:t>
            </a:r>
            <a:r>
              <a:rPr b="0" lang="en-GB" sz="4000" spc="-1" strike="noStrike">
                <a:solidFill>
                  <a:srgbClr val="000000"/>
                </a:solidFill>
                <a:latin typeface="Berlin Sans FB"/>
                <a:ea typeface="Arial"/>
              </a:rPr>
              <a:t>ños es el veintidos de marz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red_green_ok_not_ok_icons"/>
          <p:cNvPicPr/>
          <p:nvPr/>
        </p:nvPicPr>
        <p:blipFill>
          <a:blip r:embed="rId1"/>
          <a:stretch/>
        </p:blipFill>
        <p:spPr>
          <a:xfrm>
            <a:off x="2666880" y="18572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Me gusta el color amar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red_green_ok_not_ok_icons"/>
          <p:cNvPicPr/>
          <p:nvPr/>
        </p:nvPicPr>
        <p:blipFill>
          <a:blip r:embed="rId1"/>
          <a:stretch/>
        </p:blipFill>
        <p:spPr>
          <a:xfrm>
            <a:off x="2514600" y="18288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Tengo once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Me llammo Joh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red_green_ok_not_ok_icons"/>
          <p:cNvPicPr/>
          <p:nvPr/>
        </p:nvPicPr>
        <p:blipFill>
          <a:blip r:embed="rId1"/>
          <a:stretch/>
        </p:blipFill>
        <p:spPr>
          <a:xfrm>
            <a:off x="2666880" y="18572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re Seccombe</dc:creator>
  <dc:description/>
  <dc:language>en-US</dc:language>
  <cp:lastModifiedBy>Clare Seccombe</cp:lastModifiedBy>
  <dcterms:modified xsi:type="dcterms:W3CDTF">2014-06-20T11:38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