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explode.wav" ContentType="audio/x-wav"/>
  <Override PartName="/ppt/media/image7.png" ContentType="image/png"/>
  <Override PartName="/ppt/media/image8.png" ContentType="image/png"/>
  <Override PartName="/ppt/media/chimes.wav" ContentType="audio/x-wav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2426-C297-43F0-A132-4378E28A09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F6FD-49DB-4501-9C36-B0E6C6EA67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mist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F108-1B3A-49DD-84ED-1D0D151E4A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mist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E71F-C492-4038-B62A-2DF4C0D09D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dio not me o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BBE8-FB7C-42BE-8566-705B567B3F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mist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16F6-E113-4B1C-BA06-C294D1E98F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mist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7F94-6984-40C1-AA62-A0031DECD3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gro not neg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6BF0-2390-4342-B5DD-F1C727ED80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mist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4722-8FB5-4125-ABE4-A614D288AF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 in pezes should be a c – basic spelling rule when making nouns ending in z pl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DA52-8367-443A-953C-00802CAB06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st round. Bet all or nothing on the las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533A-4F6E-4AE4-A99B-8CFDA9F007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orrect adjectival agreement a no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out who has won the most and award a prize from the goodie b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BD21-E0D3-4263-91F5-AA179E423B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mist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4136-9C5A-4F51-B649-F76B9EFCEF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ent missing from veintidó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00A3-19A0-4D93-B559-338B24E5F2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lling mistake amari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84C0-1DE5-4825-B294-ECEE51D0A9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mist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80E5-B05C-45CE-95CD-FD084BC52B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lling mistake l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C87-ABC0-4FD0-827D-51945051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4449-4E8C-44C1-9841-474E335B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8CF-5DA8-44DC-85AB-DF95FDDC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B25-732D-4CEA-A0ED-E5EB726A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382-5ACA-46AC-90AF-2E740292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2B7-4EA9-4720-BF3E-575EC356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E09-98D2-41E0-808B-EF2B6084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8D4-8DA0-481C-8232-EDEEF4E6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F31-C0CE-4655-9017-2F582E0F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8BE-7294-4B98-8212-AEDCD44B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1BE-8CB7-4F5E-B630-8C097C3C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8773-A44A-41A6-8AD7-1598DDEF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6961-5BE9-4D92-804C-202D5CAB42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ightbulblanguages.co.uk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37203-euros-and-notes"/>
          <p:cNvPicPr/>
          <p:nvPr/>
        </p:nvPicPr>
        <p:blipFill>
          <a:blip r:embed="rId1"/>
          <a:stretch/>
        </p:blipFill>
        <p:spPr>
          <a:xfrm>
            <a:off x="1600200" y="2209680"/>
            <a:ext cx="6019920" cy="3389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erlin Sans FB"/>
                <a:ea typeface="Arial"/>
              </a:rPr>
              <a:t>¡¡</a:t>
            </a:r>
            <a:r>
              <a:rPr b="1" lang="en-GB" sz="6600" spc="-1" strike="noStrike">
                <a:solidFill>
                  <a:srgbClr val="000000"/>
                </a:solidFill>
                <a:latin typeface="Berlin Sans FB"/>
              </a:rPr>
              <a:t>Haz tus apuestas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304920" y="6618240"/>
            <a:ext cx="8839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Light Bulb Languages/JTidmarsh 2014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Es el veintitrés de mar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tick-clip-art_412230"/>
          <p:cNvPicPr/>
          <p:nvPr/>
        </p:nvPicPr>
        <p:blipFill>
          <a:blip r:embed="rId1"/>
          <a:stretch/>
        </p:blipFill>
        <p:spPr>
          <a:xfrm>
            <a:off x="2666880" y="2590920"/>
            <a:ext cx="38102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Tengo dos pája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tick-clip-art_412230"/>
          <p:cNvPicPr/>
          <p:nvPr/>
        </p:nvPicPr>
        <p:blipFill>
          <a:blip r:embed="rId1"/>
          <a:stretch/>
        </p:blipFill>
        <p:spPr>
          <a:xfrm>
            <a:off x="2666880" y="2590920"/>
            <a:ext cx="38102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Son las ocho menos cua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tick-clip-art_412230"/>
          <p:cNvPicPr/>
          <p:nvPr/>
        </p:nvPicPr>
        <p:blipFill>
          <a:blip r:embed="rId1"/>
          <a:stretch/>
        </p:blipFill>
        <p:spPr>
          <a:xfrm>
            <a:off x="2666880" y="2590920"/>
            <a:ext cx="38102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Me odio el color blan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red_green_ok_not_ok_icons"/>
          <p:cNvPicPr/>
          <p:nvPr/>
        </p:nvPicPr>
        <p:blipFill>
          <a:blip r:embed="rId1"/>
          <a:stretch/>
        </p:blipFill>
        <p:spPr>
          <a:xfrm>
            <a:off x="2666880" y="185724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dicie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tick-clip-art_412230"/>
          <p:cNvPicPr/>
          <p:nvPr/>
        </p:nvPicPr>
        <p:blipFill>
          <a:blip r:embed="rId1"/>
          <a:stretch/>
        </p:blipFill>
        <p:spPr>
          <a:xfrm>
            <a:off x="2666880" y="2590920"/>
            <a:ext cx="38102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¿Cómo está us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tick-clip-art_412230"/>
          <p:cNvPicPr/>
          <p:nvPr/>
        </p:nvPicPr>
        <p:blipFill>
          <a:blip r:embed="rId1"/>
          <a:stretch/>
        </p:blipFill>
        <p:spPr>
          <a:xfrm>
            <a:off x="2666880" y="2590920"/>
            <a:ext cx="38102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Tengo un gato neg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red_green_ok_not_ok_icons"/>
          <p:cNvPicPr/>
          <p:nvPr/>
        </p:nvPicPr>
        <p:blipFill>
          <a:blip r:embed="rId1"/>
          <a:stretch/>
        </p:blipFill>
        <p:spPr>
          <a:xfrm>
            <a:off x="2666880" y="185724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Tengo una tortuga mar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tick-clip-art_412230"/>
          <p:cNvPicPr/>
          <p:nvPr/>
        </p:nvPicPr>
        <p:blipFill>
          <a:blip r:embed="rId1"/>
          <a:stretch/>
        </p:blipFill>
        <p:spPr>
          <a:xfrm>
            <a:off x="2666880" y="2590920"/>
            <a:ext cx="38102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Tengo tres pe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red_green_ok_not_ok_icons"/>
          <p:cNvPicPr/>
          <p:nvPr/>
        </p:nvPicPr>
        <p:blipFill>
          <a:blip r:embed="rId1"/>
          <a:stretch/>
        </p:blipFill>
        <p:spPr>
          <a:xfrm>
            <a:off x="2666880" y="185724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thumb_COLOURBOX3880681"/>
          <p:cNvPicPr/>
          <p:nvPr/>
        </p:nvPicPr>
        <p:blipFill>
          <a:blip r:embed="rId1"/>
          <a:stretch/>
        </p:blipFill>
        <p:spPr>
          <a:xfrm>
            <a:off x="304920" y="68580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thumb_COLOURBOX3880681"/>
          <p:cNvPicPr/>
          <p:nvPr/>
        </p:nvPicPr>
        <p:blipFill>
          <a:blip r:embed="rId2"/>
          <a:stretch/>
        </p:blipFill>
        <p:spPr>
          <a:xfrm>
            <a:off x="685800" y="35812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thumb_COLOURBOX3880681"/>
          <p:cNvPicPr/>
          <p:nvPr/>
        </p:nvPicPr>
        <p:blipFill>
          <a:blip r:embed="rId3"/>
          <a:stretch/>
        </p:blipFill>
        <p:spPr>
          <a:xfrm>
            <a:off x="3124080" y="35053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thumb_COLOURBOX3880681"/>
          <p:cNvPicPr/>
          <p:nvPr/>
        </p:nvPicPr>
        <p:blipFill>
          <a:blip r:embed="rId4"/>
          <a:stretch/>
        </p:blipFill>
        <p:spPr>
          <a:xfrm>
            <a:off x="5638680" y="34290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thumb_COLOURBOX3880681"/>
          <p:cNvPicPr/>
          <p:nvPr/>
        </p:nvPicPr>
        <p:blipFill>
          <a:blip r:embed="rId5"/>
          <a:stretch/>
        </p:blipFill>
        <p:spPr>
          <a:xfrm>
            <a:off x="5791320" y="30492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thumb_COLOURBOX3880681"/>
          <p:cNvPicPr/>
          <p:nvPr/>
        </p:nvPicPr>
        <p:blipFill>
          <a:blip r:embed="rId6"/>
          <a:stretch/>
        </p:blipFill>
        <p:spPr>
          <a:xfrm>
            <a:off x="3124080" y="380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98" name="WordArt 4"/>
          <p:cNvSpPr txBox="1"/>
          <p:nvPr/>
        </p:nvSpPr>
        <p:spPr>
          <a:xfrm>
            <a:off x="380880" y="533520"/>
            <a:ext cx="769644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ff0000"/>
                    </a:gs>
                    <a:gs pos="100000">
                      <a:srgbClr val="99cc00"/>
                    </a:gs>
                  </a:gsLst>
                  <a:lin ang="27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ff0000"/>
                    </a:gs>
                    <a:gs pos="100000">
                      <a:srgbClr val="99cc00"/>
                    </a:gs>
                  </a:gsLst>
                  <a:lin ang="2700000"/>
                </a:gradFill>
                <a:latin typeface="Impact"/>
              </a:rPr>
              <a:t>___ _  ___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ff0000"/>
                  </a:gs>
                  <a:gs pos="100000">
                    <a:srgbClr val="99cc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276720" y="480060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Berlin Sans FB"/>
              </a:rPr>
              <a:t>Necesita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a pizarra peq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ñ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Un rotul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ien euros (imaginari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c3i6j6thfver1m54abom5zh1u"/>
          <p:cNvPicPr/>
          <p:nvPr/>
        </p:nvPicPr>
        <p:blipFill>
          <a:blip r:embed="rId1"/>
          <a:stretch/>
        </p:blipFill>
        <p:spPr>
          <a:xfrm>
            <a:off x="5791320" y="4267080"/>
            <a:ext cx="3124080" cy="1711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mini_whiteboard_image_from_theconsortium"/>
          <p:cNvPicPr/>
          <p:nvPr/>
        </p:nvPicPr>
        <p:blipFill>
          <a:blip r:embed="rId2"/>
          <a:stretch/>
        </p:blipFill>
        <p:spPr>
          <a:xfrm>
            <a:off x="228600" y="3733920"/>
            <a:ext cx="3124080" cy="245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ST-3087192"/>
          <p:cNvPicPr/>
          <p:nvPr/>
        </p:nvPicPr>
        <p:blipFill>
          <a:blip r:embed="rId3"/>
          <a:stretch/>
        </p:blipFill>
        <p:spPr>
          <a:xfrm>
            <a:off x="3124080" y="34290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ngo una regla blan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red_green_ok_not_ok_icons"/>
          <p:cNvPicPr/>
          <p:nvPr/>
        </p:nvPicPr>
        <p:blipFill>
          <a:blip r:embed="rId1"/>
          <a:stretch/>
        </p:blipFill>
        <p:spPr>
          <a:xfrm>
            <a:off x="2666880" y="185724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3D-villain-with-a-question-mark-high-quality-pictures-2-34592"/>
          <p:cNvPicPr/>
          <p:nvPr/>
        </p:nvPicPr>
        <p:blipFill>
          <a:blip r:embed="rId1"/>
          <a:stretch/>
        </p:blipFill>
        <p:spPr>
          <a:xfrm>
            <a:off x="5257800" y="167652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Berlin Sans FB"/>
              </a:rPr>
              <a:t>Instruccion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</a:rPr>
              <a:t>Lee la frase/la palabra que se ve en la pan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</a:rPr>
              <a:t>Decide si es correcta / incorre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</a:rPr>
              <a:t>Decide cuánto quieres apostar (€20 como máxi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</a:rPr>
              <a:t>Escribe tus decisiones en la pizarra peque</a:t>
            </a:r>
            <a:r>
              <a:rPr b="0" lang="es-ES" sz="2800" spc="-1" strike="noStrike">
                <a:solidFill>
                  <a:srgbClr val="000000"/>
                </a:solidFill>
                <a:latin typeface="Berlin Sans FB"/>
                <a:ea typeface="Arial"/>
              </a:rPr>
              <a:t>ñ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  <a:ea typeface="Arial"/>
              </a:rPr>
              <a:t>¡Muéstramel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check-and-cross-marks-icon-pic"/>
          <p:cNvPicPr/>
          <p:nvPr/>
        </p:nvPicPr>
        <p:blipFill>
          <a:blip r:embed="rId2"/>
          <a:stretch/>
        </p:blipFill>
        <p:spPr>
          <a:xfrm>
            <a:off x="5791320" y="48769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erlin Sans FB"/>
              </a:rPr>
              <a:t>Si tienes razón ganarás do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thumb_COLOURBOX3880681"/>
          <p:cNvPicPr/>
          <p:nvPr/>
        </p:nvPicPr>
        <p:blipFill>
          <a:blip r:embed="rId1"/>
          <a:stretch/>
        </p:blipFill>
        <p:spPr>
          <a:xfrm>
            <a:off x="4572000" y="18288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thumb_COLOURBOX3880681"/>
          <p:cNvPicPr/>
          <p:nvPr/>
        </p:nvPicPr>
        <p:blipFill>
          <a:blip r:embed="rId2"/>
          <a:stretch/>
        </p:blipFill>
        <p:spPr>
          <a:xfrm>
            <a:off x="1219320" y="18288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304920" y="5181480"/>
            <a:ext cx="8839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erlin Sans FB"/>
              </a:rPr>
              <a:t>Si no tienes razón perdrás la apues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Mi cumplea</a:t>
            </a:r>
            <a:r>
              <a:rPr b="0" lang="en-GB" sz="4400" spc="-1" strike="noStrike">
                <a:solidFill>
                  <a:srgbClr val="000000"/>
                </a:solidFill>
                <a:latin typeface="Berlin Sans FB"/>
                <a:ea typeface="Arial"/>
              </a:rPr>
              <a:t>ñ</a:t>
            </a: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os es el diez de en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tick-clip-art_412230"/>
          <p:cNvPicPr/>
          <p:nvPr/>
        </p:nvPicPr>
        <p:blipFill>
          <a:blip r:embed="rId1"/>
          <a:stretch/>
        </p:blipFill>
        <p:spPr>
          <a:xfrm>
            <a:off x="2666880" y="2590920"/>
            <a:ext cx="38102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erlin Sans FB"/>
              </a:rPr>
              <a:t>Mi cumplea</a:t>
            </a:r>
            <a:r>
              <a:rPr b="0" lang="en-GB" sz="4000" spc="-1" strike="noStrike">
                <a:solidFill>
                  <a:srgbClr val="000000"/>
                </a:solidFill>
                <a:latin typeface="Berlin Sans FB"/>
                <a:ea typeface="Arial"/>
              </a:rPr>
              <a:t>ños es el veintidos de marz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red_green_ok_not_ok_icons"/>
          <p:cNvPicPr/>
          <p:nvPr/>
        </p:nvPicPr>
        <p:blipFill>
          <a:blip r:embed="rId1"/>
          <a:stretch/>
        </p:blipFill>
        <p:spPr>
          <a:xfrm>
            <a:off x="2666880" y="185724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Me gusta el color amari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red_green_ok_not_ok_icons"/>
          <p:cNvPicPr/>
          <p:nvPr/>
        </p:nvPicPr>
        <p:blipFill>
          <a:blip r:embed="rId1"/>
          <a:stretch/>
        </p:blipFill>
        <p:spPr>
          <a:xfrm>
            <a:off x="2514600" y="18288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Tengo once 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tick-clip-art_412230"/>
          <p:cNvPicPr/>
          <p:nvPr/>
        </p:nvPicPr>
        <p:blipFill>
          <a:blip r:embed="rId1"/>
          <a:stretch/>
        </p:blipFill>
        <p:spPr>
          <a:xfrm>
            <a:off x="2666880" y="2590920"/>
            <a:ext cx="38102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Me llammo Joh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red_green_ok_not_ok_icons"/>
          <p:cNvPicPr/>
          <p:nvPr/>
        </p:nvPicPr>
        <p:blipFill>
          <a:blip r:embed="rId1"/>
          <a:stretch/>
        </p:blipFill>
        <p:spPr>
          <a:xfrm>
            <a:off x="2666880" y="185724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re Seccombe</dc:creator>
  <dc:description/>
  <dc:language>en-US</dc:language>
  <cp:lastModifiedBy>Clare Seccombe</cp:lastModifiedBy>
  <dcterms:modified xsi:type="dcterms:W3CDTF">2014-06-20T11:38:0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