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0D0-5C43-4D15-8BFE-908AA19549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BDC-372F-4E67-90D6-E790B856BA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315-2CB9-447C-9520-246B29F9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717-731A-4505-B695-0AA1384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724-2001-453A-9BAA-9D2EDBF0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81B-2F15-42F0-9542-B3F524E7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D18-4CD1-4B46-919C-EFB22083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CC4-9314-48AB-B373-F0BC09D5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82A-DD2E-414E-AF88-D472AC2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8629-126A-48C0-9258-DB37F61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E290-8F24-482F-A72A-22226CA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CE3E-3940-4F55-9053-F589510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4EA3-A609-4FF9-A1B7-0BD13EB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275-9481-4EA1-8BB7-5CC69A7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2F9E-DF8C-4EBB-A474-9EE8B1B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8E4F-B81E-4381-9F29-FC4988B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C9E-29AE-45BE-AC7A-98518E2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7BD-009B-4465-8615-297A71F4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1B7-0168-4701-A3F2-562488D1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F0EF-A4EA-4F5D-B464-A7A630D0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7A3E-2C79-4C8F-8C0C-03F1DA11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534D-4B52-4A6D-B66E-822B6E9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6A9D-2785-471A-A88E-E3C81B04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8EB4-E170-434A-A327-5BD4FA8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91B-A976-4C28-9147-0B45CA0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D44C-B203-498A-9D0A-66BDA173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241E-A176-4C56-8017-6625766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9FC1-5883-440B-8C81-0BBC0D5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4AC8-6E1C-4129-86F7-F02443D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8FD0-802B-4ADE-A401-8B170295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D729-B3C7-4A4F-8290-2D0CA98B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1507-6B44-42E1-9A8D-AE00AABD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429-0F19-4483-ADB8-2609E3A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5F7-609C-4DC8-BAB2-A83CC71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3F1-44C8-4C0A-887D-B86924C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AD9-F7A8-4F12-AFC5-29464FC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D3A-13B7-4514-8951-81B51D5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6F3-4667-4EA9-A326-B96A8A2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A077-6BB2-4E81-9186-3E035F1955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9FA-A0AC-420C-A903-AC3AD7AC2E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2EF-7184-4AC7-A9A2-1E76320099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55592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44280"/>
          <a:ext cx="8785440" cy="64090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60920" y="4869000"/>
            <a:ext cx="1611360" cy="144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79640" y="549360"/>
            <a:ext cx="1627200" cy="122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050920" y="2671920"/>
            <a:ext cx="1484280" cy="16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3708360" y="2852640"/>
            <a:ext cx="1690560" cy="12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5"/>
          <a:stretch/>
        </p:blipFill>
        <p:spPr>
          <a:xfrm>
            <a:off x="2097000" y="4800600"/>
            <a:ext cx="1446480" cy="150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3719520" y="601560"/>
            <a:ext cx="1676520" cy="125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5560920" y="2643120"/>
            <a:ext cx="1455840" cy="159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8"/>
          <a:stretch/>
        </p:blipFill>
        <p:spPr>
          <a:xfrm>
            <a:off x="7535880" y="210960"/>
            <a:ext cx="1212840" cy="192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9"/>
          <a:stretch/>
        </p:blipFill>
        <p:spPr>
          <a:xfrm>
            <a:off x="3780000" y="4737240"/>
            <a:ext cx="1555560" cy="151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10"/>
          <a:stretch/>
        </p:blipFill>
        <p:spPr>
          <a:xfrm>
            <a:off x="220680" y="4824360"/>
            <a:ext cx="161460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11"/>
          <a:stretch/>
        </p:blipFill>
        <p:spPr>
          <a:xfrm>
            <a:off x="250920" y="549360"/>
            <a:ext cx="1569960" cy="1434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12"/>
          <a:stretch/>
        </p:blipFill>
        <p:spPr>
          <a:xfrm>
            <a:off x="7269120" y="2738520"/>
            <a:ext cx="1663920" cy="125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13"/>
          <a:stretch/>
        </p:blipFill>
        <p:spPr>
          <a:xfrm>
            <a:off x="5508720" y="601560"/>
            <a:ext cx="1601640" cy="86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"/>
          <p:cNvPicPr/>
          <p:nvPr/>
        </p:nvPicPr>
        <p:blipFill>
          <a:blip r:embed="rId14"/>
          <a:stretch/>
        </p:blipFill>
        <p:spPr>
          <a:xfrm>
            <a:off x="318960" y="2625840"/>
            <a:ext cx="1501920" cy="1592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2"/>
          <p:cNvSpPr/>
          <p:nvPr/>
        </p:nvSpPr>
        <p:spPr>
          <a:xfrm>
            <a:off x="65120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4902120" y="441468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657072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3146400" y="44146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48308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303048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4"/>
          <p:cNvSpPr/>
          <p:nvPr/>
        </p:nvSpPr>
        <p:spPr>
          <a:xfrm>
            <a:off x="6589800" y="447372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3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3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7"/>
          <p:cNvSpPr/>
          <p:nvPr/>
        </p:nvSpPr>
        <p:spPr>
          <a:xfrm>
            <a:off x="4557600" y="1634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3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40"/>
          <p:cNvSpPr/>
          <p:nvPr/>
        </p:nvSpPr>
        <p:spPr>
          <a:xfrm>
            <a:off x="2754360" y="2349360"/>
            <a:ext cx="7952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1"/>
          <p:cNvSpPr/>
          <p:nvPr/>
        </p:nvSpPr>
        <p:spPr>
          <a:xfrm>
            <a:off x="1031760" y="163440"/>
            <a:ext cx="7956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2"/>
          <p:cNvSpPr/>
          <p:nvPr/>
        </p:nvSpPr>
        <p:spPr>
          <a:xfrm>
            <a:off x="1017720" y="234936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02T09:48:51Z</dcterms:modified>
  <cp:revision>291</cp:revision>
  <dc:subject/>
  <dc:title>TITLE</dc:title>
</cp:coreProperties>
</file>