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1873-05A7-45CD-A9FA-1DDFD55301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8DB7-AAF8-4F5D-951A-4E85D12C05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345-56B0-40B7-86E3-0932C8D4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F3FA-6511-4C08-8E52-101BDF54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A928-9F22-4503-9CC0-EE12FE38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ADB-6BD6-4AC7-9D2D-77747221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B6D2-4DB9-46C0-9AEB-42AFDBDE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E1AA-4ED9-4BF8-AB45-A82893C5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5F7E-A8F1-41BD-8838-E659026E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DEC8-525F-4AA2-B8D9-B4C0F3F2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2955-8658-4F3A-B3D3-1B186B53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5565-2A87-45C5-8483-118D1AF4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58A4-A82C-40D2-89CD-028B1E7A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4FB-508C-4CB2-BDCB-814CFE2A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55E1-B9BD-46A7-961A-B8FFB57F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CB5F-5FCB-4B1A-9E1D-C23B07CF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8C32-D339-41CE-B79A-F97E88B0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8A1F-6FE7-486D-9742-DA326096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D293-92F9-4167-9874-9D36829A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1DF77-FCDC-4D80-A3A1-6CF7FB25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14552-A2B8-4DF4-9C14-397CF631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BD31E-F22E-4B3E-AB79-32865617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AB958-9E3C-4060-86E7-0E863EFA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3588B-CD12-427D-B83E-0D05531E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72C5-409B-4C0D-AE4C-E957F38C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4839E-3902-434F-8A8C-091F4FEF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F8014-79B1-439A-B1F5-40F153F3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4BE4A-2DE0-4EDE-91AD-4C8C8189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2F17D-E15E-4614-AAF3-BF21DB13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55BAF-9DFC-4148-8C82-D409D1A4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57A4F-2938-4420-84B0-EC93CB53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ECB69-84AC-4D99-950F-89FDF63F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F99-170C-4F2B-985B-79FA42FB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153E-70EE-4501-8EDA-80819F53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900-48AE-4D9F-A4BF-C5A563C6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1B6-E318-472C-A1EB-639FFB29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633D-5A5D-4DB6-9589-E1CEFAC4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342-E2EF-4F08-A18D-508232A1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0EDC-2609-4259-B945-30CDD030F5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7B34-6FD1-461E-892B-B1365022F2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CF36-DE6F-4247-BB3E-ECB9A112DF8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8101080" y="6553080"/>
            <a:ext cx="1042920" cy="2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979640" y="1555920"/>
            <a:ext cx="716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9280" y="44280"/>
          <a:ext cx="8785440" cy="640908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none of thes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60920" y="4869000"/>
            <a:ext cx="1611360" cy="1441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1979640" y="549360"/>
            <a:ext cx="1627200" cy="1224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2050920" y="2671920"/>
            <a:ext cx="1484280" cy="1620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4"/>
          <a:stretch/>
        </p:blipFill>
        <p:spPr>
          <a:xfrm>
            <a:off x="3708360" y="2852640"/>
            <a:ext cx="1690560" cy="1289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5"/>
          <a:stretch/>
        </p:blipFill>
        <p:spPr>
          <a:xfrm>
            <a:off x="2097000" y="4800600"/>
            <a:ext cx="1446480" cy="1508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6"/>
          <a:stretch/>
        </p:blipFill>
        <p:spPr>
          <a:xfrm>
            <a:off x="3719520" y="601560"/>
            <a:ext cx="1676520" cy="1258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5560920" y="2643120"/>
            <a:ext cx="1455840" cy="1594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8"/>
          <a:stretch/>
        </p:blipFill>
        <p:spPr>
          <a:xfrm>
            <a:off x="7535880" y="210960"/>
            <a:ext cx="1212840" cy="1928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"/>
          <p:cNvPicPr/>
          <p:nvPr/>
        </p:nvPicPr>
        <p:blipFill>
          <a:blip r:embed="rId9"/>
          <a:stretch/>
        </p:blipFill>
        <p:spPr>
          <a:xfrm>
            <a:off x="3780000" y="4737240"/>
            <a:ext cx="1555560" cy="1512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"/>
          <p:cNvPicPr/>
          <p:nvPr/>
        </p:nvPicPr>
        <p:blipFill>
          <a:blip r:embed="rId10"/>
          <a:stretch/>
        </p:blipFill>
        <p:spPr>
          <a:xfrm>
            <a:off x="220680" y="4824360"/>
            <a:ext cx="1614600" cy="1413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11"/>
          <a:stretch/>
        </p:blipFill>
        <p:spPr>
          <a:xfrm>
            <a:off x="250920" y="549360"/>
            <a:ext cx="1569960" cy="1434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"/>
          <p:cNvPicPr/>
          <p:nvPr/>
        </p:nvPicPr>
        <p:blipFill>
          <a:blip r:embed="rId12"/>
          <a:stretch/>
        </p:blipFill>
        <p:spPr>
          <a:xfrm>
            <a:off x="7269120" y="2738520"/>
            <a:ext cx="1663920" cy="1251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"/>
          <p:cNvPicPr/>
          <p:nvPr/>
        </p:nvPicPr>
        <p:blipFill>
          <a:blip r:embed="rId13"/>
          <a:stretch/>
        </p:blipFill>
        <p:spPr>
          <a:xfrm>
            <a:off x="5508720" y="601560"/>
            <a:ext cx="1601640" cy="868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0" descr=""/>
          <p:cNvPicPr/>
          <p:nvPr/>
        </p:nvPicPr>
        <p:blipFill>
          <a:blip r:embed="rId14"/>
          <a:stretch/>
        </p:blipFill>
        <p:spPr>
          <a:xfrm>
            <a:off x="318960" y="2625840"/>
            <a:ext cx="1501920" cy="15922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2"/>
          <p:cNvSpPr/>
          <p:nvPr/>
        </p:nvSpPr>
        <p:spPr>
          <a:xfrm>
            <a:off x="6512040" y="234936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4902120" y="4414680"/>
            <a:ext cx="5050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Box 30"/>
          <p:cNvSpPr/>
          <p:nvPr/>
        </p:nvSpPr>
        <p:spPr>
          <a:xfrm>
            <a:off x="6570720" y="16344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31"/>
          <p:cNvSpPr/>
          <p:nvPr/>
        </p:nvSpPr>
        <p:spPr>
          <a:xfrm>
            <a:off x="3146400" y="441468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32"/>
          <p:cNvSpPr/>
          <p:nvPr/>
        </p:nvSpPr>
        <p:spPr>
          <a:xfrm>
            <a:off x="4830840" y="234936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33"/>
          <p:cNvSpPr/>
          <p:nvPr/>
        </p:nvSpPr>
        <p:spPr>
          <a:xfrm>
            <a:off x="3030480" y="16344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34"/>
          <p:cNvSpPr/>
          <p:nvPr/>
        </p:nvSpPr>
        <p:spPr>
          <a:xfrm>
            <a:off x="6589800" y="447372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35"/>
          <p:cNvSpPr/>
          <p:nvPr/>
        </p:nvSpPr>
        <p:spPr>
          <a:xfrm>
            <a:off x="8282160" y="2349360"/>
            <a:ext cx="5029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36"/>
          <p:cNvSpPr/>
          <p:nvPr/>
        </p:nvSpPr>
        <p:spPr>
          <a:xfrm>
            <a:off x="1353960" y="441468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37"/>
          <p:cNvSpPr/>
          <p:nvPr/>
        </p:nvSpPr>
        <p:spPr>
          <a:xfrm>
            <a:off x="4557600" y="163440"/>
            <a:ext cx="79704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38"/>
          <p:cNvSpPr/>
          <p:nvPr/>
        </p:nvSpPr>
        <p:spPr>
          <a:xfrm>
            <a:off x="8101080" y="163440"/>
            <a:ext cx="79668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39"/>
          <p:cNvSpPr/>
          <p:nvPr/>
        </p:nvSpPr>
        <p:spPr>
          <a:xfrm>
            <a:off x="8097840" y="4414680"/>
            <a:ext cx="79704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40"/>
          <p:cNvSpPr/>
          <p:nvPr/>
        </p:nvSpPr>
        <p:spPr>
          <a:xfrm>
            <a:off x="2754360" y="2349360"/>
            <a:ext cx="79524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41"/>
          <p:cNvSpPr/>
          <p:nvPr/>
        </p:nvSpPr>
        <p:spPr>
          <a:xfrm>
            <a:off x="1031760" y="163440"/>
            <a:ext cx="79560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42"/>
          <p:cNvSpPr/>
          <p:nvPr/>
        </p:nvSpPr>
        <p:spPr>
          <a:xfrm>
            <a:off x="1017720" y="2349360"/>
            <a:ext cx="79668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9-12-02T09:48:51Z</dcterms:modified>
  <cp:revision>291</cp:revision>
  <dc:subject/>
  <dc:title>TITLE</dc:title>
</cp:coreProperties>
</file>