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8246-8F77-49EF-BA0E-D527C688C7F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02DE-B7E6-4BCE-9DFB-B0B99C8296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ad through with children, looking for cognates, and listening for rhyming word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ress B on laptop.  Read again, without showing text. Ch put hands up when they think they hear the name of a planet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Learn names using flashcard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Flashcard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Introduce with funny voices, microphone etc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Mexican wave; lip rea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Mime the planets – guess what Stephen and Chris di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I say, they mim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They mime, I say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I mime, they say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They say, I mim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In groups/pairs they mime for each other, partner names plane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Splat gam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Match names to flashcard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Guess the flashcar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how written word cards and ask if they can match to pictur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Clap syllables – which planet is it?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Talk bal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Which one’s missing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C78-3E2B-44E7-B165-1BB50DF0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450-A11C-4CAE-947C-E8A9B100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3A27-C02B-480F-9285-95D7E92C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1D69-C0A3-41CE-9AF7-114A6F05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6F45-EC3F-42EC-8DCA-3E956D20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48CC-9119-4873-9354-D1574104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8DB6-B538-4A17-9F15-9722F11E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D696-D0E3-4E54-A718-7D950F9A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807B-5ED8-4988-871E-02E6D668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C912-BDC8-491D-8665-E0A7E714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7B60-11DB-4D61-B43B-2AA64BD9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A02-6892-41BB-8899-C45A09BF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85AB-68A7-4EE4-84FA-7E2DFD3D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FE74-D8C6-4C33-9D52-AD3CD45D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3C22-4AB0-4ECB-8D09-6BFEC282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51BF-0999-44C4-8315-D9941033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5C33-B06B-4B9B-A0E3-3046CC02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6F872-AC20-4024-9B6E-539FF91D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597BE-D18E-4149-853C-90D2B6B5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80572-C4C7-4508-8969-67BB137C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83063-D75A-4932-92EF-848AF1D4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36C89-AA43-4393-8D04-DF2A2C72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ADF0-FDF9-42BD-8CB5-6883F0E9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1D67D-026B-4F54-9B5F-19019DAC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566FE-FDE6-400B-8F2A-56785625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051D2-F612-440C-BF69-E11AB425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8F5F0-9BF5-44A8-8C4E-BE8F642F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796EE-00A8-48F9-8F74-956B0FAD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C461D-DE6D-42F2-A550-DC6407B8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5B271-A045-4566-896C-0ABC5EDB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746-CF68-43B8-8E60-271946A0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390B-6DC5-457E-BE33-F09BD3D2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542-363E-400A-BED6-10C3B31C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305-AEC8-4F11-9475-AA1EC41D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35C-41F9-4382-A8DF-93D70BD7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188-E977-4645-BD1F-459846D3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83D7-4F50-408E-9C09-966C3057DF4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4ECA-EC07-449F-B481-798B59F4DB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FFA6-ADB7-4107-A3E7-0DBF2116181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Los Plan</a:t>
            </a:r>
            <a:r>
              <a:rPr b="0" lang="fr-FR" sz="4400" spc="-1" strike="noStrike">
                <a:solidFill>
                  <a:srgbClr val="ffff00"/>
                </a:solidFill>
                <a:latin typeface="Comic Sans MS"/>
              </a:rPr>
              <a:t>e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500720" y="1916280"/>
            <a:ext cx="316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79280" y="723960"/>
            <a:ext cx="896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7"/>
                </a:solidFill>
                <a:latin typeface="Comic Sans MS"/>
              </a:rPr>
              <a:t>Los Planetas del Sistema Solar</a:t>
            </a:r>
            <a:br>
              <a:rPr sz="3600"/>
            </a:br>
            <a:r>
              <a:rPr b="0" lang="fr-FR" sz="3600" spc="-1" strike="noStrike">
                <a:solidFill>
                  <a:srgbClr val="fffff7"/>
                </a:solidFill>
                <a:latin typeface="Comic Sans MS"/>
              </a:rPr>
              <a:t>por el espacio salen a pase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7"/>
                </a:solidFill>
                <a:latin typeface="Comic Sans MS"/>
              </a:rPr>
              <a:t>Mercurio y Venus tan cerca del Sol</a:t>
            </a:r>
            <a:br>
              <a:rPr sz="3600"/>
            </a:br>
            <a:r>
              <a:rPr b="0" lang="fr-FR" sz="3600" spc="-1" strike="noStrike">
                <a:solidFill>
                  <a:srgbClr val="fffff7"/>
                </a:solidFill>
                <a:latin typeface="Comic Sans MS"/>
              </a:rPr>
              <a:t>no pueden vivir de tanto calo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7"/>
                </a:solidFill>
                <a:latin typeface="Comic Sans MS"/>
              </a:rPr>
              <a:t>Marte es más pequeño, Júpiter gigante,</a:t>
            </a:r>
            <a:br>
              <a:rPr sz="3600"/>
            </a:br>
            <a:r>
              <a:rPr b="0" lang="fr-FR" sz="3600" spc="-1" strike="noStrike">
                <a:solidFill>
                  <a:srgbClr val="fffff7"/>
                </a:solidFill>
                <a:latin typeface="Comic Sans MS"/>
              </a:rPr>
              <a:t>Saturno tiene anillos y es muy elegant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7"/>
                </a:solidFill>
                <a:latin typeface="Comic Sans MS"/>
              </a:rPr>
              <a:t>Después van Urano, Neptuno y Plutón,</a:t>
            </a:r>
            <a:br>
              <a:rPr sz="3600"/>
            </a:br>
            <a:r>
              <a:rPr b="0" lang="fr-FR" sz="3600" spc="-1" strike="noStrike">
                <a:solidFill>
                  <a:srgbClr val="fffff7"/>
                </a:solidFill>
                <a:latin typeface="Comic Sans MS"/>
              </a:rPr>
              <a:t>que dejó de ser planeta en esta canció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36:30Z</dcterms:modified>
  <cp:revision>335</cp:revision>
  <dc:subject/>
  <dc:title>TITLE</dc:title>
</cp:coreProperties>
</file>