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483-4FB4-46FF-8251-494A07336C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B0E-BC05-48A7-9E88-B1769A2BF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ad through with children, looking for cognates, and listening for rhyming wo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ress B on laptop.  Read again, without showing text. Ch put hands up when they think they hear the name of a planet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earn names using flashc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lashc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ntroduce with funny voices, microphone et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exican wave; lip rea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ime the planets – guess what Stephen and Chris di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 say, they mi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hey mime, I sa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 mime, they sa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hey say, I mi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n groups/pairs they mime for each other, partner names pla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Splat ga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atch names to flashc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uess the flashcar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how written word cards and ask if they can match to pictur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lap syllables – which planet is it?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alk bal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Which one’s missing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572-29D8-4B56-99F0-10992694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BF6-333A-4964-9570-471F7B9E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B0C-8D68-42EF-BDBA-73546866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B07-32C9-4432-90E7-63E3DFAF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ABA0-9D19-4F16-B1E0-5DF4D7EA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2FE-A4CE-4010-ABEE-370CD925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A33D-2860-4BB2-B251-8B0F39A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909F-FA0D-4013-BB84-B4F7FEAC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4114-8880-4206-8F7D-16636C48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35F2-B662-4137-B9A1-6B393D5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4D91-F049-45D4-9B5C-171F27C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94D-176A-4A5D-8B54-05048997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C919-1AFA-462D-8D53-C72DB8C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88C9-9C60-497E-8A7B-F69F804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DF14-452A-42BB-BB29-441F43B6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C694-EEEE-4CEE-A97F-E252CBD9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6D7-1715-4262-A41D-ECCEDB7D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26F9-2992-4925-8E42-00C4E2F0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E899-DD40-4A77-AC59-F2E3805B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B432-61F2-445B-9ECD-1989FA5F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328A-0BDF-4FEF-A47D-75F4A178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B0B3-6BA3-4DD1-BF06-6B309AE7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5BC-33BC-4DFF-A19B-86122A7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020D-64D9-49FD-9AED-8030AA9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C7AE-6E7B-4375-9D54-EC327746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665C-32E7-48E4-8E58-3348DAD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1261-8381-4019-9959-0CFF8E5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0300-CA24-40F4-848A-6241279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3E66-43CE-4CF9-ADDB-ACD67820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8028-1B03-4B4E-93FD-4187ECB4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110-47D2-45E8-92D6-E900D09B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14B-1A79-4EFF-8755-5402BE00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522-5BDE-41E7-8388-098B31A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F75-0D62-485E-94CA-17E69A8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8C4-42C3-4BD9-AFC2-68CEEAB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A3F-2CA9-4714-9110-732BDDF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1495-3177-4507-88AA-EB7F60DE9B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1994-6567-4358-BC74-8C5A1CC5C0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80C4-8D8F-4FB7-863D-4460B9F49EE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Los Plan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00720" y="191628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79280" y="72396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Los Planetas del Sistema Solar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por el espacio salen a pas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Mercurio y Venus tan cerca del Sol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no pueden vivir de tanto calo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Marte es más pequeño, Júpiter gigante,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Saturno tiene anillos y es muy elegant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Después van Urano, Neptuno y Plutón,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que dejó de ser planeta en esta can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6:30Z</dcterms:modified>
  <cp:revision>335</cp:revision>
  <dc:subject/>
  <dc:title>TITLE</dc:title>
</cp:coreProperties>
</file>