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998-269D-42F6-AA32-6C6EA4D0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9C1-135D-4581-A87F-EC847957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58D-A6C6-4CE7-A8B7-294E3DF5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C8B-3D50-446B-8274-F3699A6B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2154-34B1-4973-A27F-EF375C19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871D-B5D2-4F3E-8668-878DAF40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1E05-3EF8-4CF8-A6ED-E00F3BB6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4904-9847-4020-AA89-489531ED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83D4-E332-473A-A614-C9A9A1E1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5881-6B97-4C53-8E7E-4762447E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EAF5-924C-49D7-B53A-95D5C3A5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344-B03B-4201-B710-E6A81128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E719-A885-4836-B0EA-A8EFD229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1CAA-6ECF-4831-9FA0-17C2EFF2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1C91-F132-403B-9736-98F5DAFE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2830-181A-484C-BE90-B109C6F0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15AB-EC56-4F34-B4A9-2E93EC94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68A2B-E502-4D69-BB13-F7612094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16D9A-7027-468C-9F89-081DE15C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48BF7-8FBB-4B49-AC74-7CCF172E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260B4-56A2-4ED1-9322-3DCECCD0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BA96B-EA60-4408-992C-F79AF4EA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00A-F53F-422D-A70B-9AAAF4A1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7802F-4DF1-4DA1-AC29-44B643FC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4E1D9-ADDB-4FEB-9C81-6224D8E2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B3ED-81B4-44AE-9002-A12D6D89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67DD3-7697-4AD9-BC0D-6D730AF4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C469F-1D02-4585-AD24-52E666A7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9799-CECF-4414-87E6-4D331F99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52479-80A3-4A94-8589-D6A29105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898-B5C8-44F0-B560-A74FD44D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092-1554-4630-AB4F-D0FC1480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AEF-7861-4522-8978-FB7FE023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C3C-4985-474E-B502-94D7A633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43F-F0C0-422B-BD63-A349775F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10A-206E-44A7-8305-ACFD9DEF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341A-D139-4D4D-978C-B5C22EA4AE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4731-4AEB-4B4F-86E0-13E7B9F7CA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8FA7-AE9D-4BE1-BE4B-364AB7CBC21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zamandayolculuk.com/Cetinbal/AE/A-planet-mercury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iochem.szote.u-szeged.hu/astrojan/plutanb.gif&amp;imgrefurl=http://www.biochem.szote.u-szeged.hu/astrojan/plutani.htm&amp;h=275&amp;w=275&amp;sz=284&amp;hl=en&amp;start=49&amp;tbnid=Dgx0HNskn7g_jM:&amp;tbnh=114&amp;tbnw=114&amp;prev=/images?q=the+planet+pluton&amp;start=40&amp;gbv=2&amp;ndsp=20&amp;svnum=10&amp;hl=en&amp;safe=active&amp;sa=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uk/imgres?imgurl=http://whyfiles.org/coolimages/images/csi/hst.jpg&amp;imgrefurl=http://whyfiles.org/coolimages/index.html?id=1016725781.html&amp;h=311&amp;w=300&amp;sz=11&amp;hl=en&amp;start=7&amp;tbnid=BmWS4S5PZ__cNM:&amp;tbnh=117&amp;tbnw=113&amp;prev=/images?q=the+planet+neptune&amp;gbv=2&amp;svnum=10&amp;hl=en&amp;safe=activ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.uk/imgres?imgurl=http://www.crystalinks.com/uranus01.jpg&amp;imgrefurl=http://www.crystalinks.com/aquarius2001.html&amp;h=300&amp;w=400&amp;sz=47&amp;hl=en&amp;start=15&amp;tbnid=mYHHGKtxNkDCqM:&amp;tbnh=93&amp;tbnw=124&amp;prev=/images?q=the+planet+uranus&amp;gbv=2&amp;svnum=10&amp;hl=en&amp;safe=active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.uk/imgres?imgurl=http://www.seeingwithsound.com/saturn.gif&amp;imgrefurl=http://www.seeingwithsound.com/saturn.htm&amp;h=288&amp;w=352&amp;sz=46&amp;hl=en&amp;start=3&amp;tbnid=zir4IfG6GSPfkM:&amp;tbnh=98&amp;tbnw=120&amp;prev=/images?q=the+planet+saturn&amp;gbv=2&amp;svnum=10&amp;hl=en&amp;safe=active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.uk/imgres?imgurl=http://www.jpl.nasa.gov/wallpaper/art/pia02873-1280-1024.jpg&amp;imgrefurl=http://www.biochem.szote.u-szeged.hu/astrojan/jupiter.htm&amp;h=1024&amp;w=1280&amp;sz=53&amp;hl=en&amp;start=9&amp;tbnid=QXCHYotkEqde0M:&amp;tbnh=120&amp;tbnw=150&amp;prev=/images?q=the+planet+jupiter&amp;gbv=2&amp;ndsp=20&amp;svnum=10&amp;hl=en&amp;safe=active&amp;sa=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.uk/imgres?imgurl=http://www.starstryder.com/wp-content/uploads/2007/06/mars.jpg&amp;imgrefurl=http://www.starstryder.com/index.php?s=coronal&amp;h=310&amp;w=310&amp;sz=22&amp;hl=en&amp;start=19&amp;tbnid=Xdhlak0qBhByiM:&amp;tbnh=117&amp;tbnw=117&amp;prev=/images?q=the+planet+mars&amp;gbv=2&amp;svnum=10&amp;hl=en&amp;safe=active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images.google.co.uk/imgres?imgurl=http://www.rps.psu.edu/probing/graphics/earth2.jpg&amp;imgrefurl=http://www.rps.psu.edu/probing/rotation.html&amp;h=300&amp;w=300&amp;sz=83&amp;hl=en&amp;start=48&amp;tbnid=I1KHCb5NSOFT9M:&amp;tbnh=116&amp;tbnw=116&amp;prev=/images?q=the+Earth&amp;start=40&amp;gbv=2&amp;ndsp=20&amp;svnum=10&amp;hl=en&amp;safe=active&amp;sa=N" TargetMode="External"/><Relationship Id="rId14" Type="http://schemas.openxmlformats.org/officeDocument/2006/relationships/image" Target="../media/image6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huckayoub.googlepages.com/planet_Venus.jpg&amp;imgrefurl=http://chuckayoub.googlepages.com/planet_venus__the_planetscom.htm&amp;usg=__mYAyBGTNSHvYyoFOeCwxX9i3LFk=&amp;h=250&amp;w=250&amp;sz=16&amp;hl=en&amp;start=3&amp;tbnid=V9LJ49bbf8o2IM:&amp;tbnh=111&amp;tbnw=111&amp;prev=/images?q=venus+planet&amp;gbv=2&amp;hl=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ps.psu.edu/probing/graphics/earth2.jpg&amp;imgrefurl=http://www.rps.psu.edu/probing/rotation.html&amp;h=300&amp;w=300&amp;sz=83&amp;hl=en&amp;start=48&amp;tbnid=I1KHCb5NSOFT9M:&amp;tbnh=116&amp;tbnw=116&amp;prev=/images?q=the+Earth&amp;start=40&amp;gbv=2&amp;ndsp=20&amp;svnum=10&amp;hl=en&amp;safe=active&amp;sa=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tarstryder.com/wp-content/uploads/2007/06/mars.jpg&amp;imgrefurl=http://www.starstryder.com/index.php?s=coronal&amp;h=310&amp;w=310&amp;sz=22&amp;hl=en&amp;start=19&amp;tbnid=Xdhlak0qBhByiM:&amp;tbnh=117&amp;tbnw=117&amp;prev=/images?q=the+planet+mars&amp;gbv=2&amp;svnum=10&amp;hl=en&amp;safe=activ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jpl.nasa.gov/wallpaper/art/pia02873-1280-1024.jpg&amp;imgrefurl=http://www.biochem.szote.u-szeged.hu/astrojan/jupiter.htm&amp;h=1024&amp;w=1280&amp;sz=53&amp;hl=en&amp;start=9&amp;tbnid=QXCHYotkEqde0M:&amp;tbnh=120&amp;tbnw=150&amp;prev=/images?q=the+planet+jupiter&amp;gbv=2&amp;ndsp=20&amp;svnum=10&amp;hl=en&amp;safe=active&amp;sa=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eeingwithsound.com/saturn.gif&amp;imgrefurl=http://www.seeingwithsound.com/saturn.htm&amp;h=288&amp;w=352&amp;sz=46&amp;hl=en&amp;start=3&amp;tbnid=zir4IfG6GSPfkM:&amp;tbnh=98&amp;tbnw=120&amp;prev=/images?q=the+planet+saturn&amp;gbv=2&amp;svnum=10&amp;hl=en&amp;safe=activ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rystalinks.com/uranus01.jpg&amp;imgrefurl=http://www.crystalinks.com/aquarius2001.html&amp;h=300&amp;w=400&amp;sz=47&amp;hl=en&amp;start=15&amp;tbnid=mYHHGKtxNkDCqM:&amp;tbnh=93&amp;tbnw=124&amp;prev=/images?q=the+planet+uranus&amp;gbv=2&amp;svnum=10&amp;hl=en&amp;safe=active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hyfiles.org/coolimages/images/csi/hst.jpg&amp;imgrefurl=http://whyfiles.org/coolimages/index.html?id=1016725781.html&amp;h=311&amp;w=300&amp;sz=11&amp;hl=en&amp;start=7&amp;tbnid=BmWS4S5PZ__cNM:&amp;tbnh=117&amp;tbnw=113&amp;prev=/images?q=the+planet+neptune&amp;gbv=2&amp;svnum=10&amp;hl=en&amp;safe=active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iochem.szote.u-szeged.hu/astrojan/plutanb.gif&amp;imgrefurl=http://www.biochem.szote.u-szeged.hu/astrojan/plutani.htm&amp;h=275&amp;w=275&amp;sz=284&amp;hl=en&amp;start=49&amp;tbnid=Dgx0HNskn7g_jM:&amp;tbnh=114&amp;tbnw=114&amp;prev=/images?q=the+planet+pluton&amp;start=40&amp;gbv=2&amp;ndsp=20&amp;svnum=10&amp;hl=en&amp;safe=active&amp;sa=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84464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67280" y="6381720"/>
            <a:ext cx="1152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3" descr="plutan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5137200"/>
            <a:ext cx="1150920" cy="1150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67280" y="6237360"/>
            <a:ext cx="1081080" cy="431640"/>
          </a:xfrm>
          <a:prstGeom prst="rect">
            <a:avLst/>
          </a:prstGeom>
          <a:solidFill>
            <a:srgbClr val="ffffd9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7"/>
                      </a:solidFill>
                    </a:lnL>
                    <a:lnR w="5760">
                      <a:solidFill>
                        <a:srgbClr val="fffff7"/>
                      </a:solidFill>
                    </a:lnR>
                    <a:lnT w="5760">
                      <a:solidFill>
                        <a:srgbClr val="fffff7"/>
                      </a:solidFill>
                    </a:lnT>
                    <a:lnB w="5760">
                      <a:solidFill>
                        <a:srgbClr val="fffff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Picture 59" descr="h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4653000"/>
            <a:ext cx="2017800" cy="2089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9" descr="uranus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4653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9" descr="satur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00720" y="2421000"/>
            <a:ext cx="2448000" cy="1998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9" descr="pia02873-1280-1024">
            <a:hlinkClick r:id="rId9"/>
          </p:cNvPr>
          <p:cNvPicPr/>
          <p:nvPr/>
        </p:nvPicPr>
        <p:blipFill>
          <a:blip r:embed="rId10"/>
          <a:srcRect l="13001" t="5386" r="13328" b="13323"/>
          <a:stretch/>
        </p:blipFill>
        <p:spPr>
          <a:xfrm>
            <a:off x="3276720" y="2349360"/>
            <a:ext cx="2447640" cy="216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9" descr="mars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4360" y="270828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9" descr="earth2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32720" y="18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http://t1.gstatic.com/images?q=tbn:V9LJ49bbf8o2IM:http://chuckayoub.googlepages.com/planet_Venus.jpg"/>
          <p:cNvPicPr/>
          <p:nvPr/>
        </p:nvPicPr>
        <p:blipFill>
          <a:blip r:embed="rId15"/>
          <a:stretch/>
        </p:blipFill>
        <p:spPr>
          <a:xfrm>
            <a:off x="3924360" y="476280"/>
            <a:ext cx="1265040" cy="1265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See full size image"/>
          <p:cNvPicPr/>
          <p:nvPr/>
        </p:nvPicPr>
        <p:blipFill>
          <a:blip r:embed="rId16"/>
          <a:stretch/>
        </p:blipFill>
        <p:spPr>
          <a:xfrm>
            <a:off x="971640" y="62064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284720" y="6453360"/>
            <a:ext cx="5745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68360" y="189000"/>
            <a:ext cx="822960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M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y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V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ery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E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asy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M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ethod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J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ust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S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peeds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U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p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N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aming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P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lane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M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i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V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ecino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T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iene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M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uchas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J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oyas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S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olo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U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na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N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o </a:t>
            </a:r>
            <a:r>
              <a:rPr b="0" lang="fr-FR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P</a:t>
            </a:r>
            <a:r>
              <a:rPr b="0" lang="fr-FR" sz="4000" spc="-1" strike="noStrike">
                <a:solidFill>
                  <a:srgbClr val="fffff7"/>
                </a:solidFill>
                <a:latin typeface="Comic Sans MS"/>
                <a:ea typeface="Arial"/>
              </a:rPr>
              <a:t>res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75963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www.zamandayolculuk.com/Cetinbal/KO/k_gunes-sun.png"/>
          <p:cNvPicPr/>
          <p:nvPr/>
        </p:nvPicPr>
        <p:blipFill>
          <a:blip r:embed="rId1"/>
          <a:stretch/>
        </p:blipFill>
        <p:spPr>
          <a:xfrm>
            <a:off x="0" y="1773360"/>
            <a:ext cx="5076720" cy="4511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ttp://www.zamandayolculuk.com/Cetinbal/KO/moonmed.jpg"/>
          <p:cNvPicPr/>
          <p:nvPr/>
        </p:nvPicPr>
        <p:blipFill>
          <a:blip r:embed="rId2"/>
          <a:stretch/>
        </p:blipFill>
        <p:spPr>
          <a:xfrm>
            <a:off x="5651640" y="2637000"/>
            <a:ext cx="2446200" cy="24285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0"/>
          <p:cNvSpPr/>
          <p:nvPr/>
        </p:nvSpPr>
        <p:spPr>
          <a:xfrm>
            <a:off x="1042920" y="907920"/>
            <a:ext cx="3214800" cy="9169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el So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61"/>
          <p:cNvSpPr/>
          <p:nvPr/>
        </p:nvSpPr>
        <p:spPr>
          <a:xfrm>
            <a:off x="5076720" y="907920"/>
            <a:ext cx="3500640" cy="9169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la Lun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6308640"/>
            <a:ext cx="865080" cy="43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2" descr="http://t1.gstatic.com/images?q=tbn:V9LJ49bbf8o2IM:http://chuckayoub.googlepages.com/planet_Ven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19700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211640" y="6453360"/>
            <a:ext cx="79200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9" descr="earth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836640"/>
            <a:ext cx="4786560" cy="4786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95640" y="6381720"/>
            <a:ext cx="115272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9" descr="ma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206064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95640" y="6308640"/>
            <a:ext cx="1008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9" descr="pia02873-1280-10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89000"/>
            <a:ext cx="7572600" cy="6056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5734080"/>
            <a:ext cx="431928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9" descr="satur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341360"/>
            <a:ext cx="4889520" cy="399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95640" y="6237360"/>
            <a:ext cx="13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9" descr="uranus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700280"/>
            <a:ext cx="4929120" cy="3697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067280" y="6453360"/>
            <a:ext cx="129672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9" descr="h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413000"/>
            <a:ext cx="4071960" cy="4214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24360" y="6381720"/>
            <a:ext cx="1368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3" descr="plutan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200016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067280" y="6237360"/>
            <a:ext cx="108108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37:29Z</dcterms:modified>
  <cp:revision>335</cp:revision>
  <dc:subject/>
  <dc:title>TITLE</dc:title>
</cp:coreProperties>
</file>