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619-3608-4B0F-8123-DFCB5400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71A-4333-49F7-AA06-E74C7EF6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242-45CA-4F0D-AAE9-6917B1C3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8FA-0271-483E-BB7F-668BE7D2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9247-A35A-449B-A66C-CACD7B3D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3FAA-BF87-4C73-B8D3-B8E48284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0A3C-2535-464B-8B96-D857E832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0017-C6ED-4B0B-A1EA-23D7F593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9ECA-F8D1-416B-8BE3-2310BD03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D18D-FF7E-4DAE-862C-EADAAE5F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32C0-AFC8-42FE-8EC4-B8B80237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A8D-93D6-4F64-B86A-643385A7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FF4B-8781-47D7-8A6E-694D7E7C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8EC1-1760-4476-9F62-F2A2AAAF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A8FA-F1BF-40E5-8AB2-25B59CAD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226D-D6A2-4329-AA48-0461C5FF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D294-78F5-41D3-8936-237E0339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7896-AF7D-4F7F-BEDA-C480427D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4662C-C080-4DBC-8F1C-AA40BC74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B8770-AB80-4A26-A9F8-8B003964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A0E2-7AD4-4424-8B98-45C0F32B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DA1DE-D176-40A2-A866-7E53B072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B56-D2C8-4DC3-B4C5-DF6BE816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5EAC1-FBB3-4C1D-82A6-795EED91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52835-1BE5-4748-91A9-B8BA3A64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26B0B-BD34-46D5-BE8B-C4568766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0DA26-765B-42EE-B04B-2220CD54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665C-4638-4488-BFEB-8AACFAC2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A580-E2CE-449B-ACFB-5E7BC065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BF5D6-85E7-4FDE-A1A6-B3B1E76F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187-1705-4895-86EA-9B39E03D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603-3D8F-45AD-BFB6-E207585B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52E-8DDC-4D58-B50D-AE260B64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BBB-DCBC-4FE1-A386-7A1582ED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EDE-2DB4-4717-BB0F-E4C9D723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444-E909-4881-9B26-3EBE55CC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F829-A93D-4B31-99AC-0259F8B1F7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DAD2-FC48-4337-A2B9-6E2BA4A60C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A95A-7F70-4035-AD98-67E0DA4D8EA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zamandayolculuk.com/Cetinbal/AE/A-planet-mercury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iochem.szote.u-szeged.hu/astrojan/plutanb.gif&amp;imgrefurl=http://www.biochem.szote.u-szeged.hu/astrojan/plutani.htm&amp;h=275&amp;w=275&amp;sz=284&amp;hl=en&amp;start=49&amp;tbnid=Dgx0HNskn7g_jM:&amp;tbnh=114&amp;tbnw=114&amp;prev=/images?q=the+planet+pluton&amp;start=40&amp;gbv=2&amp;ndsp=20&amp;svnum=10&amp;hl=en&amp;safe=active&amp;sa=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uk/imgres?imgurl=http://whyfiles.org/coolimages/images/csi/hst.jpg&amp;imgrefurl=http://whyfiles.org/coolimages/index.html?id=1016725781.html&amp;h=311&amp;w=300&amp;sz=11&amp;hl=en&amp;start=7&amp;tbnid=BmWS4S5PZ__cNM:&amp;tbnh=117&amp;tbnw=113&amp;prev=/images?q=the+planet+neptune&amp;gbv=2&amp;svnum=10&amp;hl=en&amp;safe=activ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.uk/imgres?imgurl=http://www.crystalinks.com/uranus01.jpg&amp;imgrefurl=http://www.crystalinks.com/aquarius2001.html&amp;h=300&amp;w=400&amp;sz=47&amp;hl=en&amp;start=15&amp;tbnid=mYHHGKtxNkDCqM:&amp;tbnh=93&amp;tbnw=124&amp;prev=/images?q=the+planet+uranus&amp;gbv=2&amp;svnum=10&amp;hl=en&amp;safe=active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.uk/imgres?imgurl=http://www.seeingwithsound.com/saturn.gif&amp;imgrefurl=http://www.seeingwithsound.com/saturn.htm&amp;h=288&amp;w=352&amp;sz=46&amp;hl=en&amp;start=3&amp;tbnid=zir4IfG6GSPfkM:&amp;tbnh=98&amp;tbnw=120&amp;prev=/images?q=the+planet+saturn&amp;gbv=2&amp;svnum=10&amp;hl=en&amp;safe=active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.uk/imgres?imgurl=http://www.jpl.nasa.gov/wallpaper/art/pia02873-1280-1024.jpg&amp;imgrefurl=http://www.biochem.szote.u-szeged.hu/astrojan/jupiter.htm&amp;h=1024&amp;w=1280&amp;sz=53&amp;hl=en&amp;start=9&amp;tbnid=QXCHYotkEqde0M:&amp;tbnh=120&amp;tbnw=150&amp;prev=/images?q=the+planet+jupiter&amp;gbv=2&amp;ndsp=20&amp;svnum=10&amp;hl=en&amp;safe=active&amp;sa=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.uk/imgres?imgurl=http://www.starstryder.com/wp-content/uploads/2007/06/mars.jpg&amp;imgrefurl=http://www.starstryder.com/index.php?s=coronal&amp;h=310&amp;w=310&amp;sz=22&amp;hl=en&amp;start=19&amp;tbnid=Xdhlak0qBhByiM:&amp;tbnh=117&amp;tbnw=117&amp;prev=/images?q=the+planet+mars&amp;gbv=2&amp;svnum=10&amp;hl=en&amp;safe=active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images.google.co.uk/imgres?imgurl=http://www.rps.psu.edu/probing/graphics/earth2.jpg&amp;imgrefurl=http://www.rps.psu.edu/probing/rotation.html&amp;h=300&amp;w=300&amp;sz=83&amp;hl=en&amp;start=48&amp;tbnid=I1KHCb5NSOFT9M:&amp;tbnh=116&amp;tbnw=116&amp;prev=/images?q=the+Earth&amp;start=40&amp;gbv=2&amp;ndsp=20&amp;svnum=10&amp;hl=en&amp;safe=active&amp;sa=N" TargetMode="External"/><Relationship Id="rId14" Type="http://schemas.openxmlformats.org/officeDocument/2006/relationships/image" Target="../media/image6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huckayoub.googlepages.com/planet_Venus.jpg&amp;imgrefurl=http://chuckayoub.googlepages.com/planet_venus__the_planetscom.htm&amp;usg=__mYAyBGTNSHvYyoFOeCwxX9i3LFk=&amp;h=250&amp;w=250&amp;sz=16&amp;hl=en&amp;start=3&amp;tbnid=V9LJ49bbf8o2IM:&amp;tbnh=111&amp;tbnw=111&amp;prev=/images?q=venus+planet&amp;gbv=2&amp;hl=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ps.psu.edu/probing/graphics/earth2.jpg&amp;imgrefurl=http://www.rps.psu.edu/probing/rotation.html&amp;h=300&amp;w=300&amp;sz=83&amp;hl=en&amp;start=48&amp;tbnid=I1KHCb5NSOFT9M:&amp;tbnh=116&amp;tbnw=116&amp;prev=/images?q=the+Earth&amp;start=40&amp;gbv=2&amp;ndsp=20&amp;svnum=10&amp;hl=en&amp;safe=active&amp;sa=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tarstryder.com/wp-content/uploads/2007/06/mars.jpg&amp;imgrefurl=http://www.starstryder.com/index.php?s=coronal&amp;h=310&amp;w=310&amp;sz=22&amp;hl=en&amp;start=19&amp;tbnid=Xdhlak0qBhByiM:&amp;tbnh=117&amp;tbnw=117&amp;prev=/images?q=the+planet+mars&amp;gbv=2&amp;svnum=10&amp;hl=en&amp;safe=activ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jpl.nasa.gov/wallpaper/art/pia02873-1280-1024.jpg&amp;imgrefurl=http://www.biochem.szote.u-szeged.hu/astrojan/jupiter.htm&amp;h=1024&amp;w=1280&amp;sz=53&amp;hl=en&amp;start=9&amp;tbnid=QXCHYotkEqde0M:&amp;tbnh=120&amp;tbnw=150&amp;prev=/images?q=the+planet+jupiter&amp;gbv=2&amp;ndsp=20&amp;svnum=10&amp;hl=en&amp;safe=active&amp;sa=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eeingwithsound.com/saturn.gif&amp;imgrefurl=http://www.seeingwithsound.com/saturn.htm&amp;h=288&amp;w=352&amp;sz=46&amp;hl=en&amp;start=3&amp;tbnid=zir4IfG6GSPfkM:&amp;tbnh=98&amp;tbnw=120&amp;prev=/images?q=the+planet+saturn&amp;gbv=2&amp;svnum=10&amp;hl=en&amp;safe=activ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rystalinks.com/uranus01.jpg&amp;imgrefurl=http://www.crystalinks.com/aquarius2001.html&amp;h=300&amp;w=400&amp;sz=47&amp;hl=en&amp;start=15&amp;tbnid=mYHHGKtxNkDCqM:&amp;tbnh=93&amp;tbnw=124&amp;prev=/images?q=the+planet+uranus&amp;gbv=2&amp;svnum=10&amp;hl=en&amp;safe=active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hyfiles.org/coolimages/images/csi/hst.jpg&amp;imgrefurl=http://whyfiles.org/coolimages/index.html?id=1016725781.html&amp;h=311&amp;w=300&amp;sz=11&amp;hl=en&amp;start=7&amp;tbnid=BmWS4S5PZ__cNM:&amp;tbnh=117&amp;tbnw=113&amp;prev=/images?q=the+planet+neptune&amp;gbv=2&amp;svnum=10&amp;hl=en&amp;safe=active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iochem.szote.u-szeged.hu/astrojan/plutanb.gif&amp;imgrefurl=http://www.biochem.szote.u-szeged.hu/astrojan/plutani.htm&amp;h=275&amp;w=275&amp;sz=284&amp;hl=en&amp;start=49&amp;tbnid=Dgx0HNskn7g_jM:&amp;tbnh=114&amp;tbnw=114&amp;prev=/images?q=the+planet+pluton&amp;start=40&amp;gbv=2&amp;ndsp=20&amp;svnum=10&amp;hl=en&amp;safe=active&amp;sa=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84464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67280" y="6381720"/>
            <a:ext cx="1152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3" descr="plutan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5137200"/>
            <a:ext cx="1150920" cy="1150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67280" y="6237360"/>
            <a:ext cx="1081080" cy="431640"/>
          </a:xfrm>
          <a:prstGeom prst="rect">
            <a:avLst/>
          </a:prstGeom>
          <a:solidFill>
            <a:srgbClr val="ffffd9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Picture 59" descr="h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4653000"/>
            <a:ext cx="2017800" cy="2089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9" descr="uranus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4653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9" descr="satur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00720" y="2421000"/>
            <a:ext cx="2448000" cy="1998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9" descr="pia02873-1280-1024">
            <a:hlinkClick r:id="rId9"/>
          </p:cNvPr>
          <p:cNvPicPr/>
          <p:nvPr/>
        </p:nvPicPr>
        <p:blipFill>
          <a:blip r:embed="rId10"/>
          <a:srcRect l="13001" t="5386" r="13328" b="13323"/>
          <a:stretch/>
        </p:blipFill>
        <p:spPr>
          <a:xfrm>
            <a:off x="3276720" y="2349360"/>
            <a:ext cx="2447640" cy="216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9" descr="mars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4360" y="270828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9" descr="earth2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32720" y="18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http://t1.gstatic.com/images?q=tbn:V9LJ49bbf8o2IM:http://chuckayoub.googlepages.com/planet_Venus.jpg"/>
          <p:cNvPicPr/>
          <p:nvPr/>
        </p:nvPicPr>
        <p:blipFill>
          <a:blip r:embed="rId15"/>
          <a:stretch/>
        </p:blipFill>
        <p:spPr>
          <a:xfrm>
            <a:off x="3924360" y="476280"/>
            <a:ext cx="1265040" cy="1265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See full size image"/>
          <p:cNvPicPr/>
          <p:nvPr/>
        </p:nvPicPr>
        <p:blipFill>
          <a:blip r:embed="rId16"/>
          <a:stretch/>
        </p:blipFill>
        <p:spPr>
          <a:xfrm>
            <a:off x="971640" y="62064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284720" y="6453360"/>
            <a:ext cx="5745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68360" y="189000"/>
            <a:ext cx="822960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M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y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V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ery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E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asy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M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ethod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J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ust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S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peeds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U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p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N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aming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P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lane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M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i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V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ecino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T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iene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M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uchas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J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oyas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S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olo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U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na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N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o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P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res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75963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www.zamandayolculuk.com/Cetinbal/KO/k_gunes-sun.png"/>
          <p:cNvPicPr/>
          <p:nvPr/>
        </p:nvPicPr>
        <p:blipFill>
          <a:blip r:embed="rId1"/>
          <a:stretch/>
        </p:blipFill>
        <p:spPr>
          <a:xfrm>
            <a:off x="0" y="1773360"/>
            <a:ext cx="5076720" cy="4511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ttp://www.zamandayolculuk.com/Cetinbal/KO/moonmed.jpg"/>
          <p:cNvPicPr/>
          <p:nvPr/>
        </p:nvPicPr>
        <p:blipFill>
          <a:blip r:embed="rId2"/>
          <a:stretch/>
        </p:blipFill>
        <p:spPr>
          <a:xfrm>
            <a:off x="5651640" y="2637000"/>
            <a:ext cx="2446200" cy="24285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0"/>
          <p:cNvSpPr/>
          <p:nvPr/>
        </p:nvSpPr>
        <p:spPr>
          <a:xfrm>
            <a:off x="1042920" y="907920"/>
            <a:ext cx="3214800" cy="9169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el So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61"/>
          <p:cNvSpPr/>
          <p:nvPr/>
        </p:nvSpPr>
        <p:spPr>
          <a:xfrm>
            <a:off x="5076720" y="907920"/>
            <a:ext cx="3500640" cy="9169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la Lun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6308640"/>
            <a:ext cx="865080" cy="43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2" descr="http://t1.gstatic.com/images?q=tbn:V9LJ49bbf8o2IM:http://chuckayoub.googlepages.com/planet_Ven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19700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211640" y="6453360"/>
            <a:ext cx="79200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9" descr="earth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836640"/>
            <a:ext cx="4786560" cy="4786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95640" y="6381720"/>
            <a:ext cx="115272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9" descr="ma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206064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95640" y="6308640"/>
            <a:ext cx="1008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9" descr="pia02873-1280-10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89000"/>
            <a:ext cx="7572600" cy="6056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5734080"/>
            <a:ext cx="431928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9" descr="satur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341360"/>
            <a:ext cx="4889520" cy="399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95640" y="6237360"/>
            <a:ext cx="13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9" descr="uranus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700280"/>
            <a:ext cx="4929120" cy="3697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067280" y="6453360"/>
            <a:ext cx="129672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9" descr="h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413000"/>
            <a:ext cx="4071960" cy="4214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24360" y="6381720"/>
            <a:ext cx="1368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3" descr="plutan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200016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067280" y="6237360"/>
            <a:ext cx="108108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37:29Z</dcterms:modified>
  <cp:revision>335</cp:revision>
  <dc:subject/>
  <dc:title>TITLE</dc:title>
</cp:coreProperties>
</file>