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757-50F7-4AC3-9075-345FDE88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858-5A6B-4866-B0A0-6005935A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0D3-0364-4B65-A805-11DA568C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4D8-42C9-409E-88DA-C65FB27C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A5BE-317E-4BB2-8EF2-C407CE3B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709D-7B32-4B8B-8E7F-94899EDE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2BCA-BD00-4307-A16D-C73B07E9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DF8B-D482-4195-BE64-C27F0583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E971-C927-414A-BB08-6B446C66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4ACB-E885-4623-9D23-7D13F129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0EEC-9CAD-4575-9AEA-CB591D59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44A-FA43-4960-827C-40038FAA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02C6-9F0D-49C6-98AA-9564A936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D310-76D6-4284-BE4E-8BA0E2B9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02C2-C1A9-41B0-A4CF-C3CEE976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3AB1-48B2-40B3-A8D1-92A9FD17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3000-3F09-4770-BB78-135F64F3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BA6B3-0E86-4C51-B0E7-C1257D7F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DD2BB-7311-408A-9C2B-1C6C6DBB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A6589-75E4-4DDD-B321-D3A65421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5C18B-B58F-4202-B297-E373CC0F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5EEF3-7766-4B98-A012-D9D73157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DD57-7AE2-4EED-8018-E1389C7B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48FE8-5E9E-45E2-8204-F8E6BF0A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C3281-A12E-40EE-9C15-454E07B0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41DF6-8AB5-4D95-A647-D3F41AAE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F616C-3F17-46F5-89F4-575BE1F1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3EC33-DD8B-4726-B379-E9C6C0C7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22109-B44F-4423-ACA5-8D141B14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97D89-9D37-41CC-9D0C-851464D5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790CC-D1C0-4285-A0B8-312DF0DC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2C33E-3668-4E67-9B91-A1ABC1C1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344D6-C00C-4CF1-B08B-9C2F259C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ECEB-3489-4609-8B9F-2F713208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E936C-BFCE-4C36-8E21-D691C93A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AF227-7566-4A2A-B65E-58D71142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C0B1E-2F09-4BF0-8BAF-F8065B03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3BEDD-3291-451F-9520-0D6CEF22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2A602-9C47-400E-9507-5BD139CE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974A2-B43C-4908-8E24-C498E70A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1FD4E-9E03-461B-8134-CEB04203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B6C6C-2FF1-4631-8595-420E96CC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5E577-A58E-4CE3-9EA2-75B9DABB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18F41-FBC1-4D60-8D96-C3A48B4A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9AA4-7DC1-41CB-95D1-197F5585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714C3-9214-47F5-942F-2FFC44DA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1E4D4-B0D5-4087-9F32-10E5A57B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BF16C-E21E-45BB-A8CA-6E479D46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26AF2-0D15-429D-B6D8-22BD9FF9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610DB-F28E-429C-8C1E-6727F23A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E64AF-A3A6-4972-AA1B-080EA12E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79ED7-7553-4A3F-ABA1-ECD057BE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3B484-A5BC-440D-ABE8-4480FAA2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49DBF-798C-413F-BD7E-A5AAB914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83679-34B0-400A-B123-CB018B8C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9F1-AD27-41DD-A4F9-CAE39F14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4FA63-68D6-4D36-9927-9FA1F194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0686-DFCD-4DF6-B23A-1CA15000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BC6-A6E7-4D15-810A-F9A76BAE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DEAB-C4A2-484D-B11A-EF359FDF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C69A-26E3-4E16-B416-06C8EECB46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6FD8-6866-43A3-BAC0-24ECEE113B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Arial"/>
              </a:rPr>
              <a:t>CB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FED0-9C41-4AC6-BD60-313C9658A54F}" type="slidenum">
              <a:rPr b="0" lang="en-GB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70BE-1CF9-4726-B61B-E726AF158F4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185B-7021-4E97-89B6-1D05122FB82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hyfiles.org/coolimages/images/csi/hst.jpg&amp;imgrefurl=http://whyfiles.org/coolimages/index.html?id=1016725781.html&amp;h=311&amp;w=300&amp;sz=11&amp;hl=en&amp;start=7&amp;tbnid=BmWS4S5PZ__cNM:&amp;tbnh=117&amp;tbnw=113&amp;prev=/images?q=the+planet+neptune&amp;gbv=2&amp;svnum=10&amp;hl=en&amp;safe=active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………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. es un planeta enorme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067280" y="6308640"/>
            <a:ext cx="936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énu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caliente.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7" name="Picture 7" descr="venglobe"/>
          <p:cNvPicPr/>
          <p:nvPr/>
        </p:nvPicPr>
        <p:blipFill>
          <a:blip r:embed="rId1"/>
          <a:stretch/>
        </p:blipFill>
        <p:spPr>
          <a:xfrm>
            <a:off x="2355840" y="1600200"/>
            <a:ext cx="4432320" cy="452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067280" y="6237360"/>
            <a:ext cx="93636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………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. es un planeta frío.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"/>
          <p:cNvSpPr/>
          <p:nvPr/>
        </p:nvSpPr>
        <p:spPr>
          <a:xfrm>
            <a:off x="4067280" y="6237360"/>
            <a:ext cx="93636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Urano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frío.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"/>
          <p:cNvSpPr/>
          <p:nvPr/>
        </p:nvSpPr>
        <p:spPr>
          <a:xfrm>
            <a:off x="4067280" y="6237360"/>
            <a:ext cx="93636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50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0" y="333360"/>
          <a:ext cx="9144000" cy="6335640"/>
        </p:xfrm>
        <a:graphic>
          <a:graphicData uri="http://schemas.openxmlformats.org/drawingml/2006/table">
            <a:tbl>
              <a:tblPr/>
              <a:tblGrid>
                <a:gridCol w="2411280"/>
                <a:gridCol w="1081080"/>
                <a:gridCol w="2880000"/>
                <a:gridCol w="2771640"/>
              </a:tblGrid>
              <a:tr h="633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úpite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rcuri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eptun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lutó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ran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enu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 planeta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liente</a:t>
                      </a:r>
                      <a:br>
                        <a:rPr sz="4000"/>
                      </a:b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í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norm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inúsculo</a:t>
                      </a:r>
                      <a:br>
                        <a:rPr sz="4000"/>
                      </a:b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ápid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ent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PIA02873_modest"/>
          <p:cNvPicPr/>
          <p:nvPr/>
        </p:nvPicPr>
        <p:blipFill>
          <a:blip r:embed="rId1"/>
          <a:srcRect l="19650" t="0" r="18800" b="0"/>
          <a:stretch/>
        </p:blipFill>
        <p:spPr>
          <a:xfrm>
            <a:off x="1428840" y="1000080"/>
            <a:ext cx="6143400" cy="56199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úpiter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enorme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………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 es un planeta minúsculo.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3851280" y="6308640"/>
            <a:ext cx="1297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Pluto"/>
          <p:cNvPicPr/>
          <p:nvPr/>
        </p:nvPicPr>
        <p:blipFill>
          <a:blip r:embed="rId1"/>
          <a:stretch/>
        </p:blipFill>
        <p:spPr>
          <a:xfrm>
            <a:off x="3857760" y="2928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Plutón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minúsculo.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3851280" y="6308640"/>
            <a:ext cx="1297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5"/>
          <p:cNvSpPr/>
          <p:nvPr/>
        </p:nvSpPr>
        <p:spPr>
          <a:xfrm>
            <a:off x="0" y="476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………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es un planeta rápido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4140360" y="6381720"/>
            <a:ext cx="100800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http://www.nasa.gov/images/content/208455main_messenger_mercury_lg.jpg"/>
          <p:cNvPicPr/>
          <p:nvPr/>
        </p:nvPicPr>
        <p:blipFill>
          <a:blip r:embed="rId1"/>
          <a:stretch/>
        </p:blipFill>
        <p:spPr>
          <a:xfrm>
            <a:off x="2987640" y="1700280"/>
            <a:ext cx="3467160" cy="3467160"/>
          </a:xfrm>
          <a:prstGeom prst="rect">
            <a:avLst/>
          </a:prstGeom>
          <a:ln w="0">
            <a:noFill/>
          </a:ln>
        </p:spPr>
      </p:pic>
      <p:sp>
        <p:nvSpPr>
          <p:cNvPr id="217" name="Title 5"/>
          <p:cNvSpPr/>
          <p:nvPr/>
        </p:nvSpPr>
        <p:spPr>
          <a:xfrm>
            <a:off x="0" y="404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ercurio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rápido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4140360" y="6308640"/>
            <a:ext cx="79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tle 5"/>
          <p:cNvSpPr/>
          <p:nvPr/>
        </p:nvSpPr>
        <p:spPr>
          <a:xfrm>
            <a:off x="0" y="404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…………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es un planeta lento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4140360" y="6308640"/>
            <a:ext cx="79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tle 5"/>
          <p:cNvSpPr/>
          <p:nvPr/>
        </p:nvSpPr>
        <p:spPr>
          <a:xfrm>
            <a:off x="0" y="404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Neptuno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lento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4140360" y="6308640"/>
            <a:ext cx="79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3" name="Picture 59" descr="hs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268280"/>
            <a:ext cx="4867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……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 es un planeta caliente.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"/>
          <p:cNvSpPr/>
          <p:nvPr/>
        </p:nvSpPr>
        <p:spPr>
          <a:xfrm>
            <a:off x="4067280" y="6237360"/>
            <a:ext cx="93636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39:17Z</dcterms:modified>
  <cp:revision>338</cp:revision>
  <dc:subject/>
  <dc:title>TITLE</dc:title>
</cp:coreProperties>
</file>