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5732-8720-491E-97F9-5958E091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345F-315E-4B71-8DCA-8677A0C0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D6DC-6D80-4535-A60D-7B2FB70E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111F-2901-4894-8D55-AA73B15F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1FCB-10DF-4286-BB84-5D62AEBA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6CC6-2922-4DD8-BCD9-1132D9B6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B3DF-DFCF-4A57-A5C8-CEE34E1E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F766-BAE6-4A15-98A1-AC6FEF7E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9EC7-E0B2-4C8E-91B1-C8DA516A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119F-BE0A-466A-9149-0015D63D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9600-065A-432D-940A-AD410F64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3171-CF56-43A1-B2F9-6BF4286E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AB87-3BCB-45C1-B09D-00FB85AB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E84C-094F-4AD9-A63B-920F92D7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F558-E438-4E38-BF59-882CEE6E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774A-5265-4471-9A99-EF3B3D88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BAC6-53E8-43A4-B658-FC1301EB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0C3BC-F182-4220-A111-88CA97BC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9F412-E47E-4826-9D22-4CB4FDAD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6249D-F6B7-4EC2-BD2E-04DDDDC9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25B5C-0AA8-427B-BFC4-BEF23B82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44E10-D22B-4AEF-B39E-7351C97E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B479-8D3F-4C4B-B381-42A54E82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330D3-1457-4124-9362-FB6BC7F1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74311-5D25-46CD-B7BD-803D80A9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12B6D-2A19-48A5-9720-1F3D28CB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FC0DA-A916-4916-B426-32DE53DB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2F14D-DAEF-4C32-A0E4-2DCEBB3D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58998-2812-4B5D-A5FF-8A4C3B49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3D668-49B6-4968-98BD-01632793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1F1A1-F741-4569-B84C-56E0FE76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35936-2CB0-4D40-A046-E1CA4F1B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A2ADB-9CA0-42C5-A683-C5108081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99B9-E8AB-4623-B98B-971FE4F1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DCC2E-C43D-4247-AE97-87C115E3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3AF7B-07C2-498C-B604-A82F0A15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3FED9-F20A-4C76-92F2-7B1E3A4F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C1220-761D-4F3C-BFC9-B8B2AC85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70C27-3631-4786-B793-937B3D32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0F043-22CC-4267-931D-DCD9727A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9CAE5-EF24-4092-9771-31B694C4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74C6E-5F2A-4444-8E9C-3F60E60F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294CE-E028-4D5B-A8BD-7D4063F8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51C2D-431C-4045-BAE7-3365ECE28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8583-7AA8-4D8A-8E54-63BE7428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B3E37-3BA2-42AE-BB54-A4ECE597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36138-2EE9-4A0D-A646-A148C01B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62F12-9BBD-4706-AD99-236567A1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0E557-626C-4CD2-8097-97BD977D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CC170-6550-4BEA-A690-E63EF731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62306-9BE1-4C60-92D6-6B4B766F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B581C-6A76-4DC0-86FA-C635C2D0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B7F13-FBC5-4FCB-A81C-BAE87D27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DBBB4-A6F3-4D51-87F1-EA8F3409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FABE7-8566-45BC-AEFD-EDB94381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0DBA-B2B9-4956-813F-AE15348A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ECDDE-E1A8-4DFA-8DEE-3A4E1A24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E935-B5E9-40B1-AE96-AE880262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BB17-BCEF-4B3F-9CCF-299D1AE4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3D5B-3904-46A7-B568-D2025641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89EC-2280-4E43-AE8D-47B8165EA5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5122-6B0D-4A9E-8BCA-79CCB7DB4B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Arial"/>
              </a:rPr>
              <a:t>CB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ABA8-BE48-45ED-85FF-68E0B6A11FCB}" type="slidenum">
              <a:rPr b="0" lang="en-GB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785D-F5C7-4A81-84C8-780BFD8FE24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E8A7-5905-404A-ABD9-B649D8B5586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hyfiles.org/coolimages/images/csi/hst.jpg&amp;imgrefurl=http://whyfiles.org/coolimages/index.html?id=1016725781.html&amp;h=311&amp;w=300&amp;sz=11&amp;hl=en&amp;start=7&amp;tbnid=BmWS4S5PZ__cNM:&amp;tbnh=117&amp;tbnw=113&amp;prev=/images?q=the+planet+neptune&amp;gbv=2&amp;svnum=10&amp;hl=en&amp;safe=active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………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.. es un planeta enorme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067280" y="6308640"/>
            <a:ext cx="93636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énu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es un planeta caliente.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7" name="Picture 7" descr="venglobe"/>
          <p:cNvPicPr/>
          <p:nvPr/>
        </p:nvPicPr>
        <p:blipFill>
          <a:blip r:embed="rId1"/>
          <a:stretch/>
        </p:blipFill>
        <p:spPr>
          <a:xfrm>
            <a:off x="2355840" y="1600200"/>
            <a:ext cx="4432320" cy="452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067280" y="6237360"/>
            <a:ext cx="93636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………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.. es un planeta frío.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"/>
          <p:cNvSpPr/>
          <p:nvPr/>
        </p:nvSpPr>
        <p:spPr>
          <a:xfrm>
            <a:off x="4067280" y="6237360"/>
            <a:ext cx="93636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Urano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es un planeta frío.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"/>
          <p:cNvSpPr/>
          <p:nvPr/>
        </p:nvSpPr>
        <p:spPr>
          <a:xfrm>
            <a:off x="4067280" y="6237360"/>
            <a:ext cx="93636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696000" cy="50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0" y="333360"/>
          <a:ext cx="9144000" cy="6335640"/>
        </p:xfrm>
        <a:graphic>
          <a:graphicData uri="http://schemas.openxmlformats.org/drawingml/2006/table">
            <a:tbl>
              <a:tblPr/>
              <a:tblGrid>
                <a:gridCol w="2411280"/>
                <a:gridCol w="1081080"/>
                <a:gridCol w="2880000"/>
                <a:gridCol w="2771640"/>
              </a:tblGrid>
              <a:tr h="633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Júpite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rcurio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eptuno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lutó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rano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enu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n planeta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liente</a:t>
                      </a:r>
                      <a:br>
                        <a:rPr sz="4000"/>
                      </a:b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río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norm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inúsculo</a:t>
                      </a:r>
                      <a:br>
                        <a:rPr sz="4000"/>
                      </a:b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ápido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ento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PIA02873_modest"/>
          <p:cNvPicPr/>
          <p:nvPr/>
        </p:nvPicPr>
        <p:blipFill>
          <a:blip r:embed="rId1"/>
          <a:srcRect l="19650" t="0" r="18800" b="0"/>
          <a:stretch/>
        </p:blipFill>
        <p:spPr>
          <a:xfrm>
            <a:off x="1428840" y="1000080"/>
            <a:ext cx="6143400" cy="56199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Júpiter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es un planeta enorme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………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. es un planeta minúsculo.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3851280" y="6308640"/>
            <a:ext cx="1297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Pluto"/>
          <p:cNvPicPr/>
          <p:nvPr/>
        </p:nvPicPr>
        <p:blipFill>
          <a:blip r:embed="rId1"/>
          <a:stretch/>
        </p:blipFill>
        <p:spPr>
          <a:xfrm>
            <a:off x="3857760" y="29289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Plutón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es un planeta minúsculo.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3851280" y="6308640"/>
            <a:ext cx="1297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tle 5"/>
          <p:cNvSpPr/>
          <p:nvPr/>
        </p:nvSpPr>
        <p:spPr>
          <a:xfrm>
            <a:off x="0" y="476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……… 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es un planeta rápido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4140360" y="6381720"/>
            <a:ext cx="100800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http://www.nasa.gov/images/content/208455main_messenger_mercury_lg.jpg"/>
          <p:cNvPicPr/>
          <p:nvPr/>
        </p:nvPicPr>
        <p:blipFill>
          <a:blip r:embed="rId1"/>
          <a:stretch/>
        </p:blipFill>
        <p:spPr>
          <a:xfrm>
            <a:off x="2987640" y="1700280"/>
            <a:ext cx="3467160" cy="3467160"/>
          </a:xfrm>
          <a:prstGeom prst="rect">
            <a:avLst/>
          </a:prstGeom>
          <a:ln w="0">
            <a:noFill/>
          </a:ln>
        </p:spPr>
      </p:pic>
      <p:sp>
        <p:nvSpPr>
          <p:cNvPr id="217" name="Title 5"/>
          <p:cNvSpPr/>
          <p:nvPr/>
        </p:nvSpPr>
        <p:spPr>
          <a:xfrm>
            <a:off x="0" y="404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ercurio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es un planeta rápido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4140360" y="6308640"/>
            <a:ext cx="792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itle 5"/>
          <p:cNvSpPr/>
          <p:nvPr/>
        </p:nvSpPr>
        <p:spPr>
          <a:xfrm>
            <a:off x="0" y="404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………… 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es un planeta lento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4140360" y="6308640"/>
            <a:ext cx="792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tle 5"/>
          <p:cNvSpPr/>
          <p:nvPr/>
        </p:nvSpPr>
        <p:spPr>
          <a:xfrm>
            <a:off x="0" y="404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Neptuno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es un planeta lento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4140360" y="6308640"/>
            <a:ext cx="792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3" name="Picture 59" descr="hs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1268280"/>
            <a:ext cx="4867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……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. es un planeta caliente.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"/>
          <p:cNvSpPr/>
          <p:nvPr/>
        </p:nvSpPr>
        <p:spPr>
          <a:xfrm>
            <a:off x="4067280" y="6237360"/>
            <a:ext cx="93636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3-07-02T10:39:17Z</dcterms:modified>
  <cp:revision>338</cp:revision>
  <dc:subject/>
  <dc:title>TITLE</dc:title>
</cp:coreProperties>
</file>