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894-7E3A-420D-A933-57E73107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57D-67B5-414A-9DA0-75BF80EC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438-F7BA-4FB0-85A1-9E0C9F1A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048-BEE1-4858-90CB-5267CEB2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CD73-F42F-4A94-96FA-E22A1E29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300B-CE3E-4BF2-8BB1-4694EE44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46DC-70E5-445C-B84E-C2C060E7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EC94-83B3-4FAF-A95F-1DC62C39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440C-9164-4C26-B49F-196B3779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2ECA-6116-471E-87A9-B5B214A3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BA40-8455-490A-980D-13C0E5C2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E22-ED3B-4900-9937-4CD0ECCB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9D07-701C-4917-BE03-7DD7C8F0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D581-8E61-4642-A24C-BE6929A5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91AA-1C2C-45DD-86EB-03A204D0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43F3-8B60-4B6A-89C9-2C717204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BF9E-C4E9-48FF-8DBA-A1D24581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753A-4C71-4907-A646-1A082469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AD46-06AE-41AE-9A3C-6C56D218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C2FF4-DE9C-4E4E-942A-F38E372D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EA2C-2168-43D5-8D0E-6720991C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D5D1-7E40-4618-8B9E-25072B7A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8D7-C25F-432E-9FAB-8E2F3133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FAFF-013B-4BF3-87D5-4934760B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B6A1-70B7-4433-A707-C619C4E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7E55-38DA-43C3-8BCB-C597B9E4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AB33-91A9-40D4-A472-D411CDA5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4FF7-797B-41AB-AA4E-11F22A93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5130-D4C0-4235-ACC8-E20B599F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1F45-25F9-47E5-9A90-DD96C26F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91BE-96CD-46CD-98B4-50E08CA1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341AD-BB6B-4E8D-A47B-24386C41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CA3C-BD6F-4B86-B3E5-0C185D0E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308-89C1-4CDB-BC80-CE9F37E5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298A0-34C4-4936-8218-C3965D3B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D9CB5-FFDF-4151-A1F7-D9F7B8E8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74CF-5D3A-4394-BF1D-5D0AFB4E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987E-5C90-4F7A-B217-5D4FCD56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F3BDF-0976-42D5-8AB2-B0C54857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6F40-E14D-45C8-9EDF-513FEB22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9050-87BB-4866-A642-02E127CF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F200-3847-4240-9FB2-24EEFC97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448D-BEFA-420A-BE55-FEA84C0E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FD65-F5D8-444F-89CF-9BAB5254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7A5-99F6-461F-8145-A9CEAEB6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C9549-CB80-4D68-B706-5E7FB46A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FF632-3ABF-4AAA-992E-A1952E24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8D0D-B9B8-4A13-8415-83094CE4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874DE-BD13-4E38-8C1C-45F5A82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6880-2903-4F3A-A334-C4ABB974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71C3F-2526-4ED1-9557-4FCF5CCE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B418A-7474-4851-A583-B7EC7754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511B5-3F97-4204-9008-B4FBA7F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6A242-5CBF-4084-A4CD-4309E313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E579-CE69-4818-804E-EBEAF727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28A-FB00-4AE8-89A0-50D214EA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DF63-8FB3-4F17-A31C-0D8022D3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6D14F-8513-4967-9F79-D8323748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0577F-D09E-4A1F-B9DD-2C18A3D7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957BD-31D3-4BE1-B43A-B04E98CE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4B9EC-ACA8-4008-AF3A-27F36A31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79958-48D6-4C60-927C-BE6FC132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61FFA-D0E9-40E3-B6B3-CB7A33C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BD23-6FDE-4EF8-A3CF-A7529B02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7AE53-7626-4B4B-92D1-453CF62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67AE0-2966-4461-AEDF-5797E436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7D2-5EE9-4ABE-9434-86E2A23C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CF446-FF69-4525-865E-8DAF434D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F97E7-E3BC-484B-A2E3-726C35C2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71C55-072B-4131-AAA7-D86BF831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C65-4257-4BD8-B95A-8BA2A646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C4B-40BA-4F8C-9C30-1A0B1A40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E40B-5F1D-42CB-B0AF-624D09C81B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504D-97B0-4BEB-BD36-CB1A9FCA6A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43A5-C622-48E7-8D00-855681C5FA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CB 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78C0-61A1-417A-8FD6-554DFBB0BBB9}" type="slidenum"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C168-D664-461E-8E48-EFA3F004D9F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AC8F-A236-462E-AC9A-208CA737E6B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hyfiles.org/coolimages/images/csi/hst.jpg&amp;imgrefurl=http://whyfiles.org/coolimages/index.html?id=1016725781.html&amp;h=311&amp;w=300&amp;sz=11&amp;hl=en&amp;start=7&amp;tbnid=BmWS4S5PZ__cNM:&amp;tbnh=117&amp;tbnw=113&amp;prev=/images?q=the+planet+neptune&amp;gbv=2&amp;svnum=10&amp;hl=en&amp;safe=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627280"/>
                <a:gridCol w="865080"/>
                <a:gridCol w="2880000"/>
                <a:gridCol w="2771640"/>
              </a:tblGrid>
              <a:tr h="76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Mercuri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Venus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La Tierra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Marte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Júpiter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Saturn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Uran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Neptun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Plutó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7"/>
                      </a:solidFill>
                    </a:lnL>
                    <a:lnR w="13680">
                      <a:solidFill>
                        <a:srgbClr val="fffff7"/>
                      </a:solidFill>
                    </a:lnR>
                    <a:lnT w="13680">
                      <a:solidFill>
                        <a:srgbClr val="fffff7"/>
                      </a:solidFill>
                    </a:lnT>
                    <a:lnB w="13680">
                      <a:solidFill>
                        <a:srgbClr val="fffff7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7"/>
                      </a:solidFill>
                    </a:lnL>
                    <a:lnR w="13680">
                      <a:solidFill>
                        <a:srgbClr val="fffff7"/>
                      </a:solidFill>
                    </a:lnR>
                    <a:lnT w="13680">
                      <a:solidFill>
                        <a:srgbClr val="fffff7"/>
                      </a:solidFill>
                    </a:lnT>
                    <a:lnB w="13680">
                      <a:solidFill>
                        <a:srgbClr val="fffff7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un plane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7"/>
                      </a:solidFill>
                    </a:lnL>
                    <a:lnR w="13680">
                      <a:solidFill>
                        <a:srgbClr val="fffff7"/>
                      </a:solidFill>
                    </a:lnR>
                    <a:lnT w="13680">
                      <a:solidFill>
                        <a:srgbClr val="fffff7"/>
                      </a:solidFill>
                    </a:lnT>
                    <a:lnB w="13680">
                      <a:solidFill>
                        <a:srgbClr val="fffff7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enorme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minúscul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 cal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frí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 rápid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lent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azul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roj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verde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amarill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marró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7"/>
                      </a:solidFill>
                    </a:lnL>
                    <a:lnR w="13680">
                      <a:solidFill>
                        <a:srgbClr val="fffff7"/>
                      </a:solidFill>
                    </a:lnR>
                    <a:lnT w="13680">
                      <a:solidFill>
                        <a:srgbClr val="fffff7"/>
                      </a:solidFill>
                    </a:lnT>
                    <a:lnB w="13680">
                      <a:solidFill>
                        <a:srgbClr val="fffff7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PIA02873_modest"/>
          <p:cNvPicPr/>
          <p:nvPr/>
        </p:nvPicPr>
        <p:blipFill>
          <a:blip r:embed="rId1"/>
          <a:srcRect l="19650" t="0" r="18800" b="0"/>
          <a:stretch/>
        </p:blipFill>
        <p:spPr>
          <a:xfrm>
            <a:off x="1428840" y="1000080"/>
            <a:ext cx="6143400" cy="5619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úpiter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enorm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Pluto"/>
          <p:cNvPicPr/>
          <p:nvPr/>
        </p:nvPicPr>
        <p:blipFill>
          <a:blip r:embed="rId1"/>
          <a:stretch/>
        </p:blipFill>
        <p:spPr>
          <a:xfrm>
            <a:off x="3857760" y="2928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lutón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minúsculo.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3851280" y="6308640"/>
            <a:ext cx="1297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www.nasa.gov/images/content/208455main_messenger_mercury_lg.jpg"/>
          <p:cNvPicPr/>
          <p:nvPr/>
        </p:nvPicPr>
        <p:blipFill>
          <a:blip r:embed="rId1"/>
          <a:stretch/>
        </p:blipFill>
        <p:spPr>
          <a:xfrm>
            <a:off x="2987640" y="1700280"/>
            <a:ext cx="3467160" cy="3467160"/>
          </a:xfrm>
          <a:prstGeom prst="rect">
            <a:avLst/>
          </a:prstGeom>
          <a:ln w="0">
            <a:noFill/>
          </a:ln>
        </p:spPr>
      </p:pic>
      <p:sp>
        <p:nvSpPr>
          <p:cNvPr id="252" name="Title 5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rcuri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un planeta rápid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6308640"/>
            <a:ext cx="79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tle 5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Neptun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un planeta lent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6308640"/>
            <a:ext cx="79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59" descr="h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268280"/>
            <a:ext cx="4867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énu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caliente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7" descr="venglobe"/>
          <p:cNvPicPr/>
          <p:nvPr/>
        </p:nvPicPr>
        <p:blipFill>
          <a:blip r:embed="rId1"/>
          <a:stretch/>
        </p:blipFill>
        <p:spPr>
          <a:xfrm>
            <a:off x="2355840" y="1600200"/>
            <a:ext cx="443232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ran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frío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ar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rojo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59" descr="mars"/>
          <p:cNvPicPr/>
          <p:nvPr/>
        </p:nvPicPr>
        <p:blipFill>
          <a:blip r:embed="rId1"/>
          <a:stretch/>
        </p:blipFill>
        <p:spPr>
          <a:xfrm>
            <a:off x="2843280" y="1773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La Tierra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verde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59" descr="earth2"/>
          <p:cNvPicPr/>
          <p:nvPr/>
        </p:nvPicPr>
        <p:blipFill>
          <a:blip r:embed="rId1"/>
          <a:stretch/>
        </p:blipFill>
        <p:spPr>
          <a:xfrm>
            <a:off x="2268360" y="134136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0:06Z</dcterms:modified>
  <cp:revision>343</cp:revision>
  <dc:subject/>
  <dc:title>TITLE</dc:title>
</cp:coreProperties>
</file>