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A89-D85D-4876-B58A-6F427312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FFE-69DD-4694-B108-DC27EE9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24A-332F-4D98-AB40-4BF5F42F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080-0842-453D-8F4B-99CD2E66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1F2E-E3D6-4C2C-8545-FC40DEB6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F9BA-9F31-4DA9-A5FD-7FC1843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027-8F77-4C2B-B92C-0389B357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92DB-62FB-436A-8CC3-A4B47C1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BAA3-202B-41D7-A76E-8893BB9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E070-258B-416E-99D8-FEB301C6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7C7-6A3E-461E-B80E-050C1891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690-3499-42A0-859D-99CA6AF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AE8D-5324-4691-A40C-C816282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463-91FB-4030-B345-842BD88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D04-433D-4B0A-9B84-AA0FDA9C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BBDB-5A99-413E-81D5-71E2E1DB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668B-68E0-4881-9627-B6516BFA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4408-C3CC-4F99-8DB7-AE3FB65B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A954-80E6-4AF4-9F56-D814443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3F52-A1E0-4A38-B24D-3B893DB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6026-316E-441C-A72A-CD8AA2DA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1EC2-127A-43EE-BA52-7379B595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8F4-7A00-456F-A901-BD38F79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7C6E-C5AA-421B-ADEB-5065FD5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9F17-59D1-4890-86BB-833C989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C3B6-5D86-4880-8B87-DEB091E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87C9-71B4-4EDF-87CB-657316E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6494-77C2-4936-97C8-1D73BD5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C6DD-8BE1-4BA8-8A27-875E2FD6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E07C-A7DA-423F-874F-372F1B57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B2A17-77C3-4C94-9B50-4C190F5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A238-5B3A-4996-B6D5-F5F68AB4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BD7A-7037-492A-8984-9FE0495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80D-139B-4C8D-82C6-AA35F7F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32BA-0E51-458A-AC8D-C3FD9E0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2BE7-BB36-4ACD-A91B-347AE7A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2022-C1C9-466A-A5B6-8ABCCF8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3C00-C75C-472F-BB48-92D68422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ECE3-FE53-4965-97AB-282BDB4D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ED00-BDC5-4544-A961-429DBE6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27B0-4FFE-425F-84C9-2944689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DE43-A96E-4E7F-9C12-FC7E1323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4BAD-1C04-44DC-9FAA-04117512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1366-54BE-41C6-ABA8-8A32AEBD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65B-89CD-4345-953B-FE435A82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C494-1EEA-4180-822F-4F472302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15CEA-00D7-4C91-925B-6AA2AD76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71D2C-258C-4F3D-97A8-1EA49934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9807-DDFA-4A91-B38E-72883F3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79F4-4CC9-4033-A5C8-78FDAB0E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A588-5788-46B6-B2B4-DA2DC7D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3B9D-1F54-46C9-BE24-E2A02A9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CBF7-A6D7-4C00-8379-125EBDA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806E-5168-4A2F-B0DB-F63BA3D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B7CB-90CB-4157-9456-E61BF046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5BD-C901-44FF-9532-82173DD1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B1869-FEFF-4ADF-98B3-92CCAD8A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7E05-AA1E-4B2B-AE23-FD40600C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6B5C5-1CDF-46FD-8123-68397599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5816-91A4-4663-A3C7-75DDBC2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C20B-3B02-4D82-9622-32D7765F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9B08A-0432-4CD3-8B3E-BCCA3A04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44EF-AE4B-4BD1-84F5-6C47737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3341-5707-4524-AA41-4B991704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E971B-09A4-4245-8947-E2D76DB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174B-CEAC-49FA-867C-F80DA82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72B-8B03-42C6-8994-83E0A85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A527D-DEB5-4303-9E92-153A17E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83B7-1A6F-4BE1-9D0F-EB9A6C25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4A87-8B55-43E4-8C10-5F262EE5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41F-99FE-48E6-A381-64BFAABC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980-2FA8-45F3-8BDB-855AE91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167-F2D3-4CBB-9096-1806D98F99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87F-5601-4B85-99BE-CEBE103271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E5E5-A3FF-484F-9489-C074A28B9C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CB 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85A7-1E35-4DB9-8B19-4E7B2A7D3BB2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89D-A5A1-408F-85B8-3D79BACC1E9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BD5-DD1D-4DF8-8C1A-DDEC5C89F0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27280"/>
                <a:gridCol w="865080"/>
                <a:gridCol w="2880000"/>
                <a:gridCol w="2771640"/>
              </a:tblGrid>
              <a:tr h="76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ercuri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Venus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La Tierra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arte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Júpiter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Saturn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Uran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Neptun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Plut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un plane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enorme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inúscul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 cal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frí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 rápi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lent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azul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roj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verde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amarillo</a:t>
                      </a:r>
                      <a:br>
                        <a:rPr sz="3600"/>
                      </a:br>
                      <a:r>
                        <a:rPr b="0" lang="en-GB" sz="36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marr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7"/>
                      </a:solidFill>
                    </a:lnL>
                    <a:lnR w="13680">
                      <a:solidFill>
                        <a:srgbClr val="fffff7"/>
                      </a:solidFill>
                    </a:lnR>
                    <a:lnT w="13680">
                      <a:solidFill>
                        <a:srgbClr val="fffff7"/>
                      </a:solidFill>
                    </a:lnT>
                    <a:lnB w="13680">
                      <a:solidFill>
                        <a:srgbClr val="fffff7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PIA02873_modest"/>
          <p:cNvPicPr/>
          <p:nvPr/>
        </p:nvPicPr>
        <p:blipFill>
          <a:blip r:embed="rId1"/>
          <a:srcRect l="19650" t="0" r="18800" b="0"/>
          <a:stretch/>
        </p:blipFill>
        <p:spPr>
          <a:xfrm>
            <a:off x="1428840" y="1000080"/>
            <a:ext cx="6143400" cy="5619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ú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enorm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Pluto"/>
          <p:cNvPicPr/>
          <p:nvPr/>
        </p:nvPicPr>
        <p:blipFill>
          <a:blip r:embed="rId1"/>
          <a:stretch/>
        </p:blipFill>
        <p:spPr>
          <a:xfrm>
            <a:off x="3857760" y="2928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lutón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minúsculo.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6308640"/>
            <a:ext cx="1297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www.nasa.gov/images/content/208455main_messenger_mercury_lg.jpg"/>
          <p:cNvPicPr/>
          <p:nvPr/>
        </p:nvPicPr>
        <p:blipFill>
          <a:blip r:embed="rId1"/>
          <a:stretch/>
        </p:blipFill>
        <p:spPr>
          <a:xfrm>
            <a:off x="2987640" y="170028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252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rcuri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un planeta rápid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tle 5"/>
          <p:cNvSpPr/>
          <p:nvPr/>
        </p:nvSpPr>
        <p:spPr>
          <a:xfrm>
            <a:off x="0" y="404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eptun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es un planeta lent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6308640"/>
            <a:ext cx="79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268280"/>
            <a:ext cx="4867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é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calient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7" descr="venglobe"/>
          <p:cNvPicPr/>
          <p:nvPr/>
        </p:nvPicPr>
        <p:blipFill>
          <a:blip r:embed="rId1"/>
          <a:stretch/>
        </p:blipFill>
        <p:spPr>
          <a:xfrm>
            <a:off x="2355840" y="1600200"/>
            <a:ext cx="443232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Uran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frí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ar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rojo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59" descr="mars"/>
          <p:cNvPicPr/>
          <p:nvPr/>
        </p:nvPicPr>
        <p:blipFill>
          <a:blip r:embed="rId1"/>
          <a:stretch/>
        </p:blipFill>
        <p:spPr>
          <a:xfrm>
            <a:off x="284328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La Tierr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es un planeta verde.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6237360"/>
            <a:ext cx="93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59" descr="earth2"/>
          <p:cNvPicPr/>
          <p:nvPr/>
        </p:nvPicPr>
        <p:blipFill>
          <a:blip r:embed="rId1"/>
          <a:stretch/>
        </p:blipFill>
        <p:spPr>
          <a:xfrm>
            <a:off x="2268360" y="134136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0:06Z</dcterms:modified>
  <cp:revision>343</cp:revision>
  <dc:subject/>
  <dc:title>TITLE</dc:title>
</cp:coreProperties>
</file>