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A2B-74F6-4B0A-B2DE-BC0AC7BF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9FB-E3C6-4A77-B359-821C81C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7A4-F19F-4C04-9B73-992A7E80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9E5-118D-4AE1-948D-2C268110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55D-3E75-4E45-9659-2319D5A0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FCBE-C515-4BAD-9FC2-13E4541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AF7-CDDE-4941-9816-06675644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147B-2F69-4B25-8BC6-71D8092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10D-347F-4167-999C-50785D3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6476-39EA-4ABE-820D-A270AE8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1410-AEA5-47DF-9ED5-99120C8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CBE-9064-485B-B143-FDCA670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B1D-80BE-417A-BF22-C9CC838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8A91-D9BC-43B4-A936-64319D74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D86-7BD9-4392-84C5-6A4B6C6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C98C-4894-4D98-AED6-E7A8B329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E9F4-6B95-4FF8-AE2C-C9FFE969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5A58-8747-4272-96D9-5AAB3755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F6C2-BDDE-436A-9077-B4F7FFB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162F-5DFE-4965-BE04-A12BF51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690B-A6CD-4DDA-8511-45FBC12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70F9-F0C7-41BB-B19D-14C74130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B71-6FFE-4CFA-994C-AA7D52C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A5F3-7715-4D62-871C-5B3E1EF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7424-EB63-4DAC-ABA8-C79B621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B4BA-1BFA-460E-9D2F-8AC00A9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DF9F-F584-4C84-B2EB-A676F37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DF08-655F-458F-9B83-72E9F62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F526-4F25-4D24-802B-556E2F27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A488-D32D-4658-9964-216A1E80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0E31-7250-4EA2-9B4C-E36E2C9D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1F79-6D01-43FE-AAD8-24FA2EF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BDF9-0DA6-4947-85BF-542340B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905-8A32-4EA5-9B2C-0837D4B0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4F16-F942-4CE6-B44A-B68FACCC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7B21-0F7D-4D6F-ABF6-98202EE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077D-E506-41F9-B91F-5A4C1E8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1E78-1538-4ED3-8AB2-CDE6F71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DAFC-BCE5-4872-B42B-6DA0B18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A6B0-938E-4A22-B797-8684050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DA13-7669-40F7-977B-97EA769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67AE-2143-4230-92F9-E9BDA6A1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383E-0814-4CF9-8116-A1BDDED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02E-92DE-4E34-BB08-6C5EF474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7DF-14C3-4559-8F07-D498D5DF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25B-0B09-424D-84C3-6713F0F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AB4-2E0D-4965-AB8D-5521401D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434-5E09-4E80-83CF-1CD06A00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B789-38F1-47F0-86FF-C5A79E7406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9C13-2D92-49C4-88E3-01AE5D950A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8A1-6EE2-47D4-A355-BE663501A57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7AAD-DD26-480F-B28D-EE382913392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255240" cy="48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640" y="162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Venus es un planeta calien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70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Júpiter es un planeta enorm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Neptuno es un planeta frí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501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rte es un planeta roj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748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5640" y="1628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lutón es un planeta minúscul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270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a Tierra es un planeta verd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rcurio es un planeta rápid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01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rano es un planeta lento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1:02Z</dcterms:modified>
  <cp:revision>343</cp:revision>
  <dc:subject/>
  <dc:title>TITLE</dc:title>
</cp:coreProperties>
</file>