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5D9-D3C0-40EF-BFFB-2A3BA53F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E63-D97B-497D-A76E-06240441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AC2-F1AB-460B-B471-7B503D18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4EF-47E7-4C57-A73E-B76339E5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B180-F7BF-408A-9F31-B259267A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4BC6-0F0D-4520-ADB5-4BF0987A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27A1-351C-43E8-9C46-3A26C2E6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2E55-8485-48AE-AE91-0557296B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EA5A-0058-4A24-BF4C-74F1B19E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97D9-A8AD-4699-977B-0BF22F7C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E3B3-1922-4F90-BE48-0D227420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3B8-E95F-4621-AE5B-A05CC9DE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B72D-99E8-4716-A6B0-6EB2780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7A33-E8A2-48B0-BFDF-FC8565CA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9067-7293-4A9F-9A81-48CCC58B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8395-C356-4B62-B076-131E10D5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4A3-AAF0-4F9C-8F6B-B19E5F2F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AD78E-5BD3-40EA-B802-F36577E5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A63B-8132-41C5-8D4B-366A5DEE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2BA9-203A-4E6F-A0E2-422B2D63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36CD-0465-41FB-9AFA-D6C870C2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30C8-16C1-4155-8514-C00ED193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E1F-4091-4928-8877-7E3E3331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E189-467A-4C5B-A116-6F64826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DBD6-BCC2-48D2-AAB5-11006C7E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7E85-47E9-4EB2-AC55-E5557F1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56A0-DB35-4F74-9A45-E17B438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17435-C477-462A-B888-73BEAFA2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710B-B092-4A31-A576-C469D51E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E2E5-2A57-47B7-BE60-6903E93D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20D4-27C6-46F7-94AF-34E57BBB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2C81-5D4E-435A-B3BE-A6F5290B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3132-C81D-4573-ACE3-A090234F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CA2-2FA9-4771-8087-A3F49E0C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7174-EA5A-4A8B-B574-0D9A7A14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D6243-9EE3-48D9-8D2C-59F4F368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62AB-043E-495C-909C-9FB243D7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EE38-EA5C-4CC5-A2F8-48412A9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FC0B-2DA7-48E2-B71C-BB0C92A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8E31-12C9-4809-8EB9-FE4E99F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82D8-AD8A-43B5-8B69-5894010C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1E21-6606-4208-9BBB-36DC7BE1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10BB-4B1B-4FAF-803A-D90F6A44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1AA-EE41-4374-B4B8-3A004A7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D69-9109-462A-BF6A-5536791A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D5E-F187-483D-9CDD-AADFF8F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0C1-FDF0-4A29-BD70-DCB662D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BA3-929D-4701-8367-B8CEB175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E9DB-F455-4BB0-90F4-80E9712B0A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2FC4-4D6A-4198-8820-ECF7517EA5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B54F-35C4-496F-A329-202FA13CF75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EF4E-9644-4AD4-B811-541833E4A90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255240" cy="481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5640" y="1628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Venus es un planeta calient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2708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Júpiter es un planeta enorm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3860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Neptuno es un planeta frí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501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arte es un planeta roj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4748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55640" y="1628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Plutón es un planeta minúscul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2708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a Tierra es un planeta verd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3860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rcurio es un planeta rápid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501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Urano es un planeta lent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1:02Z</dcterms:modified>
  <cp:revision>343</cp:revision>
  <dc:subject/>
  <dc:title>TITLE</dc:title>
</cp:coreProperties>
</file>