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3FA-CABE-4079-9774-D3D49E99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538-CE07-4A77-8063-F5CF380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5E3-02D3-423D-A006-8BCFFAFC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1DE-0996-4F1A-B718-B2FF8B63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CD6-47FE-4B3E-9341-FDF49EE6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412-1863-4C8D-8A42-40FC4741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C58-8BE3-473B-9A5F-5F7FFFA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BBE8-D457-44EA-808F-3A6A692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112-729C-4A7E-8DEE-760E8C12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E73E-19CD-4179-AB36-4B4D3D6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461D-C095-4A7C-87FF-78786B1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95B-D265-4C58-96E0-5F3B23BA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116-255B-42F6-B75A-B09F50E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57A-9393-43CC-8F01-D78798C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30F-7E2B-47C0-BD0E-2DA9B85C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12D-19C9-42E5-8202-976AFDBB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649D-C6F0-44BE-8B62-AF8378BC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66F5-42DD-4959-B92B-7C3A1FEA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1ED2-1D01-4AB3-B603-B13D6B0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41C3-133A-4C5F-82B0-4F17950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9A0D-AA8D-4B95-9BEF-C7D1D0F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F049-E033-47FE-98C2-283C29B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2A3-F3C5-4E50-ABC1-B482A33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6A91-8B18-4AC1-82D2-C5C18FDD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FDDE-3020-4575-B635-EE990A7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2B60-CC2F-483A-8661-63C4098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039A-D30C-4B3A-B28B-834D989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7791-9617-4304-AEA1-7EBBABE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F659-DAE9-4B14-B6EE-B4B98EF1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1BEE-7DD3-445D-84C1-80592F22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2E67F-FD6E-4534-A85F-5208CD1C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0990-B851-4E71-BF4F-970F681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2908-FB63-4739-BDF9-59F7C036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66B-471A-4C4F-ADBF-D482D51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37A4-DEA1-428B-B789-9A179F8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D4B0-A21B-4A40-8E4A-9A71A89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C5A0-D530-489D-97CD-185D0218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37D1-A637-4931-8F7C-944F889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2A6B-D2E7-4726-868F-77DB673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80DC-C5CF-46DA-8998-5BA0FD6A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A0B9-4443-44B2-9C83-7464A0D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9964-EB8F-4F66-9C3C-A4C81990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9EF3-2F9B-4BC5-8392-BF818BF7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AB2-4EEB-4655-8243-7DE123E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A0C-559E-4315-A2BE-68CE018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EAC-DFBC-4F1E-BD82-6F0DFFE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0B3-47EE-4EA3-B3B5-627A205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7CA-2862-41AD-AFC2-AC487AB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0EB-D95A-404F-A20A-D98C7F47A6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D95-F27B-4ECE-9084-CC644B83C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33E1-4CF6-488C-8C64-12729E8166A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FEF-B8E0-41BA-B764-904A2980F0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8026" t="7937" r="3973" b="8026"/>
          <a:stretch/>
        </p:blipFill>
        <p:spPr>
          <a:xfrm>
            <a:off x="3419640" y="2637000"/>
            <a:ext cx="1441440" cy="1376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3271" t="8251" r="0" b="9162"/>
          <a:stretch/>
        </p:blipFill>
        <p:spPr>
          <a:xfrm>
            <a:off x="4500720" y="393372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-2232000" y="-1900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7938200">
            <a:off x="-393840" y="402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908000" y="909720"/>
            <a:ext cx="247680" cy="24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24000" y="76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rcuri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rcRect l="2368" t="7813" r="3154" b="5935"/>
          <a:stretch/>
        </p:blipFill>
        <p:spPr>
          <a:xfrm>
            <a:off x="2413080" y="1341360"/>
            <a:ext cx="287280" cy="262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0360" y="119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e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2627280" y="177156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8764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ierr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3059280" y="2274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19640" y="220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r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7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úpi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atur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5508720" y="479736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64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ra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rcRect l="15517" t="14716" r="14631" b="13320"/>
          <a:stretch/>
        </p:blipFill>
        <p:spPr>
          <a:xfrm>
            <a:off x="6300720" y="5516640"/>
            <a:ext cx="419040" cy="431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73272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ptu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7093080" y="6165720"/>
            <a:ext cx="309600" cy="231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451640" y="6021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utó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cerca d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09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lejos d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1268280"/>
            <a:ext cx="33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muy (ver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bastante (quit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1:31Z</dcterms:modified>
  <cp:revision>348</cp:revision>
  <dc:subject/>
  <dc:title>TITLE</dc:title>
</cp:coreProperties>
</file>