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DCE-886F-444D-B13C-AB06E72F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9346-DA49-48D1-9D49-49B690E3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C1D-3189-4736-880C-76F45174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3B80-A5B5-411F-ADCB-F6ABEF2B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430F-A9FD-42EF-9665-6D445C31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85E9-C153-4A19-AAF8-12A291FE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DA9C-0C9A-4328-8CAC-85E7ACE6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1E25-3B3B-4F25-8610-9CF70756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A92D-1108-49D8-A675-09456415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E6B9-7E0C-4205-93DB-BB7965BB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BB27-1910-4CB6-854E-76236B93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C04-56F6-4EA3-AB09-D422DFA9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0E88-EBF1-4E81-BA00-03AAC07B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BE97-F150-4033-A41D-0289D1F2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196A-7E0C-4B5C-A894-1DE7F5D7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8AA1-6A48-4D23-8C8C-73202A6B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5E99-4412-40ED-8D57-2FB4920A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5A3E8-7D0E-4827-A5F3-60743DE8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066CA-400B-4C6D-8742-1BBF1577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A2FA9-36DC-4F4F-A94C-257A6D7D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D48EF-784B-491C-905D-698D79EE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A1DC0-E1F4-45A7-ADB3-5F150E0E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8BB-8C79-41BD-8BED-E76008E5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6F4ED-81AB-40EC-B27A-9E57909C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F6C9F-FEFF-4483-83E4-788FCBC2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44FD0-E029-46EE-82CA-8E29F3FC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E6B7E-96EE-4DC6-ADF7-06A61AAE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CD98F-F556-4BE3-8748-F144C833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FD17D-1870-4B94-845A-27022B5C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81455-1A1F-4050-AB39-6F45324D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BF0AD-22A1-4910-A8B5-72CAD514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2249B-F481-4853-AB4E-20608641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A682E-7073-4897-B175-03015DB2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C2A7-9AF6-4EAB-9954-1C0543A8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8DC01-6C9C-43F9-B888-D92C362D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88701-FF18-4DEA-B75F-47C92C7D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FB1FE-7ACC-48A9-BDDC-96B95F5D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E1684-2F0D-4FAA-922A-F3651CAF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20C4F-FDF8-410C-80E1-4A200260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1C546-D901-4B1E-9741-582A0C07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B658B-72BD-4D1F-8E31-9624646E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E46E8-31DE-4504-9E6B-5FF603D8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79B64-F1AF-4369-88F3-51ED5C44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C243-F967-4830-9A26-92F55533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D3D-C941-4109-8BED-907C8A74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A44-332A-46EE-87B2-6805C026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2846-4A91-4042-A248-F5983D9D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F737-49C9-42D0-9D4E-FBADEB7B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ACD6-B466-4651-B29D-5397738E3D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6E86-4B63-4217-AA6C-F7CD94813F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BDB8-5639-4406-94DA-96DDAE259D5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20EA-5EFA-443F-886E-A1179AE05F5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8026" t="7937" r="3973" b="8026"/>
          <a:stretch/>
        </p:blipFill>
        <p:spPr>
          <a:xfrm>
            <a:off x="3419640" y="2637000"/>
            <a:ext cx="1441440" cy="1376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3271" t="8251" r="0" b="9162"/>
          <a:stretch/>
        </p:blipFill>
        <p:spPr>
          <a:xfrm>
            <a:off x="4500720" y="3933720"/>
            <a:ext cx="1152360" cy="779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-2232000" y="-1900080"/>
            <a:ext cx="4464000" cy="4464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rot="17938200">
            <a:off x="-393840" y="4021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l So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1908000" y="909720"/>
            <a:ext cx="247680" cy="245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124000" y="765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ercuri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5"/>
          <a:srcRect l="2368" t="7813" r="3154" b="5935"/>
          <a:stretch/>
        </p:blipFill>
        <p:spPr>
          <a:xfrm>
            <a:off x="2413080" y="1341360"/>
            <a:ext cx="287280" cy="262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700360" y="1197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Venu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2627280" y="1771560"/>
            <a:ext cx="338040" cy="338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987640" y="17002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 Tierr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3059280" y="22748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19640" y="2205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ar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2997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úpite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5580000" y="4076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aturn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5508720" y="4797360"/>
            <a:ext cx="755640" cy="566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264360" y="479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ran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9"/>
          <a:srcRect l="15517" t="14716" r="14631" b="13320"/>
          <a:stretch/>
        </p:blipFill>
        <p:spPr>
          <a:xfrm>
            <a:off x="6300720" y="5516640"/>
            <a:ext cx="419040" cy="431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732720" y="5445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eptun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0"/>
          <a:stretch/>
        </p:blipFill>
        <p:spPr>
          <a:xfrm>
            <a:off x="7093080" y="6165720"/>
            <a:ext cx="309600" cy="2318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451640" y="6021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lutó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2771640" y="189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Comic Sans MS"/>
              </a:rPr>
              <a:t>cerca del So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6093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Comic Sans MS"/>
              </a:rPr>
              <a:t>lejos del So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1268280"/>
            <a:ext cx="334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Comic Sans MS"/>
              </a:rPr>
              <a:t>muy (very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Comic Sans MS"/>
              </a:rPr>
              <a:t>bastante (quite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3-07-02T10:41:31Z</dcterms:modified>
  <cp:revision>348</cp:revision>
  <dc:subject/>
  <dc:title>TITLE</dc:title>
</cp:coreProperties>
</file>